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0BA-5D2C-4185-977A-E60FDD35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C0E-9A64-4297-A05D-C07652E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E7D-1A4D-4F83-B02F-1519BDE1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087-7086-48AC-B09B-9A1DD249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9B33-335F-42AE-8AF2-76C0CA83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F04-4382-4D9D-9270-2D0A030D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EF5-72FA-46DC-A47F-7AD018A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61E-E8B4-40F7-892E-7DB0D7D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2AC-1F4F-4DCE-A318-09A1136A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ABB-1F48-4684-81A4-5DC1931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F5A-C9AE-44A6-9B20-770AA486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A7D-D49C-4CEB-85E9-289A02A2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443-88A3-4F19-BB32-C76B93B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72E-5D71-446C-8D70-0B96A235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971-E454-4BBE-93E9-B39087D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85F-C34D-44B1-A124-1B7D8DCE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CF48-4438-40D4-B2BD-E8FB0619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50B-2EDB-4924-B966-9E5907B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9D5-E678-4605-9A98-C4F846F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80E-DF77-42D9-B463-AC9428E9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8EF-24A5-494D-ACFA-ABE1174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E3A-67D4-46B5-BBDA-ACDCC8E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FC4-7863-41CC-8F81-5BF715A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430-94EC-4CDC-860A-024C23E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3EA0-3D39-4132-9590-2B2C710DD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61EB-E759-4EBE-8E04-369AADF6D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LE Automation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84480" y="260280"/>
            <a:ext cx="4259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Excel Object Model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210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72360" y="189000"/>
            <a:ext cx="245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Aa141143.outlook(en-us,office.10).gif"/>
          <p:cNvPicPr/>
          <p:nvPr/>
        </p:nvPicPr>
        <p:blipFill>
          <a:blip r:embed="rId1"/>
          <a:stretch/>
        </p:blipFill>
        <p:spPr>
          <a:xfrm>
            <a:off x="324000" y="549360"/>
            <a:ext cx="5502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c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060640"/>
            <a:ext cx="82803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xcel.Application xlApp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xcel.Workbook xlWorkBook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xcel.Worksheet xlWorkSheet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bject misValue = System.Reflection.Missing.Val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App = new Excel.ApplicationClass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WorkBook = xlApp.Workbooks.Add(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WorkSheet = (Excel.Worksheet)xlWorkBook.Worksheets.get_Item(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WorkSheet.Cells[1, 1] = "http://csharp.net-informations.com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WorkBook.SaveAs("csharp-Excel.xls", Excel.XlFileFormat.xlWorkbookNormal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isValue, misValue, misValue, misValue, Excel.XlSaveAsAccessMode.xlExclusiv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isValue, misValue, misVal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WorkBook.Close(tr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lApp.Quit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leaseObject(xlWorkSheet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leaseObject(xlWorkBook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leaseObject(xlApp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essageBox.Show("Excel file created , you can find the file c:\\csharp-Excel.xls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8520" y="141300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ъздаван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на фай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форматиране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83534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Application xlApp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Workbook xlWorkBook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Worksheet xlWorkSheet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misValue = System.Reflection.Missing.Val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Range chartRange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App = new Excel.ApplicationClass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 = xlApp.Workbooks.Add(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 = (Excel.Worksheet)xlWorkBook.Worksheets.get_Item(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add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4, 2] = "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4, 3] = "Student1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4, 4] = "Student2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4, 5] = "Student3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5, 2] = "Term1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5, 3] = "80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5, 4] = "65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5, 5] = "45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6, 2] = "Term2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6, 3] = "78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6, 4] = "72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6, 5] = "60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6678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………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get_Range("b2", "e3").Merge(fals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 = xlWorkSheet.get_Range("b2", "e3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FormulaR1C1 = "MARK LIST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HorizontalAlignment = 3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VerticalAlignment = 3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 = xlWorkSheet.get_Range("b4", "e4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Font.Bold = tr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 = xlWorkSheet.get_Range("b9", "e9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Font.Bold = tr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 = xlWorkSheet.get_Range("b2", "e9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Range.BorderAround(Excel.XlLineStyle.xlContinuous, Excel.XlBorderWe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Medium, Excel.XlColorIndex.xlColorIndexAutomatic, Exc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ColorIndex.xlColorIndexAutomatic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.SaveAs("csharp.net-informations.xls", Excel.XlFileForm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Normal, misValue, misValue, misValue, misValue, Excel.XlSaveAsAccessMo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Exclusive, misValue, misValue, misVal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.Close(tr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App.Quit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41920" y="0"/>
            <a:ext cx="44020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99"/>
                </a:solidFill>
                <a:latin typeface="Verdana"/>
              </a:rPr>
              <a:t>Вмъкване на изображение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6912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Application xlApp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Workbook xlWorkBook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.Worksheet xlWorkSheet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misValue = System.Reflection.Missing.Val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App = new Excel.ApplicationClass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 = xlApp.Workbooks.Add(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 = (Excel.Worksheet)xlWorkBook.Worksheets.get_Item(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add some tex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1, 1] = "http://csharp.net-informations.com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Cells[2, 1] = "Adding picture in Excel File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Sheet.Shapes.AddPicture("</a:t>
            </a: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C:\\csharp-xl-picture.J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, Microsoft.Off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e.MsoTriState.msoFalse, Microsoft.Office.Core.MsoTriState.msoCTrue, 50, 50, 300, 45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.SaveAs("csharp.net-informations.xls", Excel.XlFileForm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Normal, misValue, misValue, misValue, misValue, Excel.XlSaveAsAccessMo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Exclusive, misValue, misValue, misVal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WorkBook.Close(true, misValue, misValu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lApp.Quit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easeObject(xlApp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easeObject(xlWorkBook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easeObject(xlWorkSheet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Box.Show ("File created !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19280" y="333360"/>
            <a:ext cx="346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Създаване на графика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49360"/>
            <a:ext cx="4681440" cy="56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Application xlApp 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Workbook xlWorkBook 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Worksheet xlWorkSheet 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bject misValue = System.Reflection.Missing.Valu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App = new Excel.ApplicationClass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Book = xlApp.Workbooks.Add(misValu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 = (Excel.Worksheet)xlWorkBook.Worksheets.get_Item(1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add da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1, 1] = "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1, 2] = "Student1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1, 3] = "Student2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1, 4] = "Student3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2, 1] = "Term1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2, 2] = "80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2, 3] = "65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2, 4] = "45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3, 1] = "Term2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3, 2] = "78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3, 3] = "72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3, 4] = "60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4, 1] = "Term3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4, 2] = "82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4, 3] = "80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4, 4] = "65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5, 1] = "Term4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5, 2] = "75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5, 3] = "82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Sheet.Cells[5, 4] = "68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492280"/>
            <a:ext cx="4572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Range chartRange 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ChartObjects xlCharts = (Excel.ChartObjects)xlWorkSheet.ChartObjects(Type.Missing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ChartObject myChart = (Excel.ChartObject)xlCharts.Add(10, 80, 300, 250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el.Chart chartPage = myChart.Char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artRange = xlWorkSheet.get_Range("A1", "d5"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artPage.SetSourceData(chartRange, misValu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artPage.ChartType = Excel.XlChartType.xlColumnClustered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Book.SaveAs("csharp.net-informations.xls", Excel.XlFileForma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bookNormal, misValue, misValue, misValue, misValue, Excel.XlSaveAsAccessMod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Exclusive, misValue, misValue, misValue, misValue, misValu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WorkBook.Close(true, misValue, misValu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lApp.Quit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leaseObject(xlWorkShee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leaseObject(xlWorkBook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leaseObject(xlApp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ssageBox.Show("Excel file created , you can find the file c:\\csharp.net-informations.xls"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M &amp;  Ole Auto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LE  DB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5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Пример за използване на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LE DB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54000"/>
            <a:ext cx="867564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Syst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System.D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System.Data.OleDb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System.Xml.Serializat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class MainClass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tatic void Main 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 Set Access connection and select str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 The path to BugTypes.MDB must be changed if you buil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 the sample from the command lin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if USINGPROJECT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ng strAccessConn = "Provider=Microsoft.Jet.OLEDB.4.0;Data Source=..\\..\\BugTypes.MDB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ng strAccessConn = "Provider=Microsoft.Jet.OLEDB.4.0;Data Source=BugTypes.MDB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end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ng strAccessSelect = "SELECT * FROM Categories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/ Create the dataset and add the Categories table to 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Set myDataSet = new DataSet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eDbConnection myAccessConn = nul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AccessConn = new OleDbConnection(strAccessConn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ch(Exception e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ole.WriteLine("Error: Failed to create a database connection. \n{0}", ex.Messag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97000"/>
            <a:ext cx="864072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leDbCommand myAccessCommand = new OleDbCommand(strAccessSelect,myAccessConn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leDbDataAdapter myDataAdapter = new OleDbDataAdapter(myAccessCommand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yAccessConn.Open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yDataAdapter.Fill(myDataSet,"Categories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tch (Exception e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sole.WriteLine("Error: Failed to retrieve the required data from the DataBase.\n{0}", ex.Messag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tur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yAccessConn.Clos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// A dataset can contain multiple tables, so let's get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// all into an arr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ataTableCollection dta = myDataSet.Table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reach (DataTable dt in d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sole.WriteLine("Found data table {0}", dt.TableNam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620640"/>
            <a:ext cx="82072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The next two lines show two different ways you can get t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count of tables in a dataset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{0} tables in data set", myDataSet.Tables.Coun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{0} tables in data set", dta.Coun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The next several lines show how to get information 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a specific table by name from the dataset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{0} rows in Categories table", myDataSet.Tables["Categories"].Rows.Coun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The column info is automatically fetched from the database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so we can read it her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{0} columns in Categories table", myDataSet.Tables["Categories"].Columns.Count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ColumnCollection drc = myDataSet.Tables["Categories"].Column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 i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each (DataColumn dc in drc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Print the column subscript, then the column's na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and its data typ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Column name[{0}] is {1}, of type {2}",i++ , dc.ColumnName, dc.DataType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RowCollection dra = myDataSet.Tables["Categories"].Row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each (DataRow dr in d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/ Print the CategoryID as a subscript, then the CategoryNam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ole.WriteLine("CategoryName[{0}] is {1}", dr[0], dr[1]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LE  &amp; Of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ord Object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Word Object Model graphic"/>
          <p:cNvPicPr/>
          <p:nvPr/>
        </p:nvPicPr>
        <p:blipFill>
          <a:blip r:embed="rId1"/>
          <a:stretch/>
        </p:blipFill>
        <p:spPr>
          <a:xfrm>
            <a:off x="324000" y="1268280"/>
            <a:ext cx="2444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Пример -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7800" y="1239840"/>
            <a:ext cx="18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lace  - Delph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97920" y="1557360"/>
            <a:ext cx="4441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r WordApp:Olevaria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DocFileName:String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:Varia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nt,i:intege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DocFileName:=Edit4.tex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 := CreateOLEObject('Word.Application'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Documents.Open(yourDocFileName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Selection.Find.ClearFormatting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Selection.Find.Text :='#pNAME#'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Selection.Find.Replacement.Text :=Edit1.Tex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Selection.Find.Execute(Replace := wdReplaceAl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ActiveDocument.SaveAs(Edit5.Text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ActiveDocument.Clo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Documents.Open(Edit5.Text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App.Visible := Tr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b2b2b2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Word - Macro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m myStoryRange As R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myStoryRange In ActiveDocument.StoryRa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myStoryRange.Fi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Text = "#pNAme#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Replacement.Text = "Petur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Wrap = wdFindContin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Execute Replace:=wdReplace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Wi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While Not (myStoryRange.NextStoryRange Is Noth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myStoryRange = myStoryRange.NextStoryR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myStoryRange.Fi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Text = "Edit2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Replacement.Text = "Lisabon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Wrap = wdFindContin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Execute Replace:=wdReplace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Wi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 myStoryR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560" y="136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28:00Z</dcterms:created>
  <dc:creator>fallen angel</dc:creator>
  <dc:description/>
  <dc:language>en-US</dc:language>
  <cp:lastModifiedBy>fallen angel</cp:lastModifiedBy>
  <dcterms:modified xsi:type="dcterms:W3CDTF">2010-03-11T06:45:54Z</dcterms:modified>
  <cp:revision>8</cp:revision>
  <dc:subject/>
  <dc:title>Slide 1</dc:title>
</cp:coreProperties>
</file>