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8A2-38CE-4309-BE11-CE8C5A43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96C-478F-4A57-BF18-08DE2712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527-2900-427D-8A3E-DEBAFCDC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FE2-FEF5-4825-8183-62370C8C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558-D558-4BD1-9BF6-9CAA296A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B25-4E11-4C8B-AC2B-7A675AD8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2AB-8068-4B7C-AA14-9EF06C59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6CB-99D1-4A6D-8BED-75B7F823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0C8-EA83-4AA3-A638-3AF6B22D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340-1E1F-464B-A9F0-067C359D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469-FBD5-46A4-AB9E-26C50693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151-E599-487B-BE82-20AE03BA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61C9-4FC7-40D9-9679-3FC1ADBDE5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82072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66ccff"/>
                </a:solidFill>
                <a:latin typeface="Arial"/>
              </a:rPr>
              <a:t>OLE Automation</a:t>
            </a:r>
            <a:br>
              <a:rPr sz="16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цел :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Да имаме достъп до функционалност на приложение от скриптов език (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isua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asic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Java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crip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 т.н.) Скриптовите езици не поддържа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M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технология 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M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нтерфейси ,  виртуални таблици (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table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 и интерфейси.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ървъри са 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Exce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Microsof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Wor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ffic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пакет,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owerPoin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Основни понятия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COM обектът казваме,че  експонира интерфейси и методи.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обектът експонира 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методи и свойства 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pertie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. Скрипт език може да ги използва, все едно са негови (спомненте си, че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M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обектът не дава достъп до променливи). 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crip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езиците с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поддръжка притежава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ru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tim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cripting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machin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asic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например), посредник между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crip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нтерпретатора 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ървъра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isua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++ има обвиващи класове и прави лесен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hosting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 (лесно вграждането) 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ървърен обект, както ще покажем в края на темата.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Базов интерфейс  е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Dispatch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Чрез него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сървъра експонира сво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ropertie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 (данни за настройка – напр. цвят на фон, шрифт и т.н.) и методи. Клиентските програми се нарича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 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контролери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: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 u="sng">
                <a:solidFill>
                  <a:srgbClr val="e3ebf1"/>
                </a:solidFill>
                <a:uFillTx/>
                <a:latin typeface="Arial"/>
              </a:rPr>
              <a:t>Защо изобщо е необходим механизма с </a:t>
            </a:r>
            <a:r>
              <a:rPr b="1" i="1" lang="en-US" sz="1600" spc="-1" strike="noStrike" u="sng">
                <a:solidFill>
                  <a:srgbClr val="e3ebf1"/>
                </a:solidFill>
                <a:uFillTx/>
                <a:latin typeface="Arial"/>
              </a:rPr>
              <a:t>IDispatch</a:t>
            </a:r>
            <a:r>
              <a:rPr b="1" i="1" lang="bg-BG" sz="1600" spc="-1" strike="noStrike" u="sng">
                <a:solidFill>
                  <a:srgbClr val="e3ebf1"/>
                </a:solidFill>
                <a:uFillTx/>
                <a:latin typeface="Arial"/>
              </a:rPr>
              <a:t> , а не конвенционалния с интерфейсите. Обяснението е следното:</a:t>
            </a:r>
            <a:br>
              <a:rPr sz="16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криптовите и интерпретаторните езици не поддържат работа с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table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 интерфейси. Следователно и с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M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нтерфейсите. 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++ прави това като разчита интерфейсните дефиниции в заглавния файл, описващ обекта ( файл с разширение .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d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. Това обаче не могат скриптовите езици. Те се нуждаят от механизъм, прехвърлящ преобразуването на име  на метод към указател, сочещ функцията , която го реализира.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Този механизъм се базира на универсален интерфейс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Dispatc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 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Следователно преобразуванията име </a:t>
            </a:r>
            <a:r>
              <a:rPr b="1" lang="en-US" sz="14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указател в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COM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се извършват от викащия, през виртуални метод таблици, инстанциирани по време на компилация, докато при автоматизацията </a:t>
            </a:r>
            <a:r>
              <a:rPr b="1" lang="en-US" sz="14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през индексни таблици в самия обект в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run-time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. 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Това е тъй наречения метод на късно свързване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te</a:t>
            </a:r>
            <a:r>
              <a:rPr b="1" lang="bg-BG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inding</a:t>
            </a:r>
            <a:r>
              <a:rPr b="1" lang="bg-BG" sz="2000" spc="-1" strike="noStrike" u="sng">
                <a:solidFill>
                  <a:srgbClr val="ff0000"/>
                </a:solidFill>
                <a:uFillTx/>
                <a:latin typeface="Arial"/>
              </a:rPr>
              <a:t> механизъм).</a:t>
            </a:r>
            <a:endParaRPr b="0" lang="en-US" sz="2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24280" y="5257800"/>
            <a:ext cx="533520" cy="106668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ff00"/>
                </a:solidFill>
                <a:latin typeface="Arial"/>
              </a:rPr>
              <a:t>Късно свързване се поддържа от скриптовите и интерпретируемите езици.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Например въ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isua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asic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 повиквания з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Dispatc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ма неявно винаги, когато променлива се декларира от тип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bjec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: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Dim myobj as Object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set myobj = CreateObject(TV.Remote”)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myobj. interface_method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ъщото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SP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тава , когато се използв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M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обектъ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erver: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Dim myobj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set myobj = Server.Create(“TV.Remote”)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myobj.interface_method</a:t>
            </a:r>
            <a:br>
              <a:rPr sz="1400"/>
            </a:br>
            <a:br>
              <a:rPr sz="1400"/>
            </a:br>
            <a:r>
              <a:rPr b="1" i="1" lang="bg-BG" sz="1400" spc="-1" strike="noStrike" u="sng">
                <a:solidFill>
                  <a:srgbClr val="e3ebf1"/>
                </a:solidFill>
                <a:uFillTx/>
                <a:latin typeface="Arial"/>
              </a:rPr>
              <a:t>Забележка:</a:t>
            </a:r>
            <a:br>
              <a:rPr sz="1400"/>
            </a:br>
            <a:r>
              <a:rPr b="1" i="1" lang="bg-BG" sz="1400" spc="-1" strike="noStrike">
                <a:solidFill>
                  <a:srgbClr val="e3ebf1"/>
                </a:solidFill>
                <a:latin typeface="Arial"/>
              </a:rPr>
              <a:t>В този механизъм </a:t>
            </a:r>
            <a:r>
              <a:rPr b="1" i="1" lang="bg-BG" sz="1400" spc="-1" strike="noStrike">
                <a:solidFill>
                  <a:srgbClr val="ff0000"/>
                </a:solidFill>
                <a:latin typeface="Arial"/>
              </a:rPr>
              <a:t>не  се използва файл, наречен  </a:t>
            </a:r>
            <a:r>
              <a:rPr b="1" i="1" lang="bg-BG" sz="1400" spc="-1" strike="noStrike" u="sng">
                <a:solidFill>
                  <a:srgbClr val="ff0000"/>
                </a:solidFill>
                <a:uFillTx/>
                <a:latin typeface="Arial"/>
              </a:rPr>
              <a:t>типова библиотека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 (.tlb,</a:t>
            </a:r>
            <a:r>
              <a:rPr b="1" i="1" lang="bg-BG" sz="1400" spc="-1" strike="noStrike" u="sng">
                <a:solidFill>
                  <a:srgbClr val="ff0000"/>
                </a:solidFill>
                <a:uFillTx/>
                <a:latin typeface="Arial"/>
              </a:rPr>
              <a:t>или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 .odl)</a:t>
            </a:r>
            <a:r>
              <a:rPr b="1" i="1" lang="bg-BG" sz="1400" spc="-1" strike="noStrike">
                <a:solidFill>
                  <a:srgbClr val="e3ebf1"/>
                </a:solidFill>
                <a:latin typeface="Arial"/>
              </a:rPr>
              <a:t> . В него са описани всички интерфейси, методи и пропъртита на СОМ обекта, както и параметрите на повикване на всеки метод.  Типовата библиотека е регистрирана в регистъра, така че клиентът черпи информация от нея за СОМ обекта. </a:t>
            </a:r>
            <a:br>
              <a:rPr sz="1400"/>
            </a:br>
            <a:br>
              <a:rPr sz="1400"/>
            </a:b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Типова библиотека се създава с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COM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API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 функции, или от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IDL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 файл. Компилаторът от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MIDL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 (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Microsoft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Interface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Definition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Language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), който е час от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VC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++ пакета,  чете такъв файл и при компилация изработва типова библиотека. 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VISUAL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C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++ създава файл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ODL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 към проекта при указание за създаване на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Automation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 сървър и там описва обекта и интефейсите му. Помощна програма </a:t>
            </a:r>
            <a:r>
              <a:rPr b="1" i="1" lang="en-US" sz="1400" spc="-1" strike="noStrike">
                <a:solidFill>
                  <a:srgbClr val="f0e500"/>
                </a:solidFill>
                <a:latin typeface="Arial"/>
              </a:rPr>
              <a:t>MTypeLib</a:t>
            </a:r>
            <a:r>
              <a:rPr b="1" i="1" lang="bg-BG" sz="1400" spc="-1" strike="noStrike">
                <a:solidFill>
                  <a:srgbClr val="f0e500"/>
                </a:solidFill>
                <a:latin typeface="Arial"/>
              </a:rPr>
              <a:t> компилира този файл и генерира типова библиотека</a:t>
            </a:r>
            <a:r>
              <a:rPr b="1" i="1" lang="bg-BG" sz="1400" spc="-1" strike="noStrike">
                <a:solidFill>
                  <a:srgbClr val="e3ebf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Другият метод на свързване е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ранното свързване (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early</a:t>
            </a:r>
            <a:r>
              <a:rPr b="1" lang="bg-BG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binding</a:t>
            </a:r>
            <a:r>
              <a:rPr b="1" lang="bg-BG" sz="16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– типичен за С++. Там преобразуванията за достигане до указател за метод  (работи се с интерфейси) се изпълняват по време на компилация.</a:t>
            </a:r>
            <a:br>
              <a:rPr sz="1600"/>
            </a:b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Работи се с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-tables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.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Обектът може да не поддържа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IDispatch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,  а само интерфейси. </a:t>
            </a:r>
            <a:br>
              <a:rPr sz="1600"/>
            </a:b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Ако има и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IDispatch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, то следователно имаме 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двоен интерфейс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(в един интерфейс има и методи на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IUnknown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и на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IDispatch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+ специфичните му методи). Не се създава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DISPID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за достъп до методи и свойства, а се работи с виртуални таблици. Може да се работи и с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IDispatch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и  ако са нужни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DISPID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, се работи с информацията от типовата библиотека. Обекти с двойни интерфейси поддържат ранно и късно свързване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В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MFC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 такива интерфейси се създават трудно. Препоръчва се използването на алтернативната класова йерария АТ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L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ctive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emplate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Library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Има и трети начин на свързване (междинен) </a:t>
            </a:r>
            <a:r>
              <a:rPr b="1" lang="bg-BG" sz="1600" spc="-1" strike="noStrike" u="sng">
                <a:solidFill>
                  <a:srgbClr val="e3ebf1"/>
                </a:solidFill>
                <a:uFillTx/>
                <a:latin typeface="Arial"/>
              </a:rPr>
              <a:t>– </a:t>
            </a:r>
            <a:r>
              <a:rPr b="1" i="1" lang="en-US" sz="1600" spc="-1" strike="noStrike" u="sng">
                <a:solidFill>
                  <a:srgbClr val="00ff00"/>
                </a:solidFill>
                <a:uFillTx/>
                <a:latin typeface="Arial"/>
              </a:rPr>
              <a:t>ID</a:t>
            </a:r>
            <a:r>
              <a:rPr b="1" i="1" lang="bg-BG" sz="1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00ff00"/>
                </a:solidFill>
                <a:uFillTx/>
                <a:latin typeface="Arial"/>
              </a:rPr>
              <a:t>binding</a:t>
            </a:r>
            <a:r>
              <a:rPr b="1" i="1" lang="bg-BG" sz="1600" spc="-1" strike="noStrike" u="sng">
                <a:solidFill>
                  <a:srgbClr val="00ff00"/>
                </a:solidFill>
                <a:uFillTx/>
                <a:latin typeface="Arial"/>
              </a:rPr>
              <a:t>: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Всички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DISPID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към свойства и методи могат да се получат от типовата библиотека с която се свързваме  в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compil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tim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.Следователно  не е нужно повикване на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GetIDsOfNames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() за всяко повикване. Имаме само 1 повикване на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GetIDsOfNames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(), както в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early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binding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за изработване на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CLSID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за свързване с обекта (всъщност с типовата му библиотека) в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compil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tim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Invok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() повикванията са в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run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tim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и изискват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GetIDsOfNames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() обръщения, но от типовата библиотека. 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Методът е поне 2 пъти по-бърз от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lat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binding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95280" y="4572000"/>
            <a:ext cx="60984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4581360"/>
            <a:ext cx="1655640" cy="1440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9636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Разликите между ранното и късното свързване могат да се пояснят в следния пример: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Нека имаме прост обект именован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eepe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(клаксон). Той притежава един даннов елемент (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roperty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 и метод с име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eep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(). Реализацията на този обект нека е на С++, като експонираната му функционалност става с помощта 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механизмите:</a:t>
            </a:r>
            <a:br>
              <a:rPr sz="1400"/>
            </a:b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class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CBeeper</a:t>
            </a:r>
            <a:br>
              <a:rPr sz="1400"/>
            </a:b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{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ublic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:</a:t>
            </a:r>
            <a:br>
              <a:rPr sz="1400"/>
            </a:b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long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lSound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// това е данновия експониран член</a:t>
            </a:r>
            <a:br>
              <a:rPr sz="1400"/>
            </a:b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ublic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:</a:t>
            </a:r>
            <a:br>
              <a:rPr sz="1400"/>
            </a:b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long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Beep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void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);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// това е метода на класа</a:t>
            </a:r>
            <a:br>
              <a:rPr sz="1400"/>
            </a:b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};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дефинираме интерфейс, например с име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Beepe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nterface IBeeper : IUnknown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{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long get_Sound( void)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void put_Sound( long lSound)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long Beep( void)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};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i="1" lang="bg-BG" sz="1200" spc="-1" strike="noStrike">
                <a:solidFill>
                  <a:srgbClr val="00ff00"/>
                </a:solidFill>
                <a:latin typeface="Arial"/>
              </a:rPr>
              <a:t>виртуална метод-таблица на интерфейса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IBeeper   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lp/vtbl      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QueryInterface 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CBeeper::QueryInterface() {..}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AddRef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CBeeper::AddRef()  {…}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Release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CBeeper::Release()  {..}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get_Sound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CBeeper::get_Sound() {…}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put_Sound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CBeeper::put_Sound() {…}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Beep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CBeeper::Beep(0 {…}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ограниченията с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виртуалните таблици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, каквато е тази з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Beepe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, са  че всеки клиент на този обект следва да се привърже (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inding)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към интерфейсните му методи  през указатели.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Т.е. ред от клиентски код  с обръщение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IBeepe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eep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() например, трябва да може да се  компилира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al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нструкция на процесора с параметър –  отместване спрямо началото на виртуалната таблица (или все едно спрямо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IBeepe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. 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Тази техника работи лесно и бързо за компилируем код, но не и за интерпретируем. 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В този случай достъп до функционалността на обекта става на основата на късното свързване 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late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binding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) чрез посредничеството на 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dispinterfac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 В неговото описание (по-долу има пример на такова)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d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файл, пропъртита и методи се съпоставят на собствени идентификатори (заградените в прави скоби), използвани пряко за връзката. Следва дефиниция 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interfac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за нашия обект:</a:t>
            </a:r>
            <a:br>
              <a:rPr sz="1400"/>
            </a:br>
            <a:br>
              <a:rPr sz="1400"/>
            </a:b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dispinterface</a:t>
            </a:r>
            <a:r>
              <a:rPr b="1" i="1" lang="bg-BG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DIBeeper</a:t>
            </a:r>
            <a:br>
              <a:rPr sz="1600"/>
            </a:br>
            <a:r>
              <a:rPr b="1" i="1" lang="bg-BG" sz="1600" spc="-1" strike="noStrike">
                <a:solidFill>
                  <a:srgbClr val="00ff00"/>
                </a:solidFill>
                <a:latin typeface="Arial"/>
              </a:rPr>
              <a:t>{</a:t>
            </a:r>
            <a:br>
              <a:rPr sz="1600"/>
            </a:b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properties</a:t>
            </a:r>
            <a:r>
              <a:rPr b="1" i="1" lang="bg-BG" sz="1600" spc="-1" strike="noStrike">
                <a:solidFill>
                  <a:srgbClr val="00ff00"/>
                </a:solidFill>
                <a:latin typeface="Arial"/>
              </a:rPr>
              <a:t>:</a:t>
            </a:r>
            <a:br>
              <a:rPr sz="1600"/>
            </a:br>
            <a:r>
              <a:rPr b="1" i="1" lang="bg-BG" sz="1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[id(0)]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long Sound;</a:t>
            </a:r>
            <a:br>
              <a:rPr sz="1600"/>
            </a:b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methods:</a:t>
            </a:r>
            <a:br>
              <a:rPr sz="1600"/>
            </a:b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[id(1)]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long Beep(void);</a:t>
            </a:r>
            <a:br>
              <a:rPr sz="1600"/>
            </a:b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92360" y="3213000"/>
            <a:ext cx="1656000" cy="792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За пропъртито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oun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беше съпоставен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I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нула, а за метод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eep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() –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I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единица. Контролерът (клиентът) използва тез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I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ru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tim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за да насочва точно повикванията към методи и пропъртита към мястото на тяхната реализация в обекта: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флаг определя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операция над пропъртито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ge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л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et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atch table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DispBeeper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 DISPID 0 = Sound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 CBeeper:: get_Sound() {..}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 CBeeper::put_Sound() {…}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     DISPID 1 = Beep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CBeeper ::Beep() {…}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Изработването на интерфейсния указател към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Dispatc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е подчинява на общите механизми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M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( през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QueryInterfac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. Тогава се реализира и преобразуванието о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Disp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към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atc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таблицата (т.е. всичко това става както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early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inding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. 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Късното свързване намира място  едва при намиране съответствие за пропърти или метод о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atc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таблицата, което се решава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ru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tim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141720"/>
            <a:ext cx="935280" cy="647640"/>
          </a:xfrm>
          <a:prstGeom prst="irregularSeal1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360" y="357336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Процедура на създаване на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server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с използване на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MFC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класове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MFC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поддръжката з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(интерфейс и специфичните типове се конструират автоматично)  е предвиден клас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leDispatchImp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, чиято инстанция  се реализира още в  </a:t>
            </a:r>
            <a:r>
              <a:rPr b="1" i="1" lang="en-US" sz="1400" spc="-1" strike="noStrike" u="sng">
                <a:solidFill>
                  <a:srgbClr val="00ff00"/>
                </a:solidFill>
                <a:uFillTx/>
                <a:latin typeface="Arial"/>
              </a:rPr>
              <a:t>CCmdTarget</a:t>
            </a:r>
            <a:r>
              <a:rPr b="1" i="1" lang="bg-BG" sz="1400" spc="-1" strike="noStrike" u="sng">
                <a:solidFill>
                  <a:srgbClr val="00ff00"/>
                </a:solidFill>
                <a:uFillTx/>
                <a:latin typeface="Arial"/>
              </a:rPr>
              <a:t>::</a:t>
            </a:r>
            <a:r>
              <a:rPr b="1" i="1" lang="en-US" sz="1400" spc="-1" strike="noStrike" u="sng">
                <a:solidFill>
                  <a:srgbClr val="00ff00"/>
                </a:solidFill>
                <a:uFillTx/>
                <a:latin typeface="Arial"/>
              </a:rPr>
              <a:t>EnableAutomation</a:t>
            </a:r>
            <a:r>
              <a:rPr b="1" i="1" lang="bg-BG" sz="1400" spc="-1" strike="noStrike" u="sng">
                <a:solidFill>
                  <a:srgbClr val="00ff00"/>
                </a:solidFill>
                <a:uFillTx/>
                <a:latin typeface="Arial"/>
              </a:rPr>
              <a:t>().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Т.е всек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MFC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клас, поддържащ автоматизация следва да наслед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CmdTarge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 да повика горната функция още в конструктора.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Преобразуванията: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име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ID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метод/свойство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нужни за повикванията през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nvok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() стават 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с  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dispatch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карта: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BEGIN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DISPATCH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MAP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(клас, родител)</a:t>
            </a:r>
            <a:br>
              <a:rPr sz="1400"/>
            </a:b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DISP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FUNCTION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(клас, име на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dispatch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метода, име на функция с </a:t>
            </a:r>
            <a:br>
              <a:rPr sz="1400"/>
            </a:b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която е реализиран,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ID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(от полетата на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VARIANT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) за</a:t>
            </a:r>
            <a:br>
              <a:rPr sz="1400"/>
            </a:b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параметрите с които тя се вика)</a:t>
            </a:r>
            <a:br>
              <a:rPr sz="1400"/>
            </a:b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DISP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ROPERTY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EX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(клас, име на свойството, методи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Get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.. 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Set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.. на </a:t>
            </a:r>
            <a:br>
              <a:rPr sz="1400"/>
            </a:b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класа с които се обработва свойството)</a:t>
            </a:r>
            <a:br>
              <a:rPr sz="1400"/>
            </a:b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END_DISP_MAP()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В картата (генерирана о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las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Wizar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 липсват 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I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 Всъщност има позиционна зависимост: място в картата 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номер 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I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D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генерирания файл.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примерен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OLE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 сървър 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utoBub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), който изобразява в прозорец окръжности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(този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сървър има свое изображение). 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1. В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AppWizard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създавате ново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SDI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приложение с това име. Указвате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“support  OLE Automation”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. При диалозите на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AppWizard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,  в поле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Fil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Typ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ID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, въвеждате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ProgID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на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обекта.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2. избирате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CAutoBubDoc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 (само 1 клас има поддръжка на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). 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3. правите добавки в класа, нужни за нормалната функционалност:</a:t>
            </a:r>
            <a:br>
              <a:rPr sz="1600"/>
            </a:b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структура с данните за отделна окръжност,  функциите за добавяне, броене и извличане на окръжност (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AddBubbl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(),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GetBubble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(), 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GetCount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()) като прототипи и реализация.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4. Създава се диалогов прозорец ( с ресурсен редактор) за описване параметри на нова окръжност ( .</a:t>
            </a:r>
            <a:r>
              <a:rPr b="1" lang="en-US" sz="1600" spc="-1" strike="noStrike">
                <a:solidFill>
                  <a:srgbClr val="e3ebf1"/>
                </a:solidFill>
                <a:latin typeface="Arial"/>
              </a:rPr>
              <a:t>rc</a:t>
            </a:r>
            <a:r>
              <a:rPr b="1" lang="bg-BG" sz="1600" spc="-1" strike="noStrike">
                <a:solidFill>
                  <a:srgbClr val="e3ebf1"/>
                </a:solidFill>
                <a:latin typeface="Arial"/>
              </a:rPr>
              <a:t>). Задават се идентификатори на диалоговия прозорец и на отделните контроли в него. 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5.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ъздава се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AddBubDlg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, наследник 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Dialog,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вързан с идентификатора на ресурса на създадения диалогов прозорец.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6.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добавя се меню опция “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d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ubb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”. Свързва се с обработваща меню-опцията функция – тя очевидно е метод 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AutoBubView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: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void CAutoBubView :: OnMenuAddBubble()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{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// взима от въведените в ресурсните полета стойности и инициализира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// променливи от структурата на окръжността. След това вика: pDoc</a:t>
            </a:r>
            <a:r>
              <a:rPr b="1" i="1" lang="en-US" sz="14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AddBubbl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() ;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nvalidate()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….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}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прерисуване на окръжности: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void CAutoBubView::OnDraw(CDC* pDC)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{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…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}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Дотук приложението е готово за компилация като самостоятелно приложение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5229360"/>
            <a:ext cx="705636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Dispatch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 Automation server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 Automation controller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e3ebf1"/>
                </a:solidFill>
                <a:latin typeface="Arial"/>
              </a:rPr>
              <a:t>обща схема на програмната среда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Интeрфейсът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Distatch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Всеки 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ървър следва да реализира този интерфейс.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За да се разбере дали един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M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обект поддърж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автоматизация,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контролерът следва да запита по стандартния начин с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QueryInterfac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() з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Dispatc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Технологията е езиково независима. Следователно данните които се обменят между контролер и сървър следва да са в независим формат. 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нови типове за данни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ST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подобен на С, като се предхожда от 4 байтово поле съдържащо дължината: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Брой байтове, не букви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UNICOD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кодировка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6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f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\0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Window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N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предостявя алтернативн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PI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функции за работа с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ST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: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за създаване 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ST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 попълване с низ;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за освобождаване;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за промяна;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за обработки с дължината.</a:t>
            </a:r>
            <a:br>
              <a:rPr sz="1400"/>
            </a:b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404640"/>
            <a:ext cx="720720" cy="432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620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549360"/>
            <a:ext cx="71280" cy="142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403280" y="25992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115920"/>
            <a:ext cx="144360" cy="144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32360" y="404640"/>
            <a:ext cx="2808360" cy="576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549360"/>
            <a:ext cx="2160720" cy="142920"/>
          </a:xfrm>
          <a:prstGeom prst="leftArrow">
            <a:avLst>
              <a:gd name="adj1" fmla="val 50000"/>
              <a:gd name="adj2" fmla="val 37796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5229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5229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229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5229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229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5229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5229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1916280"/>
            <a:ext cx="8064720" cy="215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ff00"/>
                </a:solidFill>
                <a:uFillTx/>
                <a:latin typeface="Arial"/>
              </a:rPr>
              <a:t>Процедура на добавяне на </a:t>
            </a:r>
            <a:r>
              <a:rPr b="1" lang="en-US" sz="1600" spc="-1" strike="noStrike" u="sng">
                <a:solidFill>
                  <a:srgbClr val="00ff00"/>
                </a:solidFill>
                <a:uFillTx/>
                <a:latin typeface="Arial"/>
              </a:rPr>
              <a:t>OLE Automation </a:t>
            </a:r>
            <a:r>
              <a:rPr b="1" lang="bg-BG" sz="1600" spc="-1" strike="noStrike" u="sng">
                <a:solidFill>
                  <a:srgbClr val="00ff00"/>
                </a:solidFill>
                <a:uFillTx/>
                <a:latin typeface="Arial"/>
              </a:rPr>
              <a:t>поддръжка към прил</a:t>
            </a:r>
            <a:r>
              <a:rPr b="1" lang="en-US" sz="1600" spc="-1" strike="noStrike" u="sng">
                <a:solidFill>
                  <a:srgbClr val="00ff00"/>
                </a:solidFill>
                <a:uFillTx/>
                <a:latin typeface="Arial"/>
              </a:rPr>
              <a:t>oжението</a:t>
            </a:r>
            <a:r>
              <a:rPr b="1" lang="bg-BG" sz="1600" spc="-1" strike="noStrike" u="sng">
                <a:solidFill>
                  <a:srgbClr val="00ff00"/>
                </a:solidFill>
                <a:uFillTx/>
                <a:latin typeface="Arial"/>
              </a:rPr>
              <a:t> - сървър</a:t>
            </a:r>
            <a:br>
              <a:rPr sz="1600"/>
            </a:br>
            <a:br>
              <a:rPr sz="16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1.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las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Wizar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e3ebf1"/>
                </a:solidFill>
                <a:latin typeface="Wingdings"/>
                <a:ea typeface="Wingdings"/>
              </a:rPr>
              <a:t>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d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Property с цел  добавяне на нови даннови (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ge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/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e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 променливи 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обекта (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AutoBubDoc)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: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mplementation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тип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external name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Ge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функция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Set функция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Get/Set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long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unt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untI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()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none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Функцията става метод на документния клас и следва да се опише. 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войствата могат да бъдат не само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ge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/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e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, а и прости член-променливи. Тогава даденото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войство става достъпно като даннов елемент на класа.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Променливата ще бъде добавена в картата. В поле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Notific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function (ako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ме избрал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member-variab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в диалог на развойната среда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)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може да се укаже функция, която се активира при присвояване от клиент на нова стойност на пропъртито. 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lassWizar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автоматично добавя записи в картата, декларации на функциите в класа и промени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D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файла (както по-долу). 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За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get/set –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записът е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DISP_PROPERTY_EX;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за член променливи –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DISP_PROPERTY.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2. добавяме и методи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към класа. За всеки метод имаме: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Externa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Nam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– името 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метода 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ntena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Nam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– името на съответнат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membe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функция. В полето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Retur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Typ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може да се постави всек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ъвместим даннов тип. Параметрите на метода се указват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aramete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Lis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MFC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е занимава с преобразуването им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ARIANTARG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 обратно за да е коректно повикването 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nvok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().  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(За случая такива методи могат да са  напр. 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lea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d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  Те стават методи на документния клас и следва да се опишат функционално.</a:t>
            </a:r>
            <a:r>
              <a:rPr b="0" lang="bg-BG" sz="1400" spc="-1" strike="noStrike">
                <a:solidFill>
                  <a:srgbClr val="e3ebf1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19051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9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19051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19051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За всеки добавен метод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las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Wizar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прави: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1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добавя декларация в .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файла на класа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2. реализира празна функция във файла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3. добавя ред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atc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картата на класа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4. добавя метода 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_i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D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файла на проекта.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Код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за тези ф-ии следва да се добави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AutoBubDoc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Файлът .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d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 се създава автоматично о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las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Wizar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:</a:t>
            </a:r>
            <a:br>
              <a:rPr sz="1400"/>
            </a:b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//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AutoBub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odl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: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typ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library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sourc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for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AutoBub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exe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[ uuid(06A6EDEB-A2FD-11CF-9C7D-000000000000),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 version(1.0) ]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library AutoBub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{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mportlib("stdole32.tlb")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  Primary dispatch interface for CAutoBubDoc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[ uuid(06A6EDEC-A2FD-11CF-9C7D-000000000000) ]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dispinterface IAutoBub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{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properties: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{{AFX_ODL_PROP(CAutoBubDoc)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[id(1)] 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long Count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}}AFX_ODL_PROP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methods: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{{AFX_ODL_METHOD(CAutoBubDoc)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[id(2)] 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void Clear()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[id(3)] 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void Add(long clr, short nYPos, short nXPos, short nRadius)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}}AFX_ODL_METHOD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}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  Class information for CAutoBubDoc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[ uuid(06A6EDEA-A2FD-11CF-9C7D-000000000000) ]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coclass CAutoBubDoc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[default] dispinterface IAutoBub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}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{{AFX_APPEND_ODL}}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Последната промяна в кода на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Automation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ървъра  е с цел изобразяване при инстанцииране от страна на контролер.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Търсим 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AutoBubApp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::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nitInstanc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(). 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там където се проверява дали приложението е стартирано като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erve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ли като самостоятелно приложение се добавя код за регистриране на  временен сървър , което позволява външни приложения да поискат поддръжка о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библиотеките за да създава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обекти от този тип  в рамките на своето приложение. Ето част от кода: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BOOL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CAutoBubApp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::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nitInstanc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()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{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…………..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// проверка дали е стартирано като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OL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съръвр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f(cmdInfo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m_bRunEmbedded  || cmdInfo.m_bRunAutomated)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COleTemplateServer::RegisterAll();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регистрира като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running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всички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OLE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 factories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за сървъри. Това позволява 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// създаване на обекти от такъв тип 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// от други приложения.</a:t>
            </a:r>
            <a:br>
              <a:rPr sz="1400"/>
            </a:b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//  следва ваш код проверяващ дали има опция за /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Automation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при стартиране на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// програмата. Ако да – изобразява главния прозорец на този клас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f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( !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ProcessShellCommand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cmdInfo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))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return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FALS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return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TRU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;}   /* следва автoматично добавен код */……………..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}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 тов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ървъра е готов.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Създаване на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utomation controller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1. На Visual С++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 MFC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клиент се пише лесно.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leDispatchDrive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осигурява извличане 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atc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указатели и методи за достъп до методи и свойства.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ъздават се производни на горния класове. С тях достъпът до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методите и свойства е елементарен. 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За целта в средата на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ClassWizard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избираме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AddClas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, после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From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Type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Library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 Там указваме типовата библиотека за конкретния сървър. Генерира се клас съдържащ функции за извикване на методите на сървъра ( със същите имена) 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Ge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/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e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функции за достъп до пропъртитата му.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Например ако сървърът е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AutoMat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rog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“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Mat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bjec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”, то в контейнера следва да има код от вида: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CAutoMath math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math.CreateDispatch(_T(“Math.Object”));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създава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Automation 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обект и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Dispatch 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указател в променливата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m_lpDispatch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 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оттук обръщения към методи и свойства автоматично се превеждат през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Dispatch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 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повиквания: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nt sum = math.Sum(2,4);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/ 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достъп до метод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doubl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pi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math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GetPi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();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// достъп до пропърти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2. На 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Visual</a:t>
            </a:r>
            <a:r>
              <a:rPr b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Basic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Mo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же да се създаде приложение, което управляв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Bub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през неговия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нтерфейс. 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1. Създаваме си начален  диалог за въвеждане  на данни за окръжностите, които се предават към сървъра след активирането му.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2. Декларираме обект – носител на сървъра (напр. обект с име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ubbleMachin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: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Dim BubbleMachine  As Object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3. Създава се инстанция на 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Bub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ървъра: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set BubbleMachine = CreateObject(“AutoBub.Document”)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лед края на използването на сървъра  той се освобождава: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Set BubbleMachine = Nothing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4. Описва се процедура, активираща се например о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B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меню-опция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 “Add Bubble”,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която приема стойностите въведени чрез диалога и ги подава на 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ubbleMachine: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Private Sub IDC_ADD_Click()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‘ 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чете въведените в полета стойности например за цвят, координати и радиус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‘ формира 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ColorRef = RGB( x,y,z)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‘ 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и други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‘ създава новата окръжност: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BubbleMachin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Add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ColorRef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,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k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оорд_х, коорд_у, радиус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използва се функция от сървъра.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End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Sub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MFC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ма също методи за преобразуване 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BSTR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String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, напр: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Cstring string = (LPCWSTR) bstr;</a:t>
            </a: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или:</a:t>
            </a:r>
            <a:br>
              <a:rPr sz="1400"/>
            </a:b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S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tring str = _T(“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Hello”);</a:t>
            </a: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BSTR bstr = str.AllocSysString();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N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труктурата се използва при трансформиране и предаване на различни типове данни. Всъщност това е самоописващ се тип данни: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typedef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struct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tagVARIANT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VARIANT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;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typedef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struct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tagVARIANT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{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VARTYPE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vt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; 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//флагове, идентифициращи типа на данните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union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{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//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стойността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short iVal;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long lVal;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float fltVal;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double dblVal;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VARIANT_BOOL bool;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SCODE scode;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 DATE date;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BSTR bstrVal;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IUnknown FAR * punkVal;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IDispatch FAR* pdispVal;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SAFEARRAY FAR* parray;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//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полета, използвани при предаване на данни по указател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short FAR* piVal;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long FAR* plVal;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float FAR* pfltVal;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double FAR* pdblVal;   VARIANT_BOOL FAR* pbool;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DATE FAR* pdate;     BSTR FAR* pbstrVal;       IUnknown FAR* FAR* ppunkVal;</a:t>
            </a:r>
            <a:br>
              <a:rPr sz="1400"/>
            </a:b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IDispatch FAR* FAR* ppdispVal;         VARIANT FAR* pvarVal;  void FAR* byref;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}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692280"/>
            <a:ext cx="863640" cy="72720"/>
          </a:xfrm>
          <a:prstGeom prst="leftRightArrow">
            <a:avLst>
              <a:gd name="adj1" fmla="val 50000"/>
              <a:gd name="adj2" fmla="val 236425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За всяко от полетатата 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ARIAN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ма съответстващ идентификатор: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VT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I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4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4-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byte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signed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int</a:t>
            </a: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VT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R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4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4-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byte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real</a:t>
            </a: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VT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R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8 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8-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byte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real</a:t>
            </a: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VT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DATE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date</a:t>
            </a: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VT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BSTR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binary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string</a:t>
            </a: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VT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DISPATCH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IDispatch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FAR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*</a:t>
            </a: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VT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ERROR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SCODE</a:t>
            </a: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VT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BOOL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True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=-1,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False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=0</a:t>
            </a: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VT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UNKNOWN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IUnknown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FAR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*</a:t>
            </a: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VT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UI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1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unsigned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char</a:t>
            </a:r>
            <a:br>
              <a:rPr sz="1400"/>
            </a:b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VT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_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LPSTR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null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terminated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string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Им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PI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функции за работа с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ARIAN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структури (например 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::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ntInit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()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).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При автоматизация задължително се работи с данни от представими въ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ARIAN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типове 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M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управлява добре тези типове, така че не са нужн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roxy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tub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код в отделн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LL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библиотека (както е пр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u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f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proces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ървърите)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ARIAN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позволява предаване на всякакъв вид данни. </a:t>
            </a: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Dispatc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 използва  обект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ARIAN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за обмен  на данни с /о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OL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utomatio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сървъри.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чрез тази структура могат да се предават: 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числа без знак 1 байт, указатели към беззнакови 1 байт букви, цели, указатели към тях,4 байта цели, указатели към тях,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IEEE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реални и указатели към тях ( 4 и 8 байта),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BSTR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 и указател към него, булеви и указатели към тях, дата и час, указател към обект поддържащ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IDispatch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, или към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IUnknown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, масив от данни тип &lt;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anything</a:t>
            </a: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&gt;   и т.н.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Предвидени са функии за работа с обек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ARIAN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Т. Те фактически работят коректно с всякакъв тип в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VARIANT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 извършват коректно нужните преобразувания и обработки над данните д него.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тип 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SAFEARRAY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Тип данни за масив използван в автоматизацията.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API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ма множество функции (започват с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afeArray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.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MFC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има поддържащ клас за работа с тези структури –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COleSafeArray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.</a:t>
            </a: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Ето как е дефиниран типа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SAFEARRAY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:</a:t>
            </a:r>
            <a:br>
              <a:rPr sz="1400"/>
            </a:b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typedef struct tagSAFEARRAY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 {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 USHORT    cDims;      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//размерности на масива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 USHORT    fFeatures;  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//Flags описващи масива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 USHORT    cbElements;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// размер на всеки елемент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HANDLE    handle;     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//HGLOBAL към масива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 void *    pvData;    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 SAFEARRAYBOUND    rgsabound[]; // граница за всяка размерност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 } SAFEARRAY;</a:t>
            </a:r>
            <a:br>
              <a:rPr sz="1400"/>
            </a:b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typedef struct tagSAFEARRAYBOUND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 {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 ULONG    cElements; 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// брой на елементи във всеки размер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 long     LBound;   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//долна граница за всяка размерност</a:t>
            </a:r>
            <a:br>
              <a:rPr sz="1400"/>
            </a:br>
            <a:r>
              <a:rPr b="1" i="1" lang="bg-BG" sz="1400" spc="-1" strike="noStrike">
                <a:solidFill>
                  <a:srgbClr val="66ccff"/>
                </a:solidFill>
                <a:latin typeface="Arial"/>
              </a:rPr>
              <a:t>    } SAFEARRAYBOUND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ff00"/>
                </a:solidFill>
                <a:latin typeface="Arial"/>
              </a:rPr>
              <a:t>IDispatch</a:t>
            </a:r>
            <a:br>
              <a:rPr sz="1600"/>
            </a:br>
            <a:br>
              <a:rPr sz="1600"/>
            </a:br>
            <a:r>
              <a:rPr b="0" lang="bg-BG" sz="1600" spc="-1" strike="noStrike">
                <a:solidFill>
                  <a:srgbClr val="e3ebf1"/>
                </a:solidFill>
                <a:latin typeface="Arial"/>
              </a:rPr>
              <a:t>Основната функция, която вика метод или пропърти, използайки за целта идентификатори на DISPATCH (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DISPID</a:t>
            </a:r>
            <a:r>
              <a:rPr b="0" lang="bg-BG" sz="1600" spc="-1" strike="noStrike">
                <a:solidFill>
                  <a:srgbClr val="e3ebf1"/>
                </a:solidFill>
                <a:latin typeface="Arial"/>
              </a:rPr>
              <a:t>) е  </a:t>
            </a:r>
            <a:r>
              <a:rPr b="0" i="1" lang="en-US" sz="1600" spc="-1" strike="noStrike">
                <a:solidFill>
                  <a:srgbClr val="00ff00"/>
                </a:solidFill>
                <a:latin typeface="Arial"/>
              </a:rPr>
              <a:t>IDispatch</a:t>
            </a:r>
            <a:r>
              <a:rPr b="0" i="1" lang="bg-BG" sz="1600" spc="-1" strike="noStrike">
                <a:solidFill>
                  <a:srgbClr val="00ff00"/>
                </a:solidFill>
                <a:latin typeface="Arial"/>
              </a:rPr>
              <a:t>::</a:t>
            </a:r>
            <a:r>
              <a:rPr b="0" i="1" lang="en-US" sz="1600" spc="-1" strike="noStrike">
                <a:solidFill>
                  <a:srgbClr val="00ff00"/>
                </a:solidFill>
                <a:latin typeface="Arial"/>
              </a:rPr>
              <a:t>Invoke</a:t>
            </a:r>
            <a:r>
              <a:rPr b="0" lang="bg-BG" sz="1600" spc="-1" strike="noStrike">
                <a:solidFill>
                  <a:srgbClr val="00ff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bg-BG" sz="1600" spc="-1" strike="noStrike">
                <a:solidFill>
                  <a:srgbClr val="e3ebf1"/>
                </a:solidFill>
                <a:latin typeface="Arial"/>
              </a:rPr>
              <a:t> В момента, когато контролера получи указател към този интерфейс ( </a:t>
            </a:r>
            <a:r>
              <a:rPr b="0" lang="en-US" sz="1600" spc="-1" strike="noStrike">
                <a:solidFill>
                  <a:srgbClr val="e3ebf1"/>
                </a:solidFill>
                <a:latin typeface="Arial"/>
              </a:rPr>
              <a:t>dispinterface</a:t>
            </a:r>
            <a:r>
              <a:rPr b="0" lang="bg-BG" sz="1600" spc="-1" strike="noStrike">
                <a:solidFill>
                  <a:srgbClr val="e3ebf1"/>
                </a:solidFill>
                <a:latin typeface="Arial"/>
              </a:rPr>
              <a:t>), то той притежава указател към реализацията на </a:t>
            </a:r>
            <a:r>
              <a:rPr b="0" i="1" lang="en-US" sz="1600" spc="-1" strike="noStrike">
                <a:solidFill>
                  <a:srgbClr val="e3ebf1"/>
                </a:solidFill>
                <a:latin typeface="Arial"/>
              </a:rPr>
              <a:t>IDispatch</a:t>
            </a:r>
            <a:r>
              <a:rPr b="0" lang="bg-BG" sz="1600" spc="-1" strike="noStrike">
                <a:solidFill>
                  <a:srgbClr val="e3ebf1"/>
                </a:solidFill>
                <a:latin typeface="Arial"/>
              </a:rPr>
              <a:t> с която може да има достъп до набора  </a:t>
            </a:r>
            <a:r>
              <a:rPr b="0" lang="en-US" sz="1600" spc="-1" strike="noStrike">
                <a:solidFill>
                  <a:srgbClr val="e3ebf1"/>
                </a:solidFill>
                <a:latin typeface="Arial"/>
              </a:rPr>
              <a:t>dispID</a:t>
            </a:r>
            <a:r>
              <a:rPr b="0" lang="bg-BG" sz="1600" spc="-1" strike="noStrike">
                <a:solidFill>
                  <a:srgbClr val="e3ebf1"/>
                </a:solidFill>
                <a:latin typeface="Arial"/>
              </a:rPr>
              <a:t>, специфични за реализацията.</a:t>
            </a:r>
            <a:br>
              <a:rPr sz="1600"/>
            </a:br>
            <a:br>
              <a:rPr sz="1600"/>
            </a:br>
            <a:r>
              <a:rPr b="0" lang="bg-BG" sz="1600" spc="-1" strike="noStrike">
                <a:solidFill>
                  <a:srgbClr val="e3ebf1"/>
                </a:solidFill>
                <a:latin typeface="Arial"/>
              </a:rPr>
              <a:t> Когато в кода се повика </a:t>
            </a:r>
            <a:r>
              <a:rPr b="0" i="1" lang="en-US" sz="1600" spc="-1" strike="noStrike">
                <a:solidFill>
                  <a:srgbClr val="e3ebf1"/>
                </a:solidFill>
                <a:latin typeface="Arial"/>
              </a:rPr>
              <a:t>IDispatch</a:t>
            </a:r>
            <a:r>
              <a:rPr b="0" i="1" lang="bg-BG" sz="1600" spc="-1" strike="noStrike">
                <a:solidFill>
                  <a:srgbClr val="e3ebf1"/>
                </a:solidFill>
                <a:latin typeface="Arial"/>
              </a:rPr>
              <a:t>::</a:t>
            </a:r>
            <a:r>
              <a:rPr b="0" i="1" lang="en-US" sz="1600" spc="-1" strike="noStrike">
                <a:solidFill>
                  <a:srgbClr val="e3ebf1"/>
                </a:solidFill>
                <a:latin typeface="Arial"/>
              </a:rPr>
              <a:t>Invoke</a:t>
            </a:r>
            <a:r>
              <a:rPr b="0" lang="bg-BG" sz="1600" spc="-1" strike="noStrike">
                <a:solidFill>
                  <a:srgbClr val="e3ebf1"/>
                </a:solidFill>
                <a:latin typeface="Arial"/>
              </a:rPr>
              <a:t>, действителния преход към метод или пропърти се определя </a:t>
            </a:r>
            <a:r>
              <a:rPr b="0" lang="bg-BG" sz="1800" spc="-1" strike="noStrike">
                <a:solidFill>
                  <a:srgbClr val="00ff00"/>
                </a:solidFill>
                <a:latin typeface="Arial"/>
              </a:rPr>
              <a:t>едва в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run</a:t>
            </a:r>
            <a:r>
              <a:rPr b="0" lang="bg-BG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ime</a:t>
            </a:r>
            <a:r>
              <a:rPr b="0" lang="bg-BG" sz="1800" spc="-1" strike="noStrike">
                <a:solidFill>
                  <a:srgbClr val="f0e500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66ccff"/>
                </a:solidFill>
                <a:latin typeface="Arial"/>
              </a:rPr>
              <a:t>По-долу следват методите на интерфейса: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nterfac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Dispatch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: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public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Unknown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{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public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: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HRESULT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GetTypeInfoCount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(….);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/* използва се да изработи броя 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TypeInfo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интерфейси (0 или 1)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поддържани от сървъра. */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HRESULT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GetTypeInfo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(…);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/* използва се да изработи указател към 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TypeInfo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, който е нужен за определяне 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дали сървърът поддържа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OL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Automation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*/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HRESULT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GetIDsOfNames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(…);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/* преобразува име на метод, пропърти  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в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DISPID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(всъщност индекс към името, 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използван при обръщенията към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 IDispatch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) */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HRESULT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Invok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(…);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/*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същинска функция. Тя се използва за 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достъп до пропърти или метод </a:t>
            </a:r>
            <a:br>
              <a:rPr sz="1400"/>
            </a:b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експониран от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OLE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Automation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 сървъра. Чрез нея 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се разпитва сървъра  за експонираните си интерфейси */</a:t>
            </a:r>
            <a:br>
              <a:rPr sz="1400"/>
            </a:br>
            <a:r>
              <a:rPr b="1" i="1" lang="bg-BG" sz="1400" spc="-1" strike="noStrike">
                <a:solidFill>
                  <a:srgbClr val="00ff00"/>
                </a:solidFill>
                <a:latin typeface="Arial"/>
              </a:rPr>
              <a:t>};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В автоматизацията (или чрез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Dispatc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 винаги се работи не с имена а с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atch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dispid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), които се изработват от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GetIdsOfNames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(), преди </a:t>
            </a:r>
            <a:r>
              <a:rPr b="1" lang="en-US" sz="1400" spc="-1" strike="noStrike">
                <a:solidFill>
                  <a:srgbClr val="e3ebf1"/>
                </a:solidFill>
                <a:latin typeface="Arial"/>
              </a:rPr>
              <a:t>Invoke</a:t>
            </a: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().</a:t>
            </a:r>
            <a:endParaRPr b="0" lang="en-US" sz="1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e3ebf1"/>
                </a:solidFill>
                <a:latin typeface="Arial"/>
              </a:rPr>
              <a:t>Всъщност при всяко повикване по име на метод или пропърти  става следното: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1. изработва се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CLSID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за обекта (от името му) – за целта има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PI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 ф-ия  :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CLSIDFromProgID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();</a:t>
            </a:r>
            <a:br>
              <a:rPr sz="1600"/>
            </a:b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2. вика се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CoCreateInstance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() за създаване на обекта;</a:t>
            </a:r>
            <a:br>
              <a:rPr sz="1600"/>
            </a:b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3. получава се указател към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Dispatch;</a:t>
            </a:r>
            <a:br>
              <a:rPr sz="1600"/>
            </a:b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4. изработват се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DISPID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 за данновите членове  с 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GetIDsOfNames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();</a:t>
            </a:r>
            <a:br>
              <a:rPr sz="1600"/>
            </a:b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5. подготвя се масив с аргументите на повикване от тип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VARIANTARG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;</a:t>
            </a:r>
            <a:br>
              <a:rPr sz="1600"/>
            </a:b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6. обръщение към метода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Invoke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() с подадени параметри (указва се дали метод или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roperty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);</a:t>
            </a:r>
            <a:br>
              <a:rPr sz="1600"/>
            </a:b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7. резултатът, който се получава  е в тип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VARIANT</a:t>
            </a:r>
            <a:r>
              <a:rPr b="1" lang="bg-BG" sz="1600" spc="-1" strike="noStrike">
                <a:solidFill>
                  <a:srgbClr val="00ff00"/>
                </a:solidFill>
                <a:latin typeface="Arial"/>
              </a:rPr>
              <a:t>структура.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4:15:41Z</dcterms:created>
  <dc:creator>fallen angel</dc:creator>
  <dc:description/>
  <dc:language>en-US</dc:language>
  <cp:lastModifiedBy>fallen angel</cp:lastModifiedBy>
  <dcterms:modified xsi:type="dcterms:W3CDTF">2010-04-01T05:44:23Z</dcterms:modified>
  <cp:revision>3</cp:revision>
  <dc:subject/>
  <dc:title>Slide 1</dc:title>
</cp:coreProperties>
</file>