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972-922A-4498-A80D-1D989E16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D4D-B622-4B70-89F8-CFA280C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7B0-EEDA-49CB-ADAB-48C23277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DD7-04A6-4FFF-AA71-F09E4FD1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375-6BDA-4EA6-BB8D-72AB8E53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598-85BF-471E-9627-CA61EAD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A04-C26F-4C2A-9D1B-0808AE59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23C-60DD-4A7F-B1AA-A583B46E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848-DC57-43BC-80C3-52E7D49C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EEA-6F14-4BBD-837E-86ADAE1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234-1B2C-4238-A472-9AB4F71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4AA-EEAA-436A-A14E-A6EE4DB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CB59-D092-4723-9002-037D233BB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25360"/>
            <a:ext cx="7437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omic Sans MS"/>
              </a:rPr>
              <a:t>ООП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omic Sans MS"/>
              </a:rPr>
              <a:t>Лекция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4581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2A8-D6FF-438F-8BC4-1004558015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16000" y="3068640"/>
            <a:ext cx="1257480" cy="2057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11640" y="3429000"/>
            <a:ext cx="16002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2924280"/>
            <a:ext cx="1828800" cy="228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24000" y="3860280"/>
            <a:ext cx="208764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320" y="717840"/>
            <a:ext cx="8393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кти и интерфей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666699"/>
                </a:solidFill>
                <a:latin typeface="Arial"/>
                <a:ea typeface="Times New Roman"/>
              </a:rPr>
              <a:t>Интерфейсът е набор от семантично свързани функции, реализирани в определен обек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666699"/>
                </a:solidFill>
                <a:latin typeface="Arial"/>
                <a:ea typeface="Times New Roman"/>
              </a:rPr>
              <a:t>Това включва прототип или сигнатура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ползването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tiation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става, когато интефейсът е реализиран и е изработен указате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ъм масив от указатели към функциите му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8280" y="3231000"/>
            <a:ext cx="66182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бект 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ребителя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ел къ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n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()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666699"/>
                </a:solidFill>
                <a:latin typeface="Arial"/>
                <a:ea typeface="Times New Roman"/>
              </a:rPr>
              <a:t>об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18120" y="3963240"/>
            <a:ext cx="564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ел къ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n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()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лизация 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фей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386064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4149720"/>
            <a:ext cx="792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CE7-2E78-4DD0-9325-E70747AB25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1197000"/>
            <a:ext cx="17146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12682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8080" y="141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04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кти и интерфей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9440" y="1439280"/>
            <a:ext cx="200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i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фейс А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067280" y="3284280"/>
            <a:ext cx="79200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997360"/>
            <a:ext cx="14436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4292640"/>
            <a:ext cx="215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3141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4365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2637000"/>
            <a:ext cx="1257120" cy="240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808080"/>
                </a:solidFill>
                <a:latin typeface="Arial"/>
              </a:rPr>
              <a:t>Потребителск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808080"/>
                </a:solidFill>
                <a:latin typeface="Arial"/>
              </a:rPr>
              <a:t>Об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808080"/>
                </a:solidFill>
                <a:latin typeface="Arial"/>
              </a:rPr>
              <a:t>(компонен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Interf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421000"/>
            <a:ext cx="2171880" cy="2514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Реализация 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нтерфейса 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76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1866960"/>
            <a:ext cx="68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366ff"/>
                </a:solidFill>
                <a:latin typeface="Arial"/>
                <a:ea typeface="Times New Roman"/>
              </a:rPr>
              <a:t>          </a:t>
            </a:r>
            <a:r>
              <a:rPr b="0" lang="bg-BG" sz="14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0" lang="bg-BG" sz="1400" spc="-1" strike="noStrike">
                <a:solidFill>
                  <a:srgbClr val="3366ff"/>
                </a:solidFill>
                <a:latin typeface="Arial"/>
                <a:ea typeface="Times New Roman"/>
              </a:rPr>
              <a:t>        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ребителски 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ъп до функции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кт 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кт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интерфейс А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фейс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72720" y="4005360"/>
            <a:ext cx="129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Реализация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нтерфейса 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34360" y="3403440"/>
            <a:ext cx="83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Вътреш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Данн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На обе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42000" y="258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87000" y="3854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7840" y="5013360"/>
            <a:ext cx="25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Обект, поддържащ 2 интерфей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1640" y="306792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ryInterface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640" y="1197000"/>
            <a:ext cx="11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об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364000" y="3715920"/>
            <a:ext cx="648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148000" y="4508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348-B6D2-403F-A478-BA8A076A5E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rot="16200000">
            <a:off x="3610440" y="2302200"/>
            <a:ext cx="2498760" cy="345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989000"/>
            <a:ext cx="2521080" cy="360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71440" y="3159000"/>
            <a:ext cx="1486080" cy="1143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213000"/>
            <a:ext cx="1714680" cy="1600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0320" y="2452680"/>
            <a:ext cx="749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аблица от </a:t>
            </a:r>
            <a:r>
              <a:rPr b="1" lang="bg-BG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таблица 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указатели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указатели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към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IUnknown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към друг интерфейс</a:t>
            </a:r>
            <a:r>
              <a:rPr b="1" lang="bg-BG" sz="1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3288240"/>
            <a:ext cx="43596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eryInterface(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eryInterfac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ease(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Ref(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Ref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fn1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fn2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96920" y="1144440"/>
            <a:ext cx="55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азов интерфйс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изволен интерфей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2 собствени мет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0"/>
          </p:cNvCxnSpPr>
          <p:nvPr/>
        </p:nvCxnSpPr>
        <p:spPr>
          <a:xfrm rot="5400000">
            <a:off x="585000" y="3258000"/>
            <a:ext cx="5380920" cy="1151640"/>
          </a:xfrm>
          <a:prstGeom prst="curvedConnector5">
            <a:avLst>
              <a:gd name="adj1" fmla="val 6811"/>
              <a:gd name="adj2" fmla="val 37429"/>
              <a:gd name="adj3" fmla="val 681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1746360" y="56844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663300"/>
                </a:solidFill>
                <a:latin typeface="Arial"/>
              </a:rPr>
              <a:t>Намираме се в 1 компон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8F7-CB89-43DF-AC0C-BFD99A3A9E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0080" y="622080"/>
            <a:ext cx="73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Comic Sans MS"/>
              </a:rPr>
              <a:t>Interface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640" y="1341360"/>
            <a:ext cx="69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ки COM интерфейс и COM компонент трябва да реализи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дартния интерфей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7416720" cy="32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B90-3D37-443E-AA20-7622AEFE3E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 Windows ниво COM обект се създава обикновено чрез извикв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 API функцията CoCreateInstanse, която създава обект и връща указат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ъм него от тип IUnknown, чийто вътрешен брояч е със стойност 1. 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адем този указател на друг клиент, той трябва да увеличи брояча му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звиквайки метода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Re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Когато обектът повече не е необходим, 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звиква неговия метод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leas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който намалява брояча с единица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втоматично проверява дали е станал нула (т.е. дали това е бил последния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ктивен интерфейс към обекта). Ако това е така, то самият обект 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амоунищожава. Когато клиентът иска да работи с друг интерфейс 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бекта, той извиква метода му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ryInterfac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 аргумент идентификат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 искания интерфейс. Ако обектът може да му го предостави му връщ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казател и увеличава брояча си с единица. Трябва да подчертаем, че 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лиентът никога не получава указател към истинския обект, а вина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казател към интерфейс, който е наследник на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Unknow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B46-6127-488F-AD73-C814B1C013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0" y="24224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ftware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ic and Visual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sual Fox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, C++ and Visual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all 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sual J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234-4664-4BED-8CB2-E3B6B676B7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457200"/>
            <a:ext cx="2590920" cy="152388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819520"/>
            <a:ext cx="2666880" cy="152388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4572000"/>
            <a:ext cx="2438280" cy="1447920"/>
          </a:xfrm>
          <a:prstGeom prst="cube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914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4520" y="1282320"/>
            <a:ext cx="2975400" cy="1626120"/>
            <a:chOff x="3044520" y="1282320"/>
            <a:chExt cx="2975400" cy="1626120"/>
          </a:xfrm>
        </p:grpSpPr>
        <p:sp>
          <p:nvSpPr>
            <p:cNvPr id="129" name=""/>
            <p:cNvSpPr/>
            <p:nvPr/>
          </p:nvSpPr>
          <p:spPr>
            <a:xfrm rot="2739000">
              <a:off x="2971440" y="1828440"/>
              <a:ext cx="1752480" cy="533520"/>
            </a:xfrm>
            <a:prstGeom prst="rightArrow">
              <a:avLst>
                <a:gd name="adj1" fmla="val 50000"/>
                <a:gd name="adj2" fmla="val 82119"/>
              </a:avLst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86200" y="15238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LS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162920" y="5715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LS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560" y="2666880"/>
            <a:ext cx="2962080" cy="3736440"/>
            <a:chOff x="304560" y="2666880"/>
            <a:chExt cx="2962080" cy="3736440"/>
          </a:xfrm>
        </p:grpSpPr>
        <p:sp>
          <p:nvSpPr>
            <p:cNvPr id="133" name=""/>
            <p:cNvSpPr/>
            <p:nvPr/>
          </p:nvSpPr>
          <p:spPr>
            <a:xfrm rot="2409000">
              <a:off x="1784520" y="3660480"/>
              <a:ext cx="733320" cy="259056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453240 h 2590560"/>
                <a:gd name="textAreaBottom" fmla="*/ 187812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17097000">
              <a:off x="1180080" y="2443680"/>
              <a:ext cx="733320" cy="237600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415800 h 2376000"/>
                <a:gd name="textAreaBottom" fmla="*/ 1722600 h 23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57400" y="5943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D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480" y="2666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.E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562720" y="6094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ating a componen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78240" y="3263400"/>
            <a:ext cx="3051360" cy="1626120"/>
            <a:chOff x="5178240" y="3263400"/>
            <a:chExt cx="3051360" cy="1626120"/>
          </a:xfrm>
        </p:grpSpPr>
        <p:sp>
          <p:nvSpPr>
            <p:cNvPr id="139" name=""/>
            <p:cNvSpPr/>
            <p:nvPr/>
          </p:nvSpPr>
          <p:spPr>
            <a:xfrm rot="2739000">
              <a:off x="5105160" y="3809520"/>
              <a:ext cx="1752480" cy="533520"/>
            </a:xfrm>
            <a:prstGeom prst="rightArrow">
              <a:avLst>
                <a:gd name="adj1" fmla="val 50000"/>
                <a:gd name="adj2" fmla="val 82119"/>
              </a:avLst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32767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LS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9A9-2076-49D9-ADD5-180744464A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533520"/>
            <a:ext cx="3809880" cy="556236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28600"/>
            <a:ext cx="3886200" cy="304812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3505320"/>
            <a:ext cx="3886200" cy="2971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828800"/>
            <a:ext cx="1523880" cy="160020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685800"/>
            <a:ext cx="1600200" cy="236232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429000"/>
            <a:ext cx="1600200" cy="259092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762120"/>
            <a:ext cx="1295280" cy="121896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-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3505320"/>
            <a:ext cx="1295280" cy="914400"/>
          </a:xfrm>
          <a:prstGeom prst="flowChartAlternate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33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li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62760" y="2133720"/>
            <a:ext cx="14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-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1143000"/>
            <a:ext cx="15228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1523880"/>
            <a:ext cx="15228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00200" y="12189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4952880"/>
            <a:ext cx="1295280" cy="91440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5334120"/>
            <a:ext cx="15264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029200"/>
            <a:ext cx="15264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3962520"/>
            <a:ext cx="15264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657600"/>
            <a:ext cx="15264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3429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429000"/>
            <a:ext cx="7617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676520"/>
            <a:ext cx="1143000" cy="1295280"/>
          </a:xfrm>
          <a:prstGeom prst="flowChartAlternate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1752480"/>
            <a:ext cx="685800" cy="68580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1143000"/>
            <a:ext cx="1447920" cy="1828800"/>
          </a:xfrm>
          <a:prstGeom prst="flowChartAlternateProcess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1219320"/>
            <a:ext cx="1218960" cy="914400"/>
          </a:xfrm>
          <a:prstGeom prst="flowChartAlternate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457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ocal Serv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25909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286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ca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1600200"/>
            <a:ext cx="15228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1295280"/>
            <a:ext cx="15228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867280" y="13716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2209680"/>
            <a:ext cx="1219320" cy="1219320"/>
          </a:xfrm>
          <a:custGeom>
            <a:avLst/>
            <a:gdLst/>
            <a:ahLst/>
            <a:rect l="l" t="t" r="r" b="b"/>
            <a:pathLst>
              <a:path w="768" h="768">
                <a:moveTo>
                  <a:pt x="0" y="768"/>
                </a:moveTo>
                <a:lnTo>
                  <a:pt x="302" y="75"/>
                </a:lnTo>
                <a:lnTo>
                  <a:pt x="389" y="379"/>
                </a:lnTo>
                <a:lnTo>
                  <a:pt x="768" y="0"/>
                </a:lnTo>
              </a:path>
            </a:pathLst>
          </a:custGeom>
          <a:noFill/>
          <a:ln w="28440">
            <a:solidFill>
              <a:srgbClr val="9933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01840" y="281952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962520"/>
            <a:ext cx="3505320" cy="23619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3505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mo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4876920"/>
            <a:ext cx="1143000" cy="1295280"/>
          </a:xfrm>
          <a:prstGeom prst="flowChartAlternate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4952880"/>
            <a:ext cx="685800" cy="685800"/>
          </a:xfrm>
          <a:prstGeom prst="flowChartAlternateProcess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5715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4419720"/>
            <a:ext cx="1447920" cy="1828800"/>
          </a:xfrm>
          <a:prstGeom prst="flowChartAlternate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4572000"/>
            <a:ext cx="1218960" cy="914400"/>
          </a:xfrm>
          <a:prstGeom prst="flowChartAlternateProcess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5486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mot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0384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mote Server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917000">
            <a:off x="3885840" y="4572000"/>
            <a:ext cx="1219320" cy="1219320"/>
          </a:xfrm>
          <a:custGeom>
            <a:avLst/>
            <a:gdLst/>
            <a:ahLst/>
            <a:rect l="l" t="t" r="r" b="b"/>
            <a:pathLst>
              <a:path w="768" h="768">
                <a:moveTo>
                  <a:pt x="0" y="768"/>
                </a:moveTo>
                <a:lnTo>
                  <a:pt x="302" y="75"/>
                </a:lnTo>
                <a:lnTo>
                  <a:pt x="389" y="379"/>
                </a:lnTo>
                <a:lnTo>
                  <a:pt x="768" y="0"/>
                </a:lnTo>
              </a:path>
            </a:pathLst>
          </a:custGeom>
          <a:noFill/>
          <a:ln w="28440">
            <a:solidFill>
              <a:srgbClr val="9933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01840" y="52578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4876920"/>
            <a:ext cx="15264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4572000"/>
            <a:ext cx="15264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9920" y="46483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45720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161-D844-4C15-9AB8-5FF6E0D41D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914400"/>
            <a:ext cx="2514600" cy="198108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114800"/>
            <a:ext cx="2361960" cy="13716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295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lient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914400"/>
            <a:ext cx="2514600" cy="198108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143000"/>
            <a:ext cx="1447560" cy="99072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85800" y="3017520"/>
            <a:ext cx="2226240" cy="1585080"/>
            <a:chOff x="685800" y="3017520"/>
            <a:chExt cx="2226240" cy="1585080"/>
          </a:xfrm>
        </p:grpSpPr>
        <p:sp>
          <p:nvSpPr>
            <p:cNvPr id="207" name=""/>
            <p:cNvSpPr/>
            <p:nvPr/>
          </p:nvSpPr>
          <p:spPr>
            <a:xfrm>
              <a:off x="1888560" y="3017520"/>
              <a:ext cx="1023480" cy="158508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4290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) Cre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488560" y="3099600"/>
            <a:ext cx="3121920" cy="1496880"/>
            <a:chOff x="5488560" y="3099600"/>
            <a:chExt cx="3121920" cy="1496880"/>
          </a:xfrm>
        </p:grpSpPr>
        <p:sp>
          <p:nvSpPr>
            <p:cNvPr id="210" name=""/>
            <p:cNvSpPr/>
            <p:nvPr/>
          </p:nvSpPr>
          <p:spPr>
            <a:xfrm flipV="1">
              <a:off x="5488560" y="3099600"/>
              <a:ext cx="757800" cy="149688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2200" y="335268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2) Locat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4864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15238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15238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14600" y="685800"/>
            <a:ext cx="2895480" cy="914400"/>
            <a:chOff x="2514600" y="685800"/>
            <a:chExt cx="2895480" cy="914400"/>
          </a:xfrm>
        </p:grpSpPr>
        <p:sp>
          <p:nvSpPr>
            <p:cNvPr id="216" name=""/>
            <p:cNvSpPr/>
            <p:nvPr/>
          </p:nvSpPr>
          <p:spPr>
            <a:xfrm>
              <a:off x="2514600" y="1600200"/>
              <a:ext cx="274320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19520" y="6858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4) Call interface me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409120" y="1752480"/>
            <a:ext cx="3382200" cy="2067120"/>
            <a:chOff x="2409120" y="1752480"/>
            <a:chExt cx="3382200" cy="2067120"/>
          </a:xfrm>
        </p:grpSpPr>
        <p:sp>
          <p:nvSpPr>
            <p:cNvPr id="219" name=""/>
            <p:cNvSpPr/>
            <p:nvPr/>
          </p:nvSpPr>
          <p:spPr>
            <a:xfrm>
              <a:off x="2743200" y="182880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3) Get object interface pointer return to 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1752480"/>
              <a:ext cx="2971800" cy="2067120"/>
            </a:xfrm>
            <a:custGeom>
              <a:avLst/>
              <a:gdLst/>
              <a:ahLst/>
              <a:rect l="l" t="t" r="r" b="b"/>
              <a:pathLst>
                <a:path w="1872" h="1302">
                  <a:moveTo>
                    <a:pt x="1872" y="0"/>
                  </a:moveTo>
                  <a:cubicBezTo>
                    <a:pt x="1813" y="185"/>
                    <a:pt x="1747" y="926"/>
                    <a:pt x="1518" y="1113"/>
                  </a:cubicBezTo>
                  <a:cubicBezTo>
                    <a:pt x="1289" y="1300"/>
                    <a:pt x="749" y="1302"/>
                    <a:pt x="496" y="1124"/>
                  </a:cubicBezTo>
                  <a:cubicBezTo>
                    <a:pt x="243" y="946"/>
                    <a:pt x="103" y="272"/>
                    <a:pt x="0" y="48"/>
                  </a:cubicBezTo>
                </a:path>
              </a:pathLst>
            </a:custGeom>
            <a:noFill/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2409120" y="1838880"/>
              <a:ext cx="134280" cy="28404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80880" y="58672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 happens when a client wishes to create and use a COM obje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353-93A2-49A7-8DA5-20500F457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When an application uses a COM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) calls </a:t>
            </a:r>
            <a:r>
              <a:rPr b="1" lang="it-IT" sz="2400" spc="-1" strike="noStrike">
                <a:solidFill>
                  <a:srgbClr val="cc0066"/>
                </a:solidFill>
                <a:latin typeface="Garamond"/>
              </a:rPr>
              <a:t>CoCreateInstan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exported by COMPOBJ.DLL)  passing the CLSID of the used object; CoCreateInstanc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590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es the registry to discover which server implements the desidered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429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sks the server to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3886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ceives from the server a pointer to the IUnknown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) initializes the system : </a:t>
            </a:r>
            <a:r>
              <a:rPr b="1" lang="it-IT" sz="2400" spc="-1" strike="noStrike">
                <a:solidFill>
                  <a:srgbClr val="cc0066"/>
                </a:solidFill>
                <a:latin typeface="Garamond"/>
              </a:rPr>
              <a:t>CoIniti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4648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) uses </a:t>
            </a:r>
            <a:r>
              <a:rPr b="1" lang="it-IT" sz="2400" spc="-1" strike="noStrike">
                <a:solidFill>
                  <a:srgbClr val="cc0066"/>
                </a:solidFill>
                <a:latin typeface="Garamond"/>
              </a:rPr>
              <a:t>IUnknown.QueryInterfa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o access the wanted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5410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) uses </a:t>
            </a:r>
            <a:r>
              <a:rPr b="1" lang="it-IT" sz="2400" spc="-1" strike="noStrike">
                <a:solidFill>
                  <a:srgbClr val="cc0066"/>
                </a:solidFill>
                <a:latin typeface="Garamond"/>
              </a:rPr>
              <a:t>Addref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it-IT" sz="2400" spc="-1" strike="noStrike">
                <a:solidFill>
                  <a:srgbClr val="cc0066"/>
                </a:solidFill>
                <a:latin typeface="Garamond"/>
              </a:rPr>
              <a:t>Releas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o manage the object lif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5)  in the end calls </a:t>
            </a:r>
            <a:r>
              <a:rPr b="1" lang="it-IT" sz="2400" spc="-1" strike="noStrike">
                <a:solidFill>
                  <a:srgbClr val="cc0066"/>
                </a:solidFill>
                <a:latin typeface="Garamond"/>
              </a:rPr>
              <a:t>CoUninitial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D42-3CE0-47D4-B475-B2A9FC5AA0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omic Sans MS"/>
              </a:rPr>
              <a:t>COM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omic Sans MS"/>
              </a:rPr>
              <a:t>COM е патентована технология на</a:t>
            </a: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omic Sans MS"/>
              </a:rPr>
              <a:t>Microsoft Corporation</a:t>
            </a: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omic Sans MS"/>
              </a:rPr>
              <a:t>въведена през 1993 г. и</a:t>
            </a: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omic Sans MS"/>
              </a:rPr>
              <a:t>изградена около платформата Window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24F-9D8D-429C-A275-387D399D61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Comic Sans MS"/>
              </a:rPr>
              <a:t>Introducing D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441972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COM  (1995) is a seamless evolution of 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take advantage of your existing investment in COM-based applications, components, tools an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lang="en-GB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extension to CO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allows </a:t>
            </a:r>
            <a:r>
              <a:rPr b="0" lang="en-GB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network-ba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nent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514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COM 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cesses can run on the same machine but in different address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DCOM extension 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lows processes to be spread across 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5C0-F935-43A8-A5B0-A2296FEDA6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66"/>
                </a:solidFill>
                <a:latin typeface="Comic Sans MS"/>
              </a:rPr>
              <a:t>DCOM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56272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COM sits right in the middle of the components fo your application; it provides the invisible glue that ties thing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55680" y="990720"/>
            <a:ext cx="8559720" cy="4572000"/>
            <a:chOff x="355680" y="990720"/>
            <a:chExt cx="8559720" cy="4572000"/>
          </a:xfrm>
        </p:grpSpPr>
        <p:sp>
          <p:nvSpPr>
            <p:cNvPr id="240" name=""/>
            <p:cNvSpPr/>
            <p:nvPr/>
          </p:nvSpPr>
          <p:spPr>
            <a:xfrm>
              <a:off x="2438280" y="1066680"/>
              <a:ext cx="1600200" cy="1143000"/>
            </a:xfrm>
            <a:prstGeom prst="flowChartAlternateProcess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77040" y="990720"/>
              <a:ext cx="1638360" cy="914400"/>
            </a:xfrm>
            <a:prstGeom prst="flowChartAlternateProcess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31840" y="1371600"/>
              <a:ext cx="1778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32440" y="1447920"/>
              <a:ext cx="1778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09320" y="1447920"/>
              <a:ext cx="228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23880" y="1447920"/>
              <a:ext cx="5335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58840" y="2209680"/>
              <a:ext cx="3022560" cy="1371600"/>
            </a:xfrm>
            <a:prstGeom prst="flowChartProcess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58840" y="2971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59040" y="2209320"/>
              <a:ext cx="1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59040" y="2819520"/>
              <a:ext cx="14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36840" y="2209680"/>
              <a:ext cx="161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53640" y="236232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DCE R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3600" y="3048120"/>
              <a:ext cx="18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Protocol 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2209680"/>
              <a:ext cx="3022560" cy="1371600"/>
            </a:xfrm>
            <a:prstGeom prst="flowChartProcess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5680" y="3048120"/>
              <a:ext cx="15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070680" y="2209320"/>
              <a:ext cx="1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2895480"/>
              <a:ext cx="142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75040" y="2286000"/>
              <a:ext cx="161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3720" y="243828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DCE R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240" y="3124080"/>
              <a:ext cx="18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Protocol 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57680" y="4343400"/>
              <a:ext cx="2933640" cy="914400"/>
            </a:xfrm>
            <a:prstGeom prst="cloudCallout">
              <a:avLst>
                <a:gd name="adj1" fmla="val -46754"/>
                <a:gd name="adj2" fmla="val 71703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08040" y="4419720"/>
              <a:ext cx="2090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DCOM network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protoc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395000">
              <a:off x="2285640" y="3733560"/>
              <a:ext cx="838080" cy="83808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0" y="0"/>
                  </a:moveTo>
                  <a:lnTo>
                    <a:pt x="312" y="264"/>
                  </a:lnTo>
                  <a:lnTo>
                    <a:pt x="7" y="216"/>
                  </a:lnTo>
                  <a:lnTo>
                    <a:pt x="480" y="72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1320" y="3657600"/>
              <a:ext cx="914400" cy="990720"/>
            </a:xfrm>
            <a:custGeom>
              <a:avLst/>
              <a:gdLst/>
              <a:ahLst/>
              <a:rect l="l" t="t" r="r" b="b"/>
              <a:pathLst>
                <a:path w="384" h="672">
                  <a:moveTo>
                    <a:pt x="0" y="672"/>
                  </a:moveTo>
                  <a:lnTo>
                    <a:pt x="70" y="227"/>
                  </a:lnTo>
                  <a:lnTo>
                    <a:pt x="175" y="404"/>
                  </a:lnTo>
                  <a:lnTo>
                    <a:pt x="384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5680" y="3657600"/>
              <a:ext cx="17780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89040" y="5334120"/>
              <a:ext cx="711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6920" y="1066680"/>
              <a:ext cx="1523880" cy="1143000"/>
            </a:xfrm>
            <a:prstGeom prst="flowChartAlternateProcess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4480" y="1523880"/>
              <a:ext cx="5335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H="1">
            <a:off x="7009920" y="1523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5181480"/>
            <a:ext cx="60948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510552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5105520"/>
            <a:ext cx="304920" cy="88920"/>
          </a:xfrm>
          <a:custGeom>
            <a:avLst/>
            <a:gdLst/>
            <a:ahLst/>
            <a:rect l="l" t="t" r="r" b="b"/>
            <a:pathLst>
              <a:path w="192" h="56">
                <a:moveTo>
                  <a:pt x="0" y="0"/>
                </a:moveTo>
                <a:cubicBezTo>
                  <a:pt x="8" y="20"/>
                  <a:pt x="16" y="40"/>
                  <a:pt x="48" y="48"/>
                </a:cubicBezTo>
                <a:cubicBezTo>
                  <a:pt x="80" y="56"/>
                  <a:pt x="176" y="48"/>
                  <a:pt x="1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320" y="1143000"/>
            <a:ext cx="1676160" cy="91440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84C-0299-43B4-9E2A-717D10DA9F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Comic Sans MS"/>
              </a:rPr>
              <a:t>Security by Config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80880" y="1143000"/>
            <a:ext cx="8457840" cy="5105160"/>
            <a:chOff x="380880" y="1143000"/>
            <a:chExt cx="8457840" cy="51051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380880" y="1143000"/>
              <a:ext cx="84578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34600" y="4296600"/>
              <a:ext cx="169128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79320" y="3981600"/>
              <a:ext cx="199908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24680" y="3350520"/>
              <a:ext cx="123012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32760" y="2483280"/>
              <a:ext cx="17686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083480" y="3967560"/>
              <a:ext cx="283680" cy="26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57200" y="42670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00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Comic Sans MS"/>
              </a:rPr>
              <a:t>DCOM obtains use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87080" y="3886200"/>
            <a:ext cx="27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Comic Sans MS"/>
              </a:rPr>
              <a:t>2) Authenticat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2004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Comic Sans MS"/>
              </a:rPr>
              <a:t>3) Is user in the l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15120" y="2362320"/>
            <a:ext cx="25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Comic Sans MS"/>
              </a:rPr>
              <a:t>4) Fail or allow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A3E-90ED-46F6-BE26-13FAB1F866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66"/>
                </a:solidFill>
                <a:latin typeface="Comic Sans MS"/>
              </a:rPr>
              <a:t>DCOM, CORBA, R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1148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213372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Java RMI 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Java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RBA 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COM 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F2E-4CC8-407E-BD06-A334CF6ED7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Comic Sans MS"/>
              </a:rPr>
              <a:t>Java R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ery easy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moteable interfaces have a special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pports object-by-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ersioning is built into s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295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8600" y="3581280"/>
            <a:ext cx="7924680" cy="2760840"/>
            <a:chOff x="228600" y="3581280"/>
            <a:chExt cx="7924680" cy="2760840"/>
          </a:xfrm>
        </p:grpSpPr>
        <p:sp>
          <p:nvSpPr>
            <p:cNvPr id="292" name=""/>
            <p:cNvSpPr/>
            <p:nvPr/>
          </p:nvSpPr>
          <p:spPr>
            <a:xfrm>
              <a:off x="228600" y="3581280"/>
              <a:ext cx="457200" cy="457200"/>
            </a:xfrm>
            <a:prstGeom prst="smileyFace">
              <a:avLst>
                <a:gd name="adj" fmla="val -4652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5800" y="3657600"/>
              <a:ext cx="74674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allbacks are blocked in synchronized 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Not always intui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Not available to other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There are limited development tool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Performance can be slow as you 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A32-5E55-4D39-8934-E166D501B3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Comic Sans MS"/>
              </a:rPr>
              <a:t>CORBA       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rchitecture for system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as a standard terminology for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clarative interfaces separate the interface from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vides mappings from IDL to C, C++, SmallTalk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pport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volvable and marshallab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sign 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andard interoperability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calable for lar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1295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EA7-8928-45DF-9E4A-698E644CA0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1800" y="682560"/>
            <a:ext cx="7340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Comic Sans MS"/>
              </a:rPr>
              <a:t>CORBA       2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01800" y="2050560"/>
            <a:ext cx="73404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 inheritance for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jects cannot support two versions of the sam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DL is not internation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ergent security mechanisms (Kerberos, S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ew advanc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++ mapping has complicated memory management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mited developer tools (usually just an IDL 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mited concurrenc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160020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E9D-0A86-4D3D-B2C6-68557FDB38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Comic Sans MS"/>
              </a:rPr>
              <a:t>D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ots of tools, books and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parates interface from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ood integration of automation objects with VisualBasic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ood set of compound docum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icrosoft depends on it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3962520"/>
            <a:ext cx="8458200" cy="2684520"/>
            <a:chOff x="228600" y="3962520"/>
            <a:chExt cx="8458200" cy="2684520"/>
          </a:xfrm>
        </p:grpSpPr>
        <p:sp>
          <p:nvSpPr>
            <p:cNvPr id="303" name=""/>
            <p:cNvSpPr/>
            <p:nvPr/>
          </p:nvSpPr>
          <p:spPr>
            <a:xfrm>
              <a:off x="762120" y="3962520"/>
              <a:ext cx="79246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Minimal support on non-Microsoft platfo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Hard to keep registry consis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Reference counting is a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lient has to choose the interaction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" y="3962520"/>
              <a:ext cx="457200" cy="457200"/>
            </a:xfrm>
            <a:prstGeom prst="smileyFace">
              <a:avLst>
                <a:gd name="adj" fmla="val -4652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8600" y="11430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265-A46B-4D6F-90F5-5A3E30F4C7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0880" y="228600"/>
            <a:ext cx="2438640" cy="3048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2590920"/>
            <a:ext cx="3276360" cy="1828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1 :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066680"/>
            <a:ext cx="20574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inter to V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tribut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tribut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tribut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581280"/>
            <a:ext cx="2438640" cy="3048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2 :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419720"/>
            <a:ext cx="20574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inter to V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tribut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tribut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tribut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259092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inter to fun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304812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inter to fun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350532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inter to func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396252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inter to func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32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3505320"/>
            <a:ext cx="32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3962520"/>
            <a:ext cx="32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1295280"/>
            <a:ext cx="1524240" cy="137160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438280" y="2895120"/>
            <a:ext cx="1524240" cy="175284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MT of class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2819520"/>
            <a:ext cx="914400" cy="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3352680"/>
            <a:ext cx="914400" cy="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3809880"/>
            <a:ext cx="914400" cy="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4191120"/>
            <a:ext cx="914400" cy="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57200"/>
            <a:ext cx="381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6095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3366"/>
                </a:solidFill>
                <a:latin typeface="Comic Sans MS"/>
              </a:rPr>
              <a:t>VMT : Virtual Method Table 2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6C5-256F-4044-B316-0333AAF078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93366"/>
                </a:solidFill>
                <a:latin typeface="Comic Sans MS"/>
              </a:rPr>
              <a:t>MTS : Microsoft transaction Server 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container for in-process server side component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133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component-based programming mode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 An MTS component is a type of COM component that executes in the MTS run-tim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4267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lows you to 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define and use transactions within COM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3657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81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nforces 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modelling based on components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– just as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893-E262-42A4-B571-F558B25208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981680" cy="619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810-A26D-4C38-8C5A-470D1AE18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es roles and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es Just In TIME (JIT)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4724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un-time divided into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ree part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3505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rrogate Process (MTS.EX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99560" y="449568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icrosoft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rans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ordinator (MS D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1080" y="579132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TS Expl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9880" y="3657600"/>
            <a:ext cx="381240" cy="2895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6095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37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andles communication between components through 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DCOM and HTTP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93366"/>
                </a:solidFill>
                <a:latin typeface="Comic Sans MS"/>
              </a:rPr>
              <a:t>MTS : Microsoft transaction Server 2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056-08FF-4BF7-B37A-97406930D6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12800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E6A-D0F5-4E1D-8BB2-EA78AD55AE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993080" cy="537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5C6-231C-4680-8CDC-41D580FA82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Courier New"/>
              </a:rPr>
              <a:t>Методи на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blic boo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delete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accountKey) {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result =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      MessageBox.Show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"Bank::delete() invoked..."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"Key Value = "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+accountKey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     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552-9990-49F1-A3AD-145FD48215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Courier New"/>
              </a:rPr>
              <a:t>Използване на компоне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an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        </a:t>
            </a:r>
            <a:r>
              <a:rPr b="1" lang="en-US" sz="2000" spc="-1" strike="noStrike">
                <a:solidFill>
                  <a:srgbClr val="16ac3a"/>
                </a:solidFill>
                <a:latin typeface="Courier New"/>
              </a:rPr>
              <a:t>// Create the COM+ compon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.AccountManager manage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ank.AccountManager (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CEE-1340-4FAE-9735-EECD33AA67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076480" y="1209600"/>
            <a:ext cx="4991040" cy="44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813-460F-40A3-8821-8A51607520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ourier New"/>
              </a:rPr>
              <a:t>Пример 2 –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Ole automation (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1960" y="2071440"/>
            <a:ext cx="73404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Sub SpellCheck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Dim Obj A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Set Obj = CreateObject(“Excel.Application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Word = InputBox(“Enter word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If Obj.CheckSpelling(Word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MsgBox( “Valid word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MsgBox( “Word not found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868-D015-4166-8A01-516C13F3CD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6320" y="847800"/>
            <a:ext cx="773280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DEC-7AEE-4ABC-AA27-B8DFCAA64C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omic Sans MS"/>
              </a:rPr>
              <a:t>Генезис на COM и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Comic Sans MS"/>
              </a:rPr>
              <a:t>промени в технологии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Обекти за  вграждане и свързване (OLE)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• Конвенционални GUI базирани ОС, Windows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• Динамичен обмен на данни (DDE)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• Обектно-ориентирано програмиране (ООП)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•  Component Objec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</a:t>
            </a: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(COM)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• Разпределени COM (DCOM)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• COM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6FE-AEA1-477C-AE0F-5B1968B844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64680" y="5105520"/>
            <a:ext cx="1614960" cy="1119240"/>
            <a:chOff x="364680" y="5105520"/>
            <a:chExt cx="1614960" cy="1119240"/>
          </a:xfrm>
        </p:grpSpPr>
        <p:sp>
          <p:nvSpPr>
            <p:cNvPr id="50" name=""/>
            <p:cNvSpPr/>
            <p:nvPr/>
          </p:nvSpPr>
          <p:spPr>
            <a:xfrm>
              <a:off x="685800" y="5638680"/>
              <a:ext cx="1293840" cy="586080"/>
            </a:xfrm>
            <a:custGeom>
              <a:avLst/>
              <a:gdLst/>
              <a:ahLst/>
              <a:rect l="l" t="t" r="r" b="b"/>
              <a:pathLst>
                <a:path w="815" h="369">
                  <a:moveTo>
                    <a:pt x="0" y="369"/>
                  </a:moveTo>
                  <a:lnTo>
                    <a:pt x="0" y="0"/>
                  </a:lnTo>
                  <a:lnTo>
                    <a:pt x="81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4680" y="5105520"/>
              <a:ext cx="152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u="sng">
                  <a:solidFill>
                    <a:srgbClr val="0000ff"/>
                  </a:solidFill>
                  <a:uFillTx/>
                  <a:latin typeface="Comic Sans MS"/>
                  <a:hlinkClick r:id="rId1" action="ppaction://hlinksldjump"/>
                </a:rPr>
                <a:t>clipbo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981080" y="4495680"/>
            <a:ext cx="1293840" cy="1119240"/>
            <a:chOff x="1981080" y="4495680"/>
            <a:chExt cx="1293840" cy="1119240"/>
          </a:xfrm>
        </p:grpSpPr>
        <p:sp>
          <p:nvSpPr>
            <p:cNvPr id="53" name=""/>
            <p:cNvSpPr/>
            <p:nvPr/>
          </p:nvSpPr>
          <p:spPr>
            <a:xfrm>
              <a:off x="1981080" y="5029200"/>
              <a:ext cx="1293840" cy="585720"/>
            </a:xfrm>
            <a:custGeom>
              <a:avLst/>
              <a:gdLst/>
              <a:ahLst/>
              <a:rect l="l" t="t" r="r" b="b"/>
              <a:pathLst>
                <a:path w="815" h="369">
                  <a:moveTo>
                    <a:pt x="0" y="369"/>
                  </a:moveTo>
                  <a:lnTo>
                    <a:pt x="0" y="0"/>
                  </a:lnTo>
                  <a:lnTo>
                    <a:pt x="81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44160" y="4495680"/>
              <a:ext cx="7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u="sng">
                  <a:solidFill>
                    <a:srgbClr val="0000ff"/>
                  </a:solidFill>
                  <a:uFillTx/>
                  <a:latin typeface="Comic Sans MS"/>
                  <a:hlinkClick r:id="rId2" action="ppaction://hlinksldjump"/>
                </a:rPr>
                <a:t>D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276720" y="3886200"/>
            <a:ext cx="1293840" cy="1119240"/>
            <a:chOff x="3276720" y="3886200"/>
            <a:chExt cx="1293840" cy="1119240"/>
          </a:xfrm>
        </p:grpSpPr>
        <p:sp>
          <p:nvSpPr>
            <p:cNvPr id="56" name=""/>
            <p:cNvSpPr/>
            <p:nvPr/>
          </p:nvSpPr>
          <p:spPr>
            <a:xfrm>
              <a:off x="3276720" y="4419720"/>
              <a:ext cx="1293840" cy="585720"/>
            </a:xfrm>
            <a:custGeom>
              <a:avLst/>
              <a:gdLst/>
              <a:ahLst/>
              <a:rect l="l" t="t" r="r" b="b"/>
              <a:pathLst>
                <a:path w="815" h="369">
                  <a:moveTo>
                    <a:pt x="0" y="369"/>
                  </a:moveTo>
                  <a:lnTo>
                    <a:pt x="0" y="0"/>
                  </a:lnTo>
                  <a:lnTo>
                    <a:pt x="81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48080" y="3886200"/>
              <a:ext cx="74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u="sng">
                  <a:solidFill>
                    <a:srgbClr val="0000ff"/>
                  </a:solidFill>
                  <a:uFillTx/>
                  <a:latin typeface="Comic Sans MS"/>
                  <a:hlinkClick r:id="rId3" action="ppaction://hlinksldjump"/>
                </a:rPr>
                <a:t>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572000" y="3200400"/>
            <a:ext cx="2589120" cy="1195560"/>
            <a:chOff x="4572000" y="3200400"/>
            <a:chExt cx="2589120" cy="1195560"/>
          </a:xfrm>
        </p:grpSpPr>
        <p:sp>
          <p:nvSpPr>
            <p:cNvPr id="59" name=""/>
            <p:cNvSpPr/>
            <p:nvPr/>
          </p:nvSpPr>
          <p:spPr>
            <a:xfrm>
              <a:off x="4572000" y="3809880"/>
              <a:ext cx="1293840" cy="586080"/>
            </a:xfrm>
            <a:custGeom>
              <a:avLst/>
              <a:gdLst/>
              <a:ahLst/>
              <a:rect l="l" t="t" r="r" b="b"/>
              <a:pathLst>
                <a:path w="815" h="369">
                  <a:moveTo>
                    <a:pt x="0" y="369"/>
                  </a:moveTo>
                  <a:lnTo>
                    <a:pt x="0" y="0"/>
                  </a:lnTo>
                  <a:lnTo>
                    <a:pt x="81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3200400"/>
              <a:ext cx="1293840" cy="585720"/>
            </a:xfrm>
            <a:custGeom>
              <a:avLst/>
              <a:gdLst/>
              <a:ahLst/>
              <a:rect l="l" t="t" r="r" b="b"/>
              <a:pathLst>
                <a:path w="815" h="369">
                  <a:moveTo>
                    <a:pt x="0" y="369"/>
                  </a:moveTo>
                  <a:lnTo>
                    <a:pt x="0" y="0"/>
                  </a:lnTo>
                  <a:lnTo>
                    <a:pt x="81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21760" y="335268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391520" y="838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66"/>
                </a:solidFill>
                <a:latin typeface="Comic Sans MS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omic Sans MS"/>
              </a:rPr>
              <a:t>Интегритет м/у приложения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omic Sans MS"/>
              </a:rPr>
              <a:t>Комуникация м/у т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ED5-9D75-46AF-83E3-80695AB852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737120" y="53352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66"/>
                </a:solidFill>
                <a:latin typeface="Comic Sans MS"/>
              </a:rPr>
              <a:t>2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4792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LL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ависимост о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азположениет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ависимост от е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81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 технологията се решават т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и пробле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овишена защи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оддържа възможност за множество потреб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оддържат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B connection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800" y="715680"/>
            <a:ext cx="7269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66"/>
                </a:solidFill>
                <a:latin typeface="Comic Sans MS"/>
              </a:rPr>
              <a:t>DLL </a:t>
            </a:r>
            <a:r>
              <a:rPr b="1" lang="bg-BG" sz="3600" spc="-1" strike="noStrike">
                <a:solidFill>
                  <a:srgbClr val="993366"/>
                </a:solidFill>
                <a:latin typeface="Comic Sans MS"/>
              </a:rPr>
              <a:t> и </a:t>
            </a:r>
            <a:r>
              <a:rPr b="1" lang="en-US" sz="3600" spc="-1" strike="noStrike">
                <a:solidFill>
                  <a:srgbClr val="993366"/>
                </a:solidFill>
                <a:latin typeface="Comic Sans MS"/>
              </a:rPr>
              <a:t>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F45-7F4A-4E87-A732-B8C610040B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 Т</a:t>
            </a:r>
            <a:r>
              <a:rPr b="1" lang="bg-BG" sz="3600" spc="-1" strike="noStrike">
                <a:solidFill>
                  <a:srgbClr val="000000"/>
                </a:solidFill>
                <a:latin typeface="Comic Sans MS"/>
              </a:rPr>
              <a:t>ерми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514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0686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6450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1960" y="1773360"/>
            <a:ext cx="531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bination of code and data that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treated as a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reusable piece of executab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can be used with other application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efforts; could be .EXE, .DLL or .O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functions grouped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one name; COM can support more t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ynamic link library is a highly reus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that can communicate with object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/server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320" y="5229360"/>
            <a:ext cx="39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globally unique identifier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bit integers used to identify e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and component objec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96F-E5B9-4B19-9C16-F5E2C93E6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Defini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[ object, uuid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E7CD0D00-1827-11CF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9946444553540000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interface ISpellChecker : IUnknow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import “unknown.idl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HRESULT LookUpWord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[in] OLECHAR word[31]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[out] boolean *foun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HRESULT AddToDictionary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[in] OLECHAR word[3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HRESULT RemoveFromDictionary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[in] OLECHAR word[3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EC1-EF61-4140-9DA3-F8AE5CBD8B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08:13:56Z</dcterms:created>
  <dc:creator>Template User</dc:creator>
  <dc:description/>
  <dc:language>en-US</dc:language>
  <cp:lastModifiedBy>koko</cp:lastModifiedBy>
  <dcterms:modified xsi:type="dcterms:W3CDTF">2010-10-01T06:11:15Z</dcterms:modified>
  <cp:revision>128</cp:revision>
  <dc:subject/>
  <dc:title>Introduction : walking towards COM</dc:title>
</cp:coreProperties>
</file>