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46F-DAA0-4B8B-9C19-B1CF37D4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BD7-6940-4848-A7B5-EF87FE9F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479-2718-4641-B5FC-0B60825C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F4E-C417-40E3-BA54-34F0E6F2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2DC6-63D8-4A23-A79F-C065AD26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CEC3-C57E-492D-A86A-C421C41C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705E-38FD-46EE-A3AF-E3ED61E0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B256-BFB0-44F7-9949-18DFBF14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64C2-EBA8-47C4-9DD3-215214BF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409E-F5EE-4A57-AD00-C78B3331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018D-E369-449C-8B90-2EE8C438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142-755C-4EA9-8455-2ADE9C50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676A-315F-4CB9-BF55-BD76B358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5B6C-FE0F-41EA-A82E-4EB53CC1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26BC-96F9-4841-933D-393B8807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8C60-3D59-41CA-8546-CD06572E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C498-AE55-49BC-8813-6D70CBAF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AD2-7796-4490-B247-2F3CAE5F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980-440D-414D-AD27-29442C19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FC9-68FA-499B-83BA-09754922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844-6418-4F6A-9A4F-8B4C5A58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12D-4B1E-4139-96C4-578195C8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5EC-19CD-46C5-B520-EBDE8608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456-BB99-48C3-A5D3-82FF500E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F315-AB82-428A-80DD-94AC32BE28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125A-A46B-4E47-B26E-2FA023D388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ActiveX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ctiveX контролите като Connectable обек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87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лиентът, желаещ ползване на определе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onnectionPoin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извиква функцият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Interface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за интерфейс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onnectionPointContain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Ако това е успешно, клиентът подава указател към сво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fication sink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нтерфейс към сървъра чрез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onnectionPoin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Притежавайки този указател, сървърът подава нотификационни съобщения на клие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42920" y="1700280"/>
            <a:ext cx="7058160" cy="1944360"/>
            <a:chOff x="1042920" y="1700280"/>
            <a:chExt cx="7058160" cy="1944360"/>
          </a:xfrm>
        </p:grpSpPr>
        <p:sp>
          <p:nvSpPr>
            <p:cNvPr id="134" name=""/>
            <p:cNvSpPr/>
            <p:nvPr/>
          </p:nvSpPr>
          <p:spPr>
            <a:xfrm>
              <a:off x="2431440" y="2607840"/>
              <a:ext cx="34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78480" y="2545560"/>
              <a:ext cx="115560" cy="129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737000" y="221868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671080" y="2607840"/>
              <a:ext cx="23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81080" y="286704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481080" y="221868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69680" y="2089080"/>
              <a:ext cx="115560" cy="129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5640" y="3126240"/>
              <a:ext cx="115560" cy="129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55520" y="2545560"/>
              <a:ext cx="115560" cy="129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2840" y="2089080"/>
              <a:ext cx="115560" cy="129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431440" y="2607840"/>
              <a:ext cx="312408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09960" y="2607840"/>
              <a:ext cx="342288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2894040" y="2607840"/>
              <a:ext cx="300816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42920" y="1700280"/>
              <a:ext cx="19670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ropertyNotifySi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71080" y="1700280"/>
              <a:ext cx="19670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onnectionPoi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02560" y="2477880"/>
              <a:ext cx="1272600" cy="388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ървъ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8480" y="2477880"/>
              <a:ext cx="1272600" cy="388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лиен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55520" y="3255840"/>
              <a:ext cx="25455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onnectionPoint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ctiveX контролите като Connectable обек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Реализацията на тези интерфейси е тежка задач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FC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предоставя подразбираща се имплементация за тях в класовет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onnectionPoin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onnectionPointContaine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Механизмът на интерфейси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нтерфейсъ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onnectionPointContain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се използва, за да предостави на контро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ispatch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нтерфейсен указател за контейнера. Следователно контейнерът също 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on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обек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 помощта на този указател контролът извиква методи от контейнера в реакция на свои съби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т своя страна, за да се информира какви събития може да предизвика контрола, както и за да съберат информация за него, контейнерите могат да ползват методи от интерфейсит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rovideClassInfo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 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ypeInfo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а контрола, даващи достъп до информация за типовете на контрол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ропъртита, събития и методи на ActiveX контрола</a:t>
            </a:r>
            <a:r>
              <a:rPr b="0" lang="bg-BG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заимодействие с контролите става чрез пропърти (атрибути), методи (експонирани функции, които могат да се приложат към контрола чрез интерфейс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ispatch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) и събития (съобщения, предавани към контейнера от контрола, както беше описано по-гор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Атрибути (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perties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X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нтролите имплементират свойства, с което позволяват да бъдат модифицирани в зависимост от нуждите на дадено прилож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идове свой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управляващи средата за съвпадане с поведението на клиента - например цвят на фона, шрифт,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разширени – реализират се в клиента, но се ползват и от контрола. Например подредба на бутони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E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нтрола, съобразно настройки в клиен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тандартни - те се придават на контрола, но се реализират от Active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ment Kit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отребител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за стандартните и за потребителските свойства е необходимо да се знаят имената 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ID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(dispatch) идентификаторите, определени в спецификацията на контрол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Методи (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ods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Методите са функции, реализирани точно така, както и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E Automation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при използване на интерфейс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ispatch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. Те могат да бъдат извиквани за изпълнение на някаква полезна рабо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Методите могат да се разделят на потребитески и стандарт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ъбития (Е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ents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X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нтролът поддържа и събитийно множество. Събитията се използват за изпращане на нотификационни съобщения от контрола към контейнера, който съдържа контрола - например кликване с миш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идове събит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тандартни – реализирани са от развойната среда и се извикват подобно на стандартните функции, например генериране съобщение при грешка - FireError(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требителски – за дефинирането им са предвидени облекчаващи средства в средата. За тях, както в автоматизацията, трябва да използваме за повикване име и dispatch идентификат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b2b2b2"/>
                </a:solidFill>
                <a:latin typeface="Arial"/>
              </a:rPr>
              <a:t>Амбиентни свойст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войства, които контейнерът предоставя за проверка или настройка на контрол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ример: контролът може да се настрои да изглежда като използващия го в момента контейнер (например цвят на фо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b2b2b2"/>
                </a:solidFill>
                <a:latin typeface="Arial"/>
              </a:rPr>
              <a:t>Амбиентни свойст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ринцип на реализация: ползване на автоматизацията (амбиентното свойство е automation свойство), и посредничеството на интерфейса Idispatch, реализиран в контейне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Амбиентните свойства са точно специфицирани в стандарта като имена и dispatch идентификатори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b2b2b2"/>
                </a:solidFill>
                <a:latin typeface="Arial"/>
              </a:rPr>
              <a:t>Амбиентни свойст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eControl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опростява извличането на амбиентни свойства, като реализира обвиващи функции, които извикват функцият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ispatch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: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oke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идове свой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19280" y="4437000"/>
            <a:ext cx="6121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b2b2b2"/>
                </a:solidFill>
                <a:latin typeface="Arial"/>
              </a:rPr>
              <a:t>Амбиентни свойст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Амбиентно свойство, за което липсва специална функция, може да се прочете с помощта на функцият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AmbientProperty()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с подаде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аtch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идентификатор на свойствот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Ако някое амбиентно свойство се промени в контейнера, то за това следва да се уведоми контролъ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veX контрол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X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контролите са най-популярната за момента част о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X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технологията.  Освен тях се използва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X Data Object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Server Pages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P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Те с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базирани и следователно се подчиняват на правилата и концепциите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мо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b2b2b2"/>
                </a:solidFill>
                <a:latin typeface="Arial"/>
              </a:rPr>
              <a:t>Амбиентни свойст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ова става в предефинираната функц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eControl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: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AmbientPropertyChange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в класа на контрола. Тя се извиква, когато контейнерът трябва да уведоми контрола, че някое амбиентно свойство се е променило. Като параметър на повикването се подав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h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идентификатор на амбиентното свойство. В кода на тази функция контролът трябва да реализира реакцията си. Най-често тя се свежда до прерисуване на контрола (прави се обръщение към метод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alidateControl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Контейнери на ActiveX контроли</a:t>
            </a:r>
            <a:r>
              <a:rPr b="0" lang="bg-BG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нтейнерът 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обект. Това се налага поради необходимостта да се комуникира с контрола, което може да стане с посредничеството на интерфейс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3941280"/>
            <a:ext cx="8229600" cy="218916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2916360" y="3500280"/>
            <a:ext cx="4031640" cy="2665440"/>
            <a:chOff x="2916360" y="3500280"/>
            <a:chExt cx="4031640" cy="2665440"/>
          </a:xfrm>
        </p:grpSpPr>
        <p:sp>
          <p:nvSpPr>
            <p:cNvPr id="177" name=""/>
            <p:cNvSpPr/>
            <p:nvPr/>
          </p:nvSpPr>
          <p:spPr>
            <a:xfrm>
              <a:off x="2916360" y="3500280"/>
              <a:ext cx="1146960" cy="2665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83760" y="3659400"/>
              <a:ext cx="114480" cy="14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83760" y="4110480"/>
              <a:ext cx="114480" cy="14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83760" y="5512320"/>
              <a:ext cx="114480" cy="14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95440" y="3742560"/>
              <a:ext cx="68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33640" y="4027680"/>
              <a:ext cx="10321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ейне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риемни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а събития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13080" y="3600000"/>
              <a:ext cx="1834920" cy="23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InPlaceFra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ClientS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ControlS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Dispatc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Dispatc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ropertyNotifySi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5440" y="4170240"/>
              <a:ext cx="68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95440" y="5595480"/>
              <a:ext cx="68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Контейнери на ActiveX контрол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leInPlaceFrame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- Използва се з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активира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ropertyNotifySink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- Използва се при нотификационни съобщения от контрола към контейн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Dispatch</a:t>
            </a:r>
            <a:r>
              <a:rPr b="0" lang="bg-BG" sz="2800" spc="-1" strike="noStrike">
                <a:solidFill>
                  <a:srgbClr val="ffffcc"/>
                </a:solidFill>
                <a:latin typeface="Arial"/>
              </a:rPr>
              <a:t> - Предоставя амбиентните свойства на контейн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IDdispatch</a:t>
            </a:r>
            <a:r>
              <a:rPr b="0" lang="bg-BG" sz="2800" spc="-1" strike="noStrike">
                <a:solidFill>
                  <a:srgbClr val="666699"/>
                </a:solidFill>
                <a:latin typeface="Arial"/>
              </a:rPr>
              <a:t> - Използва се за отработване на събития (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еvents)</a:t>
            </a:r>
            <a:r>
              <a:rPr b="0" lang="bg-BG" sz="2800" spc="-1" strike="noStrike">
                <a:solidFill>
                  <a:srgbClr val="666699"/>
                </a:solidFill>
                <a:latin typeface="Arial"/>
              </a:rPr>
              <a:t> от контейн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leControlSite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- Базов интерфейс на сайт с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X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контр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5541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71640" y="404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рхитек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руги 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veX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 технолог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X Data Objects (ADO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Server P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Movie  &gt;&gt;&gt;&gt;&gt; DirectSho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Messaging &gt;&gt;&gt;&gt;&gt; Collaboration Data O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Scrip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X Streaming Format (AS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имер  .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Ще разгледаме пример за създаване 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X  control,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ойто използваме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ml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страница. Ще демонстрираме как чре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va Script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се предават параметри на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ctiveX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tml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контро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2466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veX контрол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X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нтрол - функционално завършено парче код, пакетирано за многократно използване и предоставящо определен интерфейс за взаимодействие с клиентите 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ActiveX контролът е COM обект, но задължен да имплементира определени интерфейси, които го карат да се държи като контро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нтролите задължително имплементират само интерфейс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nknown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вечето контроли имплементират интерфейса IDispatch, което ги прави Automation сървъри (експонират методи и свойств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veX контрол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контролите могат да са както видими (поддържат свой прозорец), така и невидими, при което те нямат свой прозорец – рисуват се в прозореца на контейне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veX контрол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нтролът може да е активен (с или без прозорец) или неактивен. Тогава контейнерът го изобразява в своя прозорец от изображение, взето от метафайл. Така се спестява ресурс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X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контролът се активира при кликване с бутона на мишката върху неговия образ. За целта се използва интерфейсъ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ointerInactive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на контрола, който следи движенията на мишка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veX контрол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ай-често контролите се реализират кат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ървъри (т.е те са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LL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якои от интерфейси, които контролите имплементират нямат реализира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shalling 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механизъм за настройка при междупроцесен обмен. Реализацията на такъв е доста обемна зада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-бърза реакция отколкото при реализация 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сървъ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 миналот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нтролите бяха сам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Интерфейси на ActivеX контролите</a:t>
            </a:r>
            <a:r>
              <a:rPr b="0" lang="bg-BG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908000" y="1700280"/>
            <a:ext cx="4751640" cy="4248000"/>
            <a:chOff x="1908000" y="1700280"/>
            <a:chExt cx="4751640" cy="4248000"/>
          </a:xfrm>
        </p:grpSpPr>
        <p:sp>
          <p:nvSpPr>
            <p:cNvPr id="112" name=""/>
            <p:cNvSpPr/>
            <p:nvPr/>
          </p:nvSpPr>
          <p:spPr>
            <a:xfrm>
              <a:off x="1908000" y="1700280"/>
              <a:ext cx="1104840" cy="424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44400" y="2218320"/>
              <a:ext cx="110160" cy="10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44400" y="2425320"/>
              <a:ext cx="110160" cy="10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4400" y="2736360"/>
              <a:ext cx="110160" cy="10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33880" y="5740920"/>
              <a:ext cx="110160" cy="10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12840" y="2218320"/>
              <a:ext cx="3312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2840" y="2425320"/>
              <a:ext cx="3312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12840" y="2736360"/>
              <a:ext cx="3312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12840" y="5740920"/>
              <a:ext cx="2206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4400" y="3461400"/>
              <a:ext cx="110160" cy="103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44400" y="3876120"/>
              <a:ext cx="110160" cy="103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4400" y="4290480"/>
              <a:ext cx="110160" cy="103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8160" y="3876120"/>
              <a:ext cx="8838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C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8040" y="2010960"/>
              <a:ext cx="2541600" cy="37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Objec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Contr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InPlaceActiveObjec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InPlaceActiveWindowle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Cach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ViewObjectE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DataObjec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ersistMemo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QuickActiva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ersistPropertyBa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ersist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ersistStreamIn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ersistStreamIn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Dispatc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rovideClassInfo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SpecifyPropertyPag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erPropertyBrows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bg-BG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onnectionPointConain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Интерфейси на ActivеX контролит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onnectionPointContain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ползва се при нотификационни съобщ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ataObjec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- Предоставя за достъп данни от контр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ispatch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- Поддържа автоматизация. Предоставя по определен начин за достъп методи и данни на контро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OleCach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- Управлява кеш памет за обменяните дан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OleContro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- Базов интерфейс, който прави контро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OleInPlaceActiveObjec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- Позволяв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place 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тивир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erPropertyBrowsing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- Позволява контейнер да извлича информация за свойства на контрола, например имената 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ersistMemory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- Прави данните на контрола персистентни – те могат да се съхраняват и впоследствие да се използват отно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ctiveX контролите като Connectable обекти</a:t>
            </a:r>
            <a:r>
              <a:rPr b="0" lang="bg-BG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X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контролите комуникират със своите контейнери по дефиниран протокол, чрез специфични интерфейс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onnectionPoin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реализиран е в контрола и позволява клиента да заяви желанието си з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 notification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onnectionPointContaine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- използва се за запитване на обект дали поддържа първия интерфейс. Притежава функции връщащи указател към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onnectionPoin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или повече указатели към няколко такива интерфейса (ако има такива реализирани в обект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54:08Z</dcterms:created>
  <dc:creator>fallen angel</dc:creator>
  <dc:description/>
  <dc:language>en-US</dc:language>
  <cp:lastModifiedBy>koko</cp:lastModifiedBy>
  <dcterms:modified xsi:type="dcterms:W3CDTF">2010-10-08T02:04:14Z</dcterms:modified>
  <cp:revision>7</cp:revision>
  <dc:subject/>
  <dc:title>  ActiveX</dc:title>
</cp:coreProperties>
</file>