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865-D7D6-41D0-B78D-0105A4AD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F57-06B0-4EEB-BDBD-CD514BE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E35-B671-4A06-B3BE-25CD0098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C35-E973-44DB-A028-D83F1260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F2A-091A-4D6F-B9D0-8867B03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F60-DC8C-4678-BAB8-5C2815FE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125-C8BA-4C62-B2EB-54A3915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3A2-DA9E-43E1-9C82-18F27F08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292-8D57-4808-86E8-2A5F2227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4E1-E588-42D9-A21E-34ADB75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7C6-397B-479D-90E2-E9BC4CD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898-9CA3-448A-8B16-06B2DAB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3B6F-9042-4F9F-A029-13AF9F49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880" y="533520"/>
            <a:ext cx="903528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Химична термодина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снови на химичната термодинамика. Основни понят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истема, параметри, състояние, уравнение на състояние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роцес, обратим равновесен процес, функции на състояниет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ърви термодинамичен принцип. Вътрешна енергия, топли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работа, изобарен процес, енталп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Втори термодинамичен принцип. Самопроизволн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несамопроизволни процеси, ентропия, енергия на Гиб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Химично равновес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AE7-A365-4872-A750-7FEE03C7A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8000" y="19224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200" y="83808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Топлинен капаците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количеството топлина, необходимо да се внес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, за да се повиши температурата й с един град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733920" y="1900080"/>
          <a:ext cx="1752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00080"/>
                    <a:ext cx="1752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60080" y="266688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е се изменя съществено с температур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172200" y="2590920"/>
          <a:ext cx="18288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590920"/>
                    <a:ext cx="18288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85800" y="4419720"/>
            <a:ext cx="358128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стензивни величин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порционални на ма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итивност – сума от отдел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асти на систе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352680"/>
            <a:ext cx="3048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, H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9625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352680"/>
            <a:ext cx="3048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419720"/>
            <a:ext cx="335268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нзивни величин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зависи от ма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96252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9C6-3811-48A9-9727-2DBABFBCB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3840" y="-7632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зависи от вида и количеството на вещ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057400"/>
            <a:ext cx="144756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2388"/>
              <a:gd name="adj5" fmla="val -59847"/>
              <a:gd name="adj6" fmla="val 1378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личество вещество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(m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286000"/>
            <a:ext cx="175284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5162"/>
              <a:gd name="adj5" fmla="val -46935"/>
              <a:gd name="adj6" fmla="val -787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ларен топлинен капацитет [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тия компон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18288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5208"/>
              <a:gd name="adj5" fmla="val -79949"/>
              <a:gd name="adj6" fmla="val 1091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аса на веществот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2286000"/>
            <a:ext cx="175248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17842"/>
              <a:gd name="adj5" fmla="val -49263"/>
              <a:gd name="adj6" fmla="val -2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ецифичен топлинен капацитет [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тия компон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733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 зависи от начина на провеждане на процеса, агрегатно състояние и температу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560" y="45925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3440" y="4572000"/>
          <a:ext cx="36799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4572000"/>
                    <a:ext cx="36799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61040" y="50896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84440" y="5068800"/>
          <a:ext cx="351936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068800"/>
                    <a:ext cx="3519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6120" y="5638680"/>
            <a:ext cx="87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за идеален га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пренебрегва се взаимодействието между молекул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6095880"/>
          <a:ext cx="1523880" cy="4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6095880"/>
                    <a:ext cx="15238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382120" y="609588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= 8.314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универсална газова константа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8640" y="762120"/>
            <a:ext cx="3301920" cy="868320"/>
            <a:chOff x="458640" y="762120"/>
            <a:chExt cx="3301920" cy="868320"/>
          </a:xfrm>
        </p:grpSpPr>
        <p:graphicFrame>
          <p:nvGraphicFramePr>
            <p:cNvPr id="201" name=""/>
            <p:cNvGraphicFramePr/>
            <p:nvPr/>
          </p:nvGraphicFramePr>
          <p:xfrm>
            <a:off x="1143000" y="1066680"/>
            <a:ext cx="152388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3000" y="1066680"/>
                      <a:ext cx="152388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458640" y="762120"/>
              <a:ext cx="33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моларен топлинен капац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53240" y="762120"/>
            <a:ext cx="3688920" cy="896760"/>
            <a:chOff x="4953240" y="762120"/>
            <a:chExt cx="3688920" cy="896760"/>
          </a:xfrm>
        </p:grpSpPr>
        <p:graphicFrame>
          <p:nvGraphicFramePr>
            <p:cNvPr id="205" name=""/>
            <p:cNvGraphicFramePr/>
            <p:nvPr/>
          </p:nvGraphicFramePr>
          <p:xfrm>
            <a:off x="5181480" y="990720"/>
            <a:ext cx="1828800" cy="668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81480" y="990720"/>
                      <a:ext cx="182880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953240" y="762120"/>
              <a:ext cx="36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специфичен топлинен капац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24C-7068-4A70-AFF2-066E5DC7C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8000" y="19224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240" y="812880"/>
            <a:ext cx="87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3300"/>
                </a:solidFill>
                <a:uFillTx/>
                <a:latin typeface="Arial"/>
              </a:rPr>
              <a:t>Топлина на реакцият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- количеството топлина, което се обменя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стемата и  околната среда за получаване на толкова мола вещ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лкото са стехиометричните коефициенти на крайните продукт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3760" y="2362320"/>
            <a:ext cx="770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плината на реакцията може да се определи по изменение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трешната енерг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при постоянен обем) или на енталпия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при постоянно наляган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0040" y="3962520"/>
            <a:ext cx="884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функции на състоянието </a:t>
            </a:r>
            <a:r>
              <a:rPr b="0" lang="fi-F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оплината на една химична реа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 зависи от характера и последователността на отделните етап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 се определя само от началните и крайните продукти на реа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 тяхното физическо състояние (закон на Хес)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F7E-02DA-4E2A-93E8-5BBA91483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204920" cy="156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81680" y="3352680"/>
            <a:ext cx="1016280" cy="1541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523880"/>
            <a:ext cx="4572000" cy="94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кзотермична реак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хода на процеса се отделя топли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нака на топлината е отрицателен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Q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00" y="3886200"/>
            <a:ext cx="4606200" cy="94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ндотермична реакц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хода на процеса се поглъща топли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нака на топлината е положителен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Q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182880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99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42670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99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000" y="19224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9680" y="72216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идове реакции според обменената топлина с окол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759-1785-4DFA-B5C3-757A463641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8360" y="192240"/>
            <a:ext cx="64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7560" y="7984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ложение на закона на Х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11480" y="1362240"/>
          <a:ext cx="53323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1362240"/>
                    <a:ext cx="53323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09480" y="2819520"/>
            <a:ext cx="7445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топлината, която се внася изобарно (използвана е енталп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получаването на 1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3614760"/>
          <a:ext cx="266688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614760"/>
                    <a:ext cx="2666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93640" y="4456080"/>
            <a:ext cx="8123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топлината за получаването на 2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директно от въглерод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ислорода по първата ре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топлината за получаване на същото количество  от същ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ходни продукти, но по друг път – чрез получаван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ка законът на Хес позволява да се определят топлини на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са познати топлините на подходящ набор от други реакции.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620-BDDB-4704-B562-A6DCB0EA4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981080" y="914400"/>
          <a:ext cx="53326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914400"/>
                    <a:ext cx="53326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88360" y="192240"/>
            <a:ext cx="64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920" y="2590920"/>
            <a:ext cx="5271840" cy="3796920"/>
            <a:chOff x="304920" y="2590920"/>
            <a:chExt cx="5271840" cy="3796920"/>
          </a:xfrm>
        </p:grpSpPr>
        <p:sp>
          <p:nvSpPr>
            <p:cNvPr id="232" name=""/>
            <p:cNvSpPr/>
            <p:nvPr/>
          </p:nvSpPr>
          <p:spPr>
            <a:xfrm flipV="1">
              <a:off x="1142640" y="2666520"/>
              <a:ext cx="0" cy="32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2640" y="5867280"/>
              <a:ext cx="320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304920" y="2590920"/>
            <a:ext cx="685440" cy="42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2590920"/>
                      <a:ext cx="68544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6" name=""/>
            <p:cNvSpPr/>
            <p:nvPr/>
          </p:nvSpPr>
          <p:spPr>
            <a:xfrm>
              <a:off x="3431520" y="6019560"/>
              <a:ext cx="21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ход на реакция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2640" y="3276360"/>
              <a:ext cx="2971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2640" y="4114800"/>
              <a:ext cx="29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7000" y="305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08040" y="2833560"/>
              <a:ext cx="929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+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76160" y="327636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1904760" y="3448080"/>
            <a:ext cx="685440" cy="513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4760" y="3448080"/>
                      <a:ext cx="685440" cy="51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"/>
            <p:cNvSpPr/>
            <p:nvPr/>
          </p:nvSpPr>
          <p:spPr>
            <a:xfrm>
              <a:off x="3428640" y="3276360"/>
              <a:ext cx="0" cy="259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3581280" y="4159080"/>
            <a:ext cx="914040" cy="53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1280" y="4159080"/>
                      <a:ext cx="914040" cy="53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438280" y="4114800"/>
              <a:ext cx="0" cy="175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2514240" y="4800600"/>
            <a:ext cx="761760" cy="570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240" y="4800600"/>
                      <a:ext cx="76176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0" name=""/>
          <p:cNvGraphicFramePr/>
          <p:nvPr/>
        </p:nvGraphicFramePr>
        <p:xfrm>
          <a:off x="5018040" y="3733920"/>
          <a:ext cx="3222720" cy="105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8040" y="3733920"/>
                    <a:ext cx="3222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D33-9D8B-47B9-AB4A-1E5A637B7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88360" y="192240"/>
            <a:ext cx="64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560" y="685800"/>
            <a:ext cx="79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як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акция може да се разглежда като протичаща в два е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лагане на изходните вещества до прости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разуване на крайни 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836880"/>
            <a:ext cx="86533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Топлината за образуване на 1 </a:t>
            </a:r>
            <a:r>
              <a:rPr b="0" lang="fi-FI" sz="1800" spc="-1" strike="noStrike">
                <a:solidFill>
                  <a:srgbClr val="ff3300"/>
                </a:solidFill>
                <a:latin typeface="Arial"/>
              </a:rPr>
              <a:t>mol</a:t>
            </a: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 вещество от съставящите го п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вещества, взети в стабилното за дадените условия агрегатно състоя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се нарича топлина на образуване и се бележи с </a:t>
            </a:r>
            <a:r>
              <a:rPr b="0" i="1" lang="bg-BG" sz="1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fi-FI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fi-FI" sz="1800" spc="-1" strike="noStrike" baseline="-25000">
                <a:solidFill>
                  <a:srgbClr val="ff3300"/>
                </a:solidFill>
                <a:latin typeface="Arial"/>
              </a:rPr>
              <a:t>f</a:t>
            </a:r>
            <a:r>
              <a:rPr b="0" i="1" lang="bg-BG" sz="1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fi-FI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 на простите вещества в стабилното агрегатно състояние е н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андартните моларни топлини на образуване при температура 298 К и налягане 1013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Pa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 се бележат с </a:t>
            </a:r>
            <a:r>
              <a:rPr b="1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bg-BG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 baseline="-25000">
                <a:solidFill>
                  <a:srgbClr val="000000"/>
                </a:solidFill>
                <a:latin typeface="Arial"/>
              </a:rPr>
              <a:t>,298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могат да бъдат намерени в таблиц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38560" y="1981080"/>
            <a:ext cx="7444440" cy="1488600"/>
            <a:chOff x="538560" y="1981080"/>
            <a:chExt cx="7444440" cy="1488600"/>
          </a:xfrm>
        </p:grpSpPr>
        <p:sp>
          <p:nvSpPr>
            <p:cNvPr id="256" name=""/>
            <p:cNvSpPr/>
            <p:nvPr/>
          </p:nvSpPr>
          <p:spPr>
            <a:xfrm>
              <a:off x="538560" y="1981080"/>
              <a:ext cx="228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изходни вещ</a:t>
              </a:r>
              <a:r>
                <a:rPr b="1" lang="fi-FI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7560" y="2220120"/>
              <a:ext cx="256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2040" y="199872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крайни продук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09040" y="2433960"/>
              <a:ext cx="848160" cy="87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733360" y="2397240"/>
              <a:ext cx="771840" cy="906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94360" y="310140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прости 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8480" y="2702520"/>
              <a:ext cx="92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bg-BG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fi-FI" sz="24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fi-FI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66160" y="261288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fi-FI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i-FI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fi-FI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B00-1C5F-40ED-8DB7-7D525E226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8360" y="192240"/>
            <a:ext cx="64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6000" y="852480"/>
            <a:ext cx="63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ъгласно закона на Хес топлината на реакцията ще бъ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1406520"/>
          <a:ext cx="6858000" cy="14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06520"/>
                    <a:ext cx="68580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62120" y="2979720"/>
          <a:ext cx="68580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9720"/>
                    <a:ext cx="685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356840" y="300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76520" y="2979720"/>
          <a:ext cx="83808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2979720"/>
                    <a:ext cx="838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499120" y="3016080"/>
            <a:ext cx="65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ехиометричния коефициент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тото изходно вещ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сп. краен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62120" y="3963960"/>
          <a:ext cx="83808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963960"/>
                    <a:ext cx="8380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587600" y="400068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неговата топлина на образу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105520"/>
            <a:ext cx="61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=const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место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ще фигурират съответните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809880" y="5791320"/>
          <a:ext cx="213372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5791320"/>
                    <a:ext cx="21337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650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231-A1AA-4588-B548-8E7CA5157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88360" y="192240"/>
            <a:ext cx="64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71600" y="1349280"/>
          <a:ext cx="64771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49280"/>
                    <a:ext cx="64771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58B-CB4A-474A-9CA8-C1F89DC380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9440" y="19224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6858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тори принцип на термодинамик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определя посоката на спонтанните химични процеси и условията за установяване на равновесно състоян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09480" y="1905120"/>
            <a:ext cx="1600200" cy="1981080"/>
            <a:chOff x="609480" y="1905120"/>
            <a:chExt cx="1600200" cy="1981080"/>
          </a:xfrm>
        </p:grpSpPr>
        <p:sp>
          <p:nvSpPr>
            <p:cNvPr id="287" name=""/>
            <p:cNvSpPr/>
            <p:nvPr/>
          </p:nvSpPr>
          <p:spPr>
            <a:xfrm>
              <a:off x="609480" y="1905120"/>
              <a:ext cx="1600200" cy="1981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120" y="2057400"/>
              <a:ext cx="457200" cy="457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2971800"/>
              <a:ext cx="4572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673360" y="1676520"/>
            <a:ext cx="228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олира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057040" y="1981080"/>
            <a:ext cx="68580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51040" y="2325600"/>
            <a:ext cx="598968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≠Т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оже да настъпи проце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и кой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плина от системата с температура 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премине към системата с температура 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мопроизво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3300"/>
                </a:solidFill>
                <a:uFillTx/>
                <a:latin typeface="Arial"/>
              </a:rPr>
              <a:t>обратния процес е невъзможен!! 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fi-FI" sz="1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Arial"/>
              </a:rPr>
              <a:t>несамопроизволен – само с външно въ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0800" y="4648320"/>
            <a:ext cx="69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ярка за посоката на протичане на даден процес –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ентропия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80880" y="5105520"/>
          <a:ext cx="441504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05520"/>
                    <a:ext cx="441504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160800" y="5789520"/>
          <a:ext cx="503064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0800" y="5789520"/>
                    <a:ext cx="50306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61E-A4E7-4C40-880F-943025F3FA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4240" y="19224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11430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209680"/>
            <a:ext cx="28954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заимно превръщане на енергията от един вид в друг (първи принцип - термохим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274840"/>
            <a:ext cx="33530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ока на протичане на химичните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тори принц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838080"/>
            <a:ext cx="6095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а термодинамика – основен метод в хим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13716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13716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581280"/>
            <a:ext cx="2666880" cy="1295640"/>
          </a:xfrm>
          <a:prstGeom prst="upArrowCallout">
            <a:avLst>
              <a:gd name="adj1" fmla="val 51463"/>
              <a:gd name="adj2" fmla="val 51459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трешна енергия –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талпия –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плинен капацитет -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581280"/>
            <a:ext cx="2819520" cy="1295640"/>
          </a:xfrm>
          <a:prstGeom prst="upArrowCallout">
            <a:avLst>
              <a:gd name="adj1" fmla="val 54409"/>
              <a:gd name="adj2" fmla="val 54404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тропия –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я на Гибс –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я на Хелмхолц -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5257800"/>
            <a:ext cx="4321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и на състоя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84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6095880"/>
            <a:ext cx="4321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раметри на състоянието (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4952880"/>
            <a:ext cx="457200" cy="609840"/>
          </a:xfrm>
          <a:custGeom>
            <a:avLst/>
            <a:gdLst>
              <a:gd name="textAreaLeft" fmla="*/ 152280 w 457200"/>
              <a:gd name="textAreaRight" fmla="*/ 391680 w 45720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81080" y="4952880"/>
            <a:ext cx="457200" cy="609840"/>
          </a:xfrm>
          <a:custGeom>
            <a:avLst/>
            <a:gdLst>
              <a:gd name="textAreaLeft" fmla="*/ 152640 w 457200"/>
              <a:gd name="textAreaRight" fmla="*/ 392040 w 45720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150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A64-E979-42FB-979B-3548321E5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4440" y="53352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3300"/>
                </a:solidFill>
                <a:uFillTx/>
                <a:latin typeface="Arial"/>
              </a:rPr>
              <a:t>Основни термодинамични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2320" y="1066680"/>
            <a:ext cx="84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нтроп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(J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мярка за термодинамичната вероятност на енергии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стояния в системата  – може да се свърже с молекулния безпорядък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тепента на подреденост на системата намалява, когато ней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ентропия се увеличава!!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0" lang="fi-FI" sz="1800" spc="-1" strike="noStrike">
                <a:solidFill>
                  <a:srgbClr val="ff3300"/>
                </a:solidFill>
                <a:latin typeface="Arial"/>
              </a:rPr>
              <a:t>= 0 K </a:t>
            </a:r>
            <a:r>
              <a:rPr b="0" lang="fi-FI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ff3300"/>
                </a:solidFill>
                <a:latin typeface="Arial"/>
              </a:rPr>
              <a:t> S = </a:t>
            </a: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0 при идеалните кри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2286000"/>
            <a:ext cx="819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ункция (енергия) на Гиб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=const, T=const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изменението </a:t>
            </a:r>
            <a:r>
              <a:rPr b="0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ритерии за възможната посока, в която ще протекат реакци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=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равновес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4960" y="3200400"/>
            <a:ext cx="72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ункция (енергия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 Хелмхол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аналогична на </a:t>
            </a:r>
            <a:r>
              <a:rPr b="0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const, T=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5257800"/>
            <a:ext cx="57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олна функция на Гибс – химичен потенциал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429000" y="5638680"/>
          <a:ext cx="190512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638680"/>
                    <a:ext cx="19051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377280" y="3962520"/>
            <a:ext cx="80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екстензивни величин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Техните свойства зависят от маса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, респ. от количеството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6120" y="4653000"/>
          <a:ext cx="330192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120" y="4653000"/>
                    <a:ext cx="3301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294080" y="4653000"/>
          <a:ext cx="147168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4080" y="4653000"/>
                    <a:ext cx="14716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86200" y="488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90240" y="46530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съответни молни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560" y="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646-1600-495A-B0F1-9B1FD0FA7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04560" y="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3760" y="457200"/>
            <a:ext cx="80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ритерии за равновесното състояние и посоката на спонтанните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014480" y="1676520"/>
          <a:ext cx="129528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676520"/>
                    <a:ext cx="12952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94640" y="186516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аналитичен израз на втория термодинамичен пронц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86080" y="2514600"/>
            <a:ext cx="35575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3212"/>
              <a:gd name="adj5" fmla="val -72083"/>
              <a:gd name="adj6" fmla="val -4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плина, внесена в систе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7280" y="2666880"/>
            <a:ext cx="1066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94194"/>
              <a:gd name="adj5" fmla="val -67449"/>
              <a:gd name="adj6" fmla="val 94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ратим 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38360" y="1143000"/>
            <a:ext cx="1295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0712"/>
              <a:gd name="adj5" fmla="val 150000"/>
              <a:gd name="adj6" fmla="val -74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ратим проц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583240" y="5576760"/>
          <a:ext cx="279864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3240" y="5576760"/>
                    <a:ext cx="279864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85800" y="4343400"/>
          <a:ext cx="498636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343400"/>
                    <a:ext cx="4986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838080" y="5562720"/>
          <a:ext cx="38084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562720"/>
                    <a:ext cx="38084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1981080" y="50292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5943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7680" y="358128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ръзка между първия и втория принцип на Т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E96-B89A-40E3-8F6A-ADAD5BE78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200" y="1981080"/>
            <a:ext cx="84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онтанните (необратими) процеси в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адиабатно изолирани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= 0, т.е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=const, U=const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сп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=cons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=const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)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ичат в пос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нарастване на ентроп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352680" y="685800"/>
          <a:ext cx="259092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685800"/>
                    <a:ext cx="2590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057400" y="609480"/>
            <a:ext cx="5181480" cy="1371600"/>
          </a:xfrm>
          <a:prstGeom prst="downArrowCallout">
            <a:avLst>
              <a:gd name="adj1" fmla="val 94451"/>
              <a:gd name="adj2" fmla="val 94442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838080" y="2819520"/>
          <a:ext cx="29718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29718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33520" y="3355920"/>
          <a:ext cx="36576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355920"/>
                    <a:ext cx="36576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451760" y="327672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одинамично равновесие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състав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 остава постоян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920" y="3962520"/>
            <a:ext cx="87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изолирани систем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dS=0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за критерий на посоката на спонтанните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и се използва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трешната енергия 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нталпията 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4780080"/>
          <a:ext cx="304812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780080"/>
                    <a:ext cx="3048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816360" y="4648320"/>
            <a:ext cx="53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ратимите процеси протичат в посо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н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(V=const, S=const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p=const, S=con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500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3520" y="5986440"/>
          <a:ext cx="373356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986440"/>
                    <a:ext cx="3733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4422600" y="599904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термодинамично равнове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47D-811F-415A-81E3-5E61B084A0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7200" y="1108080"/>
            <a:ext cx="85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изолирани систем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за определяне на посоката на спонтанните процеси 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т термодинамичните функции на Хелмхолц и на Гиб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219320" y="2138400"/>
          <a:ext cx="167616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8400"/>
                    <a:ext cx="16761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 flipV="1">
            <a:off x="3809880" y="24426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410080" y="2138400"/>
          <a:ext cx="278784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138400"/>
                    <a:ext cx="2787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382320" y="479736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Термодинамичното равновесие се определя от минималните стойност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горнит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514600" y="5791320"/>
          <a:ext cx="43434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5791320"/>
                    <a:ext cx="43434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038480" y="342900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ратимите процеси в неизоли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и протичат в посо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маляване на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=const, T=const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(p=const, T=con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3733920"/>
          <a:ext cx="342900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733920"/>
                    <a:ext cx="34290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DDA-F1F2-4B40-8798-7EF4413639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57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зчисляване на функциите на Гибс и Хелмхол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62120" y="1039680"/>
          <a:ext cx="22096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39680"/>
                    <a:ext cx="22096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049200" y="990720"/>
            <a:ext cx="16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f(V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8840" y="1447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f(p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9680" y="2286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24382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209680" y="2133720"/>
          <a:ext cx="3097440" cy="12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133720"/>
                    <a:ext cx="309744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30040" y="51055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525780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09680" y="4876920"/>
          <a:ext cx="3276720" cy="81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876920"/>
                    <a:ext cx="3276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400800" y="2057400"/>
          <a:ext cx="259092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2057400"/>
                    <a:ext cx="2590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5715000" y="24382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51814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248520" y="4495680"/>
          <a:ext cx="2895480" cy="185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4495680"/>
                    <a:ext cx="28954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213840" y="3160800"/>
            <a:ext cx="16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деален газ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505320" y="3902040"/>
          <a:ext cx="477036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902040"/>
                    <a:ext cx="4770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212760" y="392256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течни и твърди веществ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828800" y="2971800"/>
          <a:ext cx="513252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2971800"/>
                    <a:ext cx="51325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85440" y="614664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Аналогични изрази се получават за </a:t>
            </a:r>
            <a:r>
              <a:rPr b="0" i="1" lang="fi-FI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i="1" lang="bg-BG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i="1" lang="fi-FI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27F-25D5-47A3-8B40-B8D6A6CB4E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2160" y="64620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ръзка между функциите на Гибс и Хелмхолц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200400" y="1219320"/>
          <a:ext cx="220968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19320"/>
                    <a:ext cx="22096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458280" y="2057400"/>
            <a:ext cx="67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висимост от температурата -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уравнение на Гибс-Хелмхол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963800" y="2614680"/>
          <a:ext cx="451332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2614680"/>
                    <a:ext cx="45133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04920" y="34290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066680" y="3168720"/>
          <a:ext cx="7010640" cy="96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168720"/>
                    <a:ext cx="7010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2616120" y="1981080"/>
          <a:ext cx="914400" cy="19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6120" y="198108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1523880" y="4278240"/>
          <a:ext cx="5715000" cy="4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4278240"/>
                    <a:ext cx="57150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28600" y="4952880"/>
          <a:ext cx="175248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952880"/>
                    <a:ext cx="1752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2057400" y="51055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743200" y="4735440"/>
          <a:ext cx="601992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4735440"/>
                    <a:ext cx="60199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505320" y="5721480"/>
          <a:ext cx="1676160" cy="91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5721480"/>
                    <a:ext cx="16761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688-9B34-41A6-8F8F-6C2C100B62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6120" y="4419720"/>
            <a:ext cx="74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химична реакция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омяната на функцията на Гиб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се изчисля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 основа на из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314440" y="5297400"/>
          <a:ext cx="32814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5297400"/>
                    <a:ext cx="3281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6172200" y="4876920"/>
            <a:ext cx="2666880" cy="952560"/>
          </a:xfrm>
          <a:prstGeom prst="borderCallout1">
            <a:avLst>
              <a:gd name="adj1" fmla="val 18750"/>
              <a:gd name="adj2" fmla="val -8333"/>
              <a:gd name="adj3" fmla="val 43166"/>
              <a:gd name="adj4" fmla="val -4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стандартни услов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от таблици)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ункции на Гибс на образув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981080" y="2209680"/>
          <a:ext cx="502920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209680"/>
                    <a:ext cx="50292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447920" y="1085760"/>
          <a:ext cx="190476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1085760"/>
                    <a:ext cx="19047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114800" y="838080"/>
          <a:ext cx="1905120" cy="104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838080"/>
                    <a:ext cx="19051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3124080" y="1600200"/>
            <a:ext cx="1447920" cy="457200"/>
            <a:chOff x="3124080" y="1600200"/>
            <a:chExt cx="1447920" cy="457200"/>
          </a:xfrm>
        </p:grpSpPr>
        <p:sp>
          <p:nvSpPr>
            <p:cNvPr id="422" name=""/>
            <p:cNvSpPr/>
            <p:nvPr/>
          </p:nvSpPr>
          <p:spPr>
            <a:xfrm>
              <a:off x="457200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080" y="2057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124080" y="160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92B-077A-45AD-8EA8-53449FD0B4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4560" y="7632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тор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040" y="646200"/>
            <a:ext cx="47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Да се определи дали реакция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33520" y="1066680"/>
          <a:ext cx="282096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28209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460080" y="160020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възможна при стайна температура (298 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533520" y="2057400"/>
          <a:ext cx="426708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057400"/>
                    <a:ext cx="42670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460440" y="59436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ледователно реакцията е възможна при стайна температура (298 К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33520" y="2666880"/>
          <a:ext cx="76960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666880"/>
                    <a:ext cx="7696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09480" y="3276720"/>
          <a:ext cx="7543800" cy="14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3276720"/>
                    <a:ext cx="75438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609480" y="4849920"/>
          <a:ext cx="5943600" cy="105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84992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910-5FD4-43DE-8EC0-3B16C40F5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06360" y="2286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о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685800"/>
            <a:ext cx="30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Равновесна конст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04920" y="1295280"/>
          <a:ext cx="3276360" cy="5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32763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73392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1295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а реакция в смес от идеални газ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7680" y="2081160"/>
            <a:ext cx="555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ехиометрични коефициенти на веществ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456840" y="1676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066680" y="16765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514240" y="1676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048120" y="1676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18120" y="5181480"/>
            <a:ext cx="2814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вновесни парциал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лягания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мпонен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3962160" y="43434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3760" y="5257800"/>
            <a:ext cx="394056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андартна функция на Гиб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стандартният афинитет) на реакция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990360" y="44197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6019920"/>
            <a:ext cx="7848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безразмерна величин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тъй като наляганията са изразени спрямо налягането при стандартни условия –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79320" y="2438280"/>
          <a:ext cx="705168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320" y="2438280"/>
                    <a:ext cx="70516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818-F7D2-41FE-AF25-C7BFFB762A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5640" y="2286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о равновесие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2666880"/>
            <a:ext cx="7848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осока на химичните реакц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ако се познава стойността на К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стойностите на парциалните налягания на продуктите и реагентите в определен момент на реакцията, може да се определи посоката 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73200" y="3632040"/>
          <a:ext cx="4019400" cy="14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3632040"/>
                    <a:ext cx="401940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4727160" y="396252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уравнение на Вант Х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9520" y="5003640"/>
            <a:ext cx="795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&lt;0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та протича в права пос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&gt;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извършва се обратният проц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достигнати са условията на термодинамично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616120" y="1981080"/>
          <a:ext cx="914400" cy="1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6120" y="198108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914400" y="1371600"/>
          <a:ext cx="5429160" cy="116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371600"/>
                    <a:ext cx="542916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72120" y="7984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37F-A585-462C-8863-10AA459A95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9360" y="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200" y="609480"/>
            <a:ext cx="80413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Систем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част от материалната вселена, отделена от останалат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реално съществуваща или с въобръжаема пре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1240" y="13716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идове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195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28600" y="2057400"/>
            <a:ext cx="2743200" cy="2125800"/>
            <a:chOff x="228600" y="2057400"/>
            <a:chExt cx="2743200" cy="212580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28600" y="2057400"/>
              <a:ext cx="27432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09480" y="2209680"/>
              <a:ext cx="1447920" cy="307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Околна сре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2362320"/>
              <a:ext cx="935280" cy="307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атер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520" y="3733920"/>
              <a:ext cx="903240" cy="307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Енер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480" y="2971800"/>
              <a:ext cx="935280" cy="3070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8120" y="2057400"/>
            <a:ext cx="2895480" cy="2171880"/>
            <a:chOff x="3048120" y="2057400"/>
            <a:chExt cx="2895480" cy="217188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205740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801320" y="3733920"/>
              <a:ext cx="903240" cy="307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Енер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8320" y="3124080"/>
              <a:ext cx="935280" cy="3070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атер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401520" y="2362320"/>
            <a:ext cx="1055520" cy="687960"/>
            <a:chOff x="6401520" y="2362320"/>
            <a:chExt cx="1055520" cy="687960"/>
          </a:xfrm>
        </p:grpSpPr>
        <p:sp>
          <p:nvSpPr>
            <p:cNvPr id="72" name=""/>
            <p:cNvSpPr/>
            <p:nvPr/>
          </p:nvSpPr>
          <p:spPr>
            <a:xfrm>
              <a:off x="6401520" y="2362320"/>
              <a:ext cx="935280" cy="3070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атер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800" y="2743200"/>
              <a:ext cx="903240" cy="3070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Енер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295280" y="41911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41911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4267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800600"/>
            <a:ext cx="2286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творе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бменя материя и енерг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86576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творе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бменя само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800600"/>
            <a:ext cx="2895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олира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 обменя нито енергия, нито матер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не съществува в природата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B9B-89A0-484E-82D8-373257621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05640" y="1522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Химично равновесие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040" y="646200"/>
            <a:ext cx="47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Да се определи дали реакция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33520" y="1066680"/>
          <a:ext cx="282096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28209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460080" y="1752480"/>
            <a:ext cx="50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възможна при стайна температура (298 К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57200" y="2133720"/>
          <a:ext cx="449100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133720"/>
                    <a:ext cx="4491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228600" y="2819520"/>
          <a:ext cx="274320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819520"/>
                    <a:ext cx="27432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3048120" y="3048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051440" y="2590920"/>
          <a:ext cx="509256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51440" y="2590920"/>
                    <a:ext cx="5092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152280" y="3733920"/>
          <a:ext cx="8763120" cy="15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733920"/>
                    <a:ext cx="876312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304920" y="5791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85680" y="5715000"/>
            <a:ext cx="63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и тези условия</a:t>
            </a:r>
            <a:r>
              <a:rPr b="0" lang="fi-FI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реакцията протича в права пос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334120" y="2133720"/>
          <a:ext cx="266688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2133720"/>
                    <a:ext cx="26668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83D-AFF5-4464-AA5B-20EFEE5400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9680" y="152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7880" y="259092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ърви принцип на термодинамиката и термохим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ътрешна енергия –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талпия –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плинен капацитет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плина на реакцията – закон на Х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9160" y="72216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новни по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идове –отворена, затворена, изоли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раметри на състоянието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дове – екстензивни и интензи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цес </a:t>
            </a: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идове – изотермичен, изохорен, изобарен, адиаба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205740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и на състояни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6440" y="3352680"/>
            <a:ext cx="87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дове реакции според обменената топлина с околната среда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зотермич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 Q &lt; 0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ендотермични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( Q &gt;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7800" y="4191120"/>
            <a:ext cx="79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ложение на закона на Хес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ределяне на топлината на реакцията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8720" y="4608360"/>
            <a:ext cx="82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тори принцип на термодинамик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ределя посоката на протич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ак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тропия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я на Гибс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функция на Хелмхолц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ен потенциа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на Гибс-Хелмхолц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0880" y="5904000"/>
            <a:ext cx="51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Химично равновесие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вновесна конс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791-2F2C-4B19-98B6-58E0B24366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040" y="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дение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1760" y="533520"/>
            <a:ext cx="8521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араметри на състояниет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величини, които характеризират систе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са 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ем 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640" y="2146320"/>
            <a:ext cx="90637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дове парам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стензивни параметри – пропорционални на масата – при обединяване на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и с мас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общата система е с маса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 = m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нзивни параметри – не зависят от масата – при обединяване на две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≠Т</a:t>
            </a:r>
            <a:r>
              <a:rPr b="0" lang="bg-BG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то 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≠T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+T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960" y="3930480"/>
            <a:ext cx="83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изменение в системата, при което се изменят термодинамич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рам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640" y="4737240"/>
            <a:ext cx="823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дове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отермичен процес – Т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= 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охорен процес -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=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обарен процес -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=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диабатен процес – няма топлообмен между системата и околнат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709-D700-4933-A5D0-A0E715E56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8720" y="19224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160" y="87480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ърви принцип на термодинамик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на закона за запа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 енергията към процеси, които протичат с обмен на топ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33920" y="1752480"/>
          <a:ext cx="2286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752480"/>
                    <a:ext cx="2286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9680" y="2362320"/>
            <a:ext cx="39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трешна енергия на система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ума от кинетична и потенци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я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функция на състоянието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20574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33720" y="4495680"/>
          <a:ext cx="1969920" cy="17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95680"/>
                    <a:ext cx="19699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30400" y="48769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бемна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квазистатичен проце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протича с минимално отклонение от равновес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638680" y="5257800"/>
          <a:ext cx="1067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5257800"/>
                    <a:ext cx="1067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784200" y="52578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общо наляга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43240" y="2057400"/>
            <a:ext cx="2858400" cy="1374120"/>
            <a:chOff x="5943240" y="2057400"/>
            <a:chExt cx="2858400" cy="1374120"/>
          </a:xfrm>
        </p:grpSpPr>
        <p:sp>
          <p:nvSpPr>
            <p:cNvPr id="101" name=""/>
            <p:cNvSpPr/>
            <p:nvPr/>
          </p:nvSpPr>
          <p:spPr>
            <a:xfrm>
              <a:off x="6019560" y="2514600"/>
              <a:ext cx="278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работа, извърше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от или върху система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(обемна или полезна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943240" y="20574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77800" y="2362320"/>
            <a:ext cx="3204360" cy="1632960"/>
            <a:chOff x="3277800" y="2362320"/>
            <a:chExt cx="3204360" cy="1632960"/>
          </a:xfrm>
        </p:grpSpPr>
        <p:sp>
          <p:nvSpPr>
            <p:cNvPr id="104" name=""/>
            <p:cNvSpPr/>
            <p:nvPr/>
          </p:nvSpPr>
          <p:spPr>
            <a:xfrm>
              <a:off x="3277800" y="3352680"/>
              <a:ext cx="32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топлина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 обменена межд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Arial"/>
                </a:rPr>
                <a:t>системата и околната 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48320" y="236232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4D4-3FB3-4A5A-A6B6-8CA36C2C92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3680" y="99072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и свиване на газообразно вещест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000" y="19224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828800"/>
          <a:ext cx="4038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038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724280" y="2209680"/>
          <a:ext cx="3962520" cy="30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09680"/>
                    <a:ext cx="39625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381-7DD6-4135-877E-9E9D557F5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981080" y="2830680"/>
            <a:ext cx="4130640" cy="3112200"/>
            <a:chOff x="1981080" y="2830680"/>
            <a:chExt cx="4130640" cy="3112200"/>
          </a:xfrm>
        </p:grpSpPr>
        <p:sp>
          <p:nvSpPr>
            <p:cNvPr id="113" name=""/>
            <p:cNvSpPr/>
            <p:nvPr/>
          </p:nvSpPr>
          <p:spPr>
            <a:xfrm>
              <a:off x="3706920" y="4090320"/>
              <a:ext cx="933120" cy="1259640"/>
            </a:xfrm>
            <a:prstGeom prst="rect">
              <a:avLst/>
            </a:prstGeom>
            <a:solidFill>
              <a:srgbClr val="a1a1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2124000" y="287244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04680" y="540900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706920" y="4090320"/>
              <a:ext cx="927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06920" y="4031640"/>
              <a:ext cx="110520" cy="11160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79" y="80"/>
                  </a:moveTo>
                  <a:lnTo>
                    <a:pt x="0" y="42"/>
                  </a:lnTo>
                  <a:lnTo>
                    <a:pt x="79" y="0"/>
                  </a:lnTo>
                  <a:lnTo>
                    <a:pt x="37" y="42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634640" y="4089960"/>
              <a:ext cx="1080" cy="43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82800" y="4090320"/>
              <a:ext cx="110160" cy="1047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0" y="75"/>
                  </a:moveTo>
                  <a:lnTo>
                    <a:pt x="37" y="0"/>
                  </a:lnTo>
                  <a:lnTo>
                    <a:pt x="79" y="75"/>
                  </a:lnTo>
                  <a:lnTo>
                    <a:pt x="37" y="38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0520" y="4498920"/>
              <a:ext cx="58680" cy="58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10520" y="4060800"/>
              <a:ext cx="586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7760" y="4060800"/>
              <a:ext cx="640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0320" y="362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2920" y="362052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83200" y="36205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75800" y="38178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54240" y="362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2880" y="362052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6040" y="36205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5760" y="38178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476080" y="4090320"/>
              <a:ext cx="123048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8720" y="38988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8440" y="5374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0320" y="5567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5680" y="5374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9000" y="5567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4160" y="2830680"/>
              <a:ext cx="3607560" cy="2513880"/>
            </a:xfrm>
            <a:custGeom>
              <a:avLst/>
              <a:gdLst/>
              <a:ahLst/>
              <a:rect l="l" t="t" r="r" b="b"/>
              <a:pathLst>
                <a:path w="2579" h="1798">
                  <a:moveTo>
                    <a:pt x="0" y="0"/>
                  </a:moveTo>
                  <a:lnTo>
                    <a:pt x="0" y="1798"/>
                  </a:lnTo>
                  <a:lnTo>
                    <a:pt x="2579" y="17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46560" y="2830680"/>
              <a:ext cx="110520" cy="1101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9" y="79"/>
                  </a:moveTo>
                  <a:lnTo>
                    <a:pt x="41" y="0"/>
                  </a:lnTo>
                  <a:lnTo>
                    <a:pt x="0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06960" y="5293080"/>
              <a:ext cx="104760" cy="1105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0"/>
                  </a:moveTo>
                  <a:lnTo>
                    <a:pt x="75" y="37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3809880" y="1219320"/>
          <a:ext cx="1970280" cy="17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197028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038480" y="25146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8000" y="19224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248520" y="4108320"/>
          <a:ext cx="190476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108320"/>
                    <a:ext cx="190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511-DA88-4972-A3BA-68C7E1B78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8000" y="19224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295280"/>
          <a:ext cx="784872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8487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80880" y="3962520"/>
          <a:ext cx="8113680" cy="21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811368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136-A4F4-4D0D-B4B2-ADD44C287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8000" y="192240"/>
            <a:ext cx="62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ърви принцип на термодинамиката (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874800"/>
            <a:ext cx="84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истема, в която се извършва само обемна работа и протичат квазистатич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895480" y="1600200"/>
          <a:ext cx="25909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2590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78000" y="220824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dV=0</a:t>
            </a:r>
            <a:r>
              <a:rPr b="0" i="1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1" lang="bg-BG" sz="2000" spc="-1" strike="noStrike" u="sng">
                <a:solidFill>
                  <a:srgbClr val="ff3300"/>
                </a:solidFill>
                <a:uFillTx/>
                <a:latin typeface="Arial"/>
              </a:rPr>
              <a:t>изохорен проц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9520" y="3276720"/>
            <a:ext cx="779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несената в системата топлина = изменението на вътрешнат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7280" y="3860640"/>
            <a:ext cx="43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p</a:t>
            </a: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=0 </a:t>
            </a: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1" lang="bg-BG" sz="2000" spc="-1" strike="noStrike" u="sng">
                <a:solidFill>
                  <a:srgbClr val="ff3300"/>
                </a:solidFill>
                <a:uFillTx/>
                <a:latin typeface="Arial"/>
              </a:rPr>
              <a:t>изобарен проц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76720" y="4419720"/>
          <a:ext cx="190476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419720"/>
                    <a:ext cx="19047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85800" y="50292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320" y="4952880"/>
            <a:ext cx="54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друг израз за първия термодинамичен принци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400" y="6022080"/>
            <a:ext cx="7908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несената топлина може да се определи от изменението на енталп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819520" y="2666880"/>
          <a:ext cx="281916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666880"/>
                    <a:ext cx="2819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295280" y="4952880"/>
          <a:ext cx="2133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952880"/>
                    <a:ext cx="2133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952720" y="5486400"/>
          <a:ext cx="270684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2720" y="5486400"/>
                    <a:ext cx="27068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27760" y="38862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 се ентал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649-5EF9-46F2-81AF-AADF2D9E0C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1:59:04Z</dcterms:created>
  <dc:creator>Iva Betova</dc:creator>
  <dc:description/>
  <dc:language>en-US</dc:language>
  <cp:lastModifiedBy>Iva Betova</cp:lastModifiedBy>
  <dcterms:modified xsi:type="dcterms:W3CDTF">2007-10-04T10:58:00Z</dcterms:modified>
  <cp:revision>137</cp:revision>
  <dc:subject/>
  <dc:title>Slide 1</dc:title>
</cp:coreProperties>
</file>