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126.wmf" ContentType="image/x-wmf"/>
  <Override PartName="/ppt/media/image32.wmf" ContentType="image/x-wmf"/>
  <Override PartName="/ppt/media/image120.png" ContentType="image/png"/>
  <Override PartName="/ppt/media/image26.wmf" ContentType="image/x-wmf"/>
  <Override PartName="/ppt/media/image94.wmf" ContentType="image/x-wmf"/>
  <Override PartName="/ppt/media/image3.wmf" ContentType="image/x-wmf"/>
  <Override PartName="/ppt/media/image33.wmf" ContentType="image/x-wmf"/>
  <Override PartName="/ppt/media/image1.wmf" ContentType="image/x-wmf"/>
  <Override PartName="/ppt/media/image4.wmf" ContentType="image/x-wmf"/>
  <Override PartName="/ppt/media/image110.png" ContentType="image/png"/>
  <Override PartName="/ppt/media/image13.wmf" ContentType="image/x-wmf"/>
  <Override PartName="/ppt/media/image81.wmf" ContentType="image/x-wmf"/>
  <Override PartName="/ppt/media/image34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37.wmf" ContentType="image/x-wmf"/>
  <Override PartName="/ppt/media/image100.wmf" ContentType="image/x-wmf"/>
  <Override PartName="/ppt/media/image49.wmf" ContentType="image/x-wmf"/>
  <Override PartName="/ppt/media/image80.wmf" ContentType="image/x-wmf"/>
  <Override PartName="/ppt/media/image12.wmf" ContentType="image/x-wmf"/>
  <Override PartName="/ppt/media/image109.wmf" ContentType="image/x-wmf"/>
  <Override PartName="/ppt/media/image45.wmf" ContentType="image/x-wmf"/>
  <Override PartName="/ppt/media/image82.wmf" ContentType="image/x-wmf"/>
  <Override PartName="/ppt/media/image10.jpeg" ContentType="image/jpeg"/>
  <Override PartName="/ppt/media/image5.wmf" ContentType="image/x-wmf"/>
  <Override PartName="/ppt/media/image111.png" ContentType="image/png"/>
  <Override PartName="/ppt/media/image46.wmf" ContentType="image/x-wmf"/>
  <Override PartName="/ppt/media/image47.wmf" ContentType="image/x-wmf"/>
  <Override PartName="/ppt/media/image50.wmf" ContentType="image/x-wmf"/>
  <Override PartName="/ppt/media/image17.wmf" ContentType="image/x-wmf"/>
  <Override PartName="/ppt/media/image85.wmf" ContentType="image/x-wmf"/>
  <Override PartName="/ppt/media/image114.png" ContentType="image/png"/>
  <Override PartName="/ppt/media/image51.wmf" ContentType="image/x-wmf"/>
  <Override PartName="/ppt/media/image52.wmf" ContentType="image/x-wmf"/>
  <Override PartName="/ppt/media/image53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2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41.wmf" ContentType="image/x-wmf"/>
  <Override PartName="/ppt/media/image39.wmf" ContentType="image/x-wmf"/>
  <Override PartName="/ppt/media/image40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54.wmf" ContentType="image/x-wmf"/>
  <Override PartName="/ppt/media/image35.wmf" ContentType="image/x-wmf"/>
  <Override PartName="/ppt/media/image38.wmf" ContentType="image/x-wmf"/>
  <Override PartName="/ppt/media/image2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14.jpeg" ContentType="image/jpeg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106.png" ContentType="image/png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116.png" ContentType="image/png"/>
  <Override PartName="/ppt/media/image88.wmf" ContentType="image/x-wmf"/>
  <Override PartName="/ppt/media/image89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125.png" ContentType="image/png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media/image101.wmf" ContentType="image/x-wmf"/>
  <Override PartName="/ppt/media/image102.wmf" ContentType="image/x-wmf"/>
  <Override PartName="/ppt/media/image103.wmf" ContentType="image/x-wmf"/>
  <Override PartName="/ppt/media/image104.wmf" ContentType="image/x-wmf"/>
  <Override PartName="/ppt/media/image105.wmf" ContentType="image/x-wmf"/>
  <Override PartName="/ppt/media/image107.wmf" ContentType="image/x-wmf"/>
  <Override PartName="/ppt/media/image112.wmf" ContentType="image/x-wmf"/>
  <Override PartName="/ppt/media/image113.wmf" ContentType="image/x-wmf"/>
  <Override PartName="/ppt/media/image115.wmf" ContentType="image/x-wmf"/>
  <Override PartName="/ppt/media/image121.wmf" ContentType="image/x-wmf"/>
  <Override PartName="/ppt/media/image122.wmf" ContentType="image/x-wmf"/>
  <Override PartName="/ppt/media/image123.wmf" ContentType="image/x-wmf"/>
  <Override PartName="/ppt/media/image1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259-6F1E-42FD-90D0-9BBAE971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566-ECF0-451C-9F3D-BB40C1AF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FDD-5B6E-4537-AE26-9496FC4D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3CF-AB53-4688-BB89-8E975095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51B-5F2A-4C69-8AD8-23BB5D37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7E7-C6E0-4D3B-BEDD-BC97BE8A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85F-1692-4070-BBC7-F81B2CCD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2B7-9A2C-4D28-9A16-767997FD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C35-B280-4B60-8919-78A8082F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C7E-A474-4337-BAB9-75B0E836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F2C-F66F-4480-A302-FFAAD14A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3FF-9736-4D9A-847F-B1A482E7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AE25-BDD3-45C0-8068-36D4673F6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1.wmf"/><Relationship Id="rId3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6.wmf"/><Relationship Id="rId2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2.wmf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9.wmf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wm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image" Target="../media/image104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9.wmf"/><Relationship Id="rId9" Type="http://schemas.openxmlformats.org/officeDocument/2006/relationships/image" Target="../media/image110.png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2.wmf"/><Relationship Id="rId2" Type="http://schemas.openxmlformats.org/officeDocument/2006/relationships/image" Target="../media/image113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6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7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8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6120" y="42084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орозия на метал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6400" y="1422360"/>
            <a:ext cx="8264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щност на корозията. Видове короз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рмодинамика на химичната короз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ханизъм на електрохимичната корозия. Видове електрохимич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розия. Фактори влияещи върху скоростта на електрохимичн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роз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8080" y="3784680"/>
            <a:ext cx="7154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щита на металите от коро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оди за защита на металите от корозия – обработка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розионната среда, защитно–декоративни покрит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лектрохимична защ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8560" y="5308560"/>
            <a:ext cx="83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дготовка на металната повърхност преди нанасяне на металн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плавни покрития. Нанасяне на галванични покр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D45-3159-4FAC-BF41-64C0029842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400" y="0"/>
            <a:ext cx="68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Класификация на корозионните процеси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240" y="463680"/>
            <a:ext cx="68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и за някои най-често срещани видове локална ко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18960" y="1009800"/>
            <a:ext cx="4143600" cy="2692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986360" y="1666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розионна е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16040" y="3857760"/>
            <a:ext cx="3657600" cy="2806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047200" y="4486320"/>
            <a:ext cx="31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розионно напукване п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ханично напре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28D-A0A7-44C7-A910-98E80C0593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1967040"/>
            <a:ext cx="4543560" cy="2790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655240" y="287172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Галванична ко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" y="0"/>
            <a:ext cx="68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Класификация на корозионните процеси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240" y="463680"/>
            <a:ext cx="68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и за някои най-често срещани видове локална ко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855-AEC7-4A27-BC9E-4CD2D22102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2400" y="192240"/>
            <a:ext cx="68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Класификация на корозионните процеси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8680" y="1001880"/>
            <a:ext cx="79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Относителни дялове на различните видове корозия в практик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5630" t="29216" r="31460" b="7838"/>
          <a:stretch/>
        </p:blipFill>
        <p:spPr>
          <a:xfrm>
            <a:off x="1676520" y="1967040"/>
            <a:ext cx="5867280" cy="409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60E-9FCA-4293-BC18-73CDEBDDA7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560" y="22860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Химична ко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9520" y="838080"/>
            <a:ext cx="840888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Самопроизволно разрушаване на металите в резултат на физикохимично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им взаимодействие със заобикалящата ги среда </a:t>
            </a:r>
            <a:r>
              <a:rPr b="0" lang="bg-BG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 окисляването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метала и редукцията на окислителния компонент на корозионната среда 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извършват в един акт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120" y="3276720"/>
            <a:ext cx="19807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имична ко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6800" y="2438280"/>
            <a:ext cx="61822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ухи газови среди – въздух, кислород, амоняк, проду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горен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24560" y="3809880"/>
            <a:ext cx="57859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чни неелектролитни среди – нефт, бензин, мас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рганични разтвор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828800" y="28195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6576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3920" y="48006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особе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3400" y="5334120"/>
            <a:ext cx="86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етерогенна химична реакция - повърхността на М / газова или течна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дуктите на корозия остават на повърхността на М 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химичнит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ханичните им свойства определят по-нататъшното развитие на корозион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ц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A94-9E58-4A43-B211-1758594A57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228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Химична корозия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8080" y="736560"/>
            <a:ext cx="50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ермодинамика на химичната коро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676520"/>
          <a:ext cx="192096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19209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048120" y="1371600"/>
          <a:ext cx="166212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371600"/>
                    <a:ext cx="16621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733640" y="14479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тича ко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124080" y="2286000"/>
          <a:ext cx="1600200" cy="58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2286000"/>
                    <a:ext cx="16002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734720" y="236232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цесът е невъзмож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9720" y="3292560"/>
            <a:ext cx="77122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окисление на метал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адсорбция на О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ърху повърхността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тваряне на адсорбирания О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 М (повърхностен оксиден филм или внедряване на кислородните частици в металната кристална реше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38080" y="5181480"/>
          <a:ext cx="2971800" cy="97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181480"/>
                    <a:ext cx="297180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37600" y="4824360"/>
            <a:ext cx="756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ет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2578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30320" y="4824360"/>
            <a:ext cx="15721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етален окс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276720" y="52574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55627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029200" y="5029200"/>
          <a:ext cx="4114800" cy="122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029200"/>
                    <a:ext cx="411480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C79-A1A3-47CE-BBAB-A5B76DC5FB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905120" y="1295280"/>
          <a:ext cx="388620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388620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" y="228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Химична корозия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6280" y="736560"/>
            <a:ext cx="54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ермодинамика на химичната корозия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990720"/>
            <a:ext cx="29718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9347"/>
              <a:gd name="adj5" fmla="val 135833"/>
              <a:gd name="adj6" fmla="val -33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ктивности на компонен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2438280"/>
            <a:ext cx="2743200" cy="38124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9837"/>
              <a:gd name="adj5" fmla="val -7916"/>
              <a:gd name="adj6" fmla="val -35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арциално налягане на О</a:t>
            </a:r>
            <a:r>
              <a:rPr b="0" lang="bg-BG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19320" y="2743200"/>
          <a:ext cx="44956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743200"/>
                    <a:ext cx="44956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 flipH="1" flipV="1">
            <a:off x="3123720" y="205704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3352680"/>
            <a:ext cx="243864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8856"/>
              <a:gd name="adj5" fmla="val -9898"/>
              <a:gd name="adj6" fmla="val -29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вновесна конста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 проц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384200" y="3505320"/>
          <a:ext cx="401328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4200" y="3505320"/>
                    <a:ext cx="4013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33520" y="3962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77920" y="4724280"/>
          <a:ext cx="3894120" cy="105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77920" y="4724280"/>
                    <a:ext cx="389412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5181480" y="4876920"/>
            <a:ext cx="3434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равновесно дисоциацио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налягане на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314360" y="5754600"/>
          <a:ext cx="5295960" cy="85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14360" y="5754600"/>
                    <a:ext cx="52959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9E6-9C85-4E5E-95BE-84C2F3DAA1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240" y="152280"/>
            <a:ext cx="32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Химичн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52280" y="152280"/>
            <a:ext cx="54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ермодинамика на химичната короз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5885"/>
          <a:stretch/>
        </p:blipFill>
        <p:spPr>
          <a:xfrm>
            <a:off x="71280" y="533520"/>
            <a:ext cx="5567400" cy="632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3276720" y="1981080"/>
          <a:ext cx="914400" cy="1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981080"/>
                    <a:ext cx="91440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105160" y="2819520"/>
            <a:ext cx="10666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646600" y="685800"/>
          <a:ext cx="2954520" cy="801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46600" y="685800"/>
                    <a:ext cx="295452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 flipH="1">
            <a:off x="5257440" y="1143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172200" y="2286000"/>
          <a:ext cx="1447920" cy="949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286000"/>
                    <a:ext cx="14479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324480" y="4343400"/>
          <a:ext cx="2206800" cy="949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24480" y="4343400"/>
                    <a:ext cx="22068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 flipH="1">
            <a:off x="4952880" y="5029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9C1-A5B8-40F7-A118-26847B6F2C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920" y="10476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химична ко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6000" y="609480"/>
            <a:ext cx="86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вновесни електродни потенциал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– в процеса на обмен между М и разтв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участват само 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+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равновесие М/ 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7200" y="1676520"/>
            <a:ext cx="2372040" cy="2666520"/>
            <a:chOff x="457200" y="1676520"/>
            <a:chExt cx="2372040" cy="2666520"/>
          </a:xfrm>
        </p:grpSpPr>
        <p:sp>
          <p:nvSpPr>
            <p:cNvPr id="210" name=""/>
            <p:cNvSpPr/>
            <p:nvPr/>
          </p:nvSpPr>
          <p:spPr>
            <a:xfrm>
              <a:off x="457200" y="1752480"/>
              <a:ext cx="457200" cy="259056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8640" y="28191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33360" y="1752480"/>
              <a:ext cx="0" cy="2590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14400" y="220968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914400" y="350496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69200" y="380988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зтво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6" name=""/>
            <p:cNvGraphicFramePr/>
            <p:nvPr/>
          </p:nvGraphicFramePr>
          <p:xfrm>
            <a:off x="1447560" y="1676520"/>
            <a:ext cx="298440" cy="53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560" y="1676520"/>
                      <a:ext cx="29844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"/>
            <p:cNvGraphicFramePr/>
            <p:nvPr/>
          </p:nvGraphicFramePr>
          <p:xfrm>
            <a:off x="1447560" y="2819160"/>
            <a:ext cx="34452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7560" y="2819160"/>
                      <a:ext cx="3445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2299680" y="3276360"/>
              <a:ext cx="5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99680" y="1981080"/>
              <a:ext cx="5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889080" y="1523880"/>
            <a:ext cx="40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на фазовата граница метал/раз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е извършват два проце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98800" y="2259000"/>
          <a:ext cx="424332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98800" y="2259000"/>
                    <a:ext cx="42433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886200" y="2843280"/>
          <a:ext cx="441972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2843280"/>
                    <a:ext cx="4419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029200" y="3886200"/>
          <a:ext cx="1523880" cy="64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3886200"/>
                    <a:ext cx="15238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743200" y="4572000"/>
          <a:ext cx="4038480" cy="857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4572000"/>
                    <a:ext cx="40384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992240" y="5484960"/>
          <a:ext cx="5770800" cy="110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92240" y="5484960"/>
                    <a:ext cx="57708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5D9-2B55-47EC-89AD-307B2BD504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10476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химична короз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920" y="533520"/>
            <a:ext cx="79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равновесни електродни потенциал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– в процеса на обмен между М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разтвора участват и други йони освен 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e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57200" y="1627200"/>
            <a:ext cx="2257920" cy="3160800"/>
            <a:chOff x="457200" y="1627200"/>
            <a:chExt cx="2257920" cy="3160800"/>
          </a:xfrm>
        </p:grpSpPr>
        <p:sp>
          <p:nvSpPr>
            <p:cNvPr id="236" name=""/>
            <p:cNvSpPr/>
            <p:nvPr/>
          </p:nvSpPr>
          <p:spPr>
            <a:xfrm>
              <a:off x="457200" y="1752480"/>
              <a:ext cx="457200" cy="259092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9000" y="28195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33720" y="1752480"/>
              <a:ext cx="0" cy="2590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4400" y="220968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219320" y="35053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69200" y="441972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зтво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2" name=""/>
            <p:cNvGraphicFramePr/>
            <p:nvPr/>
          </p:nvGraphicFramePr>
          <p:xfrm>
            <a:off x="1676520" y="1627200"/>
            <a:ext cx="298440" cy="63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1627200"/>
                      <a:ext cx="298440" cy="63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1219320" y="2286000"/>
            <a:ext cx="344520" cy="7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2286000"/>
                      <a:ext cx="3445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1612440" y="2666880"/>
              <a:ext cx="56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M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n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45960" y="1955880"/>
              <a:ext cx="56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M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n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00200" y="1752480"/>
              <a:ext cx="0" cy="2590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19320" y="1752480"/>
              <a:ext cx="0" cy="2590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914040" y="297180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9320" y="396252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2" name=""/>
            <p:cNvGraphicFramePr/>
            <p:nvPr/>
          </p:nvGraphicFramePr>
          <p:xfrm>
            <a:off x="1295280" y="3944880"/>
            <a:ext cx="330480" cy="627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95280" y="3944880"/>
                      <a:ext cx="330480" cy="62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4" name=""/>
            <p:cNvGraphicFramePr/>
            <p:nvPr/>
          </p:nvGraphicFramePr>
          <p:xfrm>
            <a:off x="1676520" y="2895480"/>
            <a:ext cx="357120" cy="681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76520" y="2895480"/>
                      <a:ext cx="35712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6" name=""/>
            <p:cNvSpPr/>
            <p:nvPr/>
          </p:nvSpPr>
          <p:spPr>
            <a:xfrm>
              <a:off x="2140200" y="325116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  <a:ea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033cc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58960" y="36320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  <a:ea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033cc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57240" y="121932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ичат две двойки проце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656160" y="1523880"/>
            <a:ext cx="4125600" cy="609480"/>
            <a:chOff x="3656160" y="1523880"/>
            <a:chExt cx="4125600" cy="609480"/>
          </a:xfrm>
        </p:grpSpPr>
        <p:sp>
          <p:nvSpPr>
            <p:cNvPr id="260" name=""/>
            <p:cNvSpPr/>
            <p:nvPr/>
          </p:nvSpPr>
          <p:spPr>
            <a:xfrm>
              <a:off x="3656160" y="1636560"/>
              <a:ext cx="39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bg-BG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ноден – йонизация на метал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7493040" y="1523880"/>
            <a:ext cx="2887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493040" y="1523880"/>
                      <a:ext cx="2887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3" name=""/>
          <p:cNvGraphicFramePr/>
          <p:nvPr/>
        </p:nvGraphicFramePr>
        <p:xfrm>
          <a:off x="4191120" y="2057400"/>
          <a:ext cx="4114800" cy="51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91120" y="2057400"/>
                    <a:ext cx="41148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3670200" y="2362320"/>
            <a:ext cx="4651560" cy="698400"/>
            <a:chOff x="3670200" y="2362320"/>
            <a:chExt cx="4651560" cy="698400"/>
          </a:xfrm>
        </p:grpSpPr>
        <p:sp>
          <p:nvSpPr>
            <p:cNvPr id="266" name=""/>
            <p:cNvSpPr/>
            <p:nvPr/>
          </p:nvSpPr>
          <p:spPr>
            <a:xfrm>
              <a:off x="3670200" y="2563920"/>
              <a:ext cx="429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bg-BG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тоден – отелектризиране на М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+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7" name=""/>
            <p:cNvGraphicFramePr/>
            <p:nvPr/>
          </p:nvGraphicFramePr>
          <p:xfrm>
            <a:off x="7991280" y="2362320"/>
            <a:ext cx="330480" cy="698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991280" y="2362320"/>
                      <a:ext cx="330480" cy="6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9" name=""/>
          <p:cNvGraphicFramePr/>
          <p:nvPr/>
        </p:nvGraphicFramePr>
        <p:xfrm>
          <a:off x="4191120" y="2971800"/>
          <a:ext cx="426708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91120" y="2971800"/>
                    <a:ext cx="42670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1" name=""/>
          <p:cNvGrpSpPr/>
          <p:nvPr/>
        </p:nvGrpSpPr>
        <p:grpSpPr>
          <a:xfrm>
            <a:off x="2738160" y="3200400"/>
            <a:ext cx="6405840" cy="762120"/>
            <a:chOff x="2738160" y="3200400"/>
            <a:chExt cx="6405840" cy="762120"/>
          </a:xfrm>
        </p:grpSpPr>
        <p:sp>
          <p:nvSpPr>
            <p:cNvPr id="272" name=""/>
            <p:cNvSpPr/>
            <p:nvPr/>
          </p:nvSpPr>
          <p:spPr>
            <a:xfrm>
              <a:off x="2738160" y="3429000"/>
              <a:ext cx="5991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bg-BG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тоден - отелектризиране на Н</a:t>
              </a:r>
              <a:r>
                <a:rPr b="0" lang="bg-BG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 </a:t>
              </a:r>
              <a:r>
                <a:rPr b="0" lang="bg-BG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отделяне на Н</a:t>
              </a:r>
              <a:r>
                <a:rPr b="0" lang="bg-BG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0" lang="bg-BG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3" name=""/>
            <p:cNvGraphicFramePr/>
            <p:nvPr/>
          </p:nvGraphicFramePr>
          <p:xfrm>
            <a:off x="8742240" y="3200400"/>
            <a:ext cx="401760" cy="762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742240" y="3200400"/>
                      <a:ext cx="40176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5" name=""/>
          <p:cNvGraphicFramePr/>
          <p:nvPr/>
        </p:nvGraphicFramePr>
        <p:xfrm>
          <a:off x="4724280" y="3886200"/>
          <a:ext cx="1828800" cy="736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24280" y="3886200"/>
                    <a:ext cx="18288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7" name=""/>
          <p:cNvGrpSpPr/>
          <p:nvPr/>
        </p:nvGrpSpPr>
        <p:grpSpPr>
          <a:xfrm>
            <a:off x="3585240" y="4343400"/>
            <a:ext cx="4492080" cy="685800"/>
            <a:chOff x="3585240" y="4343400"/>
            <a:chExt cx="4492080" cy="685800"/>
          </a:xfrm>
        </p:grpSpPr>
        <p:sp>
          <p:nvSpPr>
            <p:cNvPr id="278" name=""/>
            <p:cNvSpPr/>
            <p:nvPr/>
          </p:nvSpPr>
          <p:spPr>
            <a:xfrm>
              <a:off x="3585240" y="4532400"/>
              <a:ext cx="42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bg-BG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ноден – йонизация на водорода 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9" name=""/>
            <p:cNvGraphicFramePr/>
            <p:nvPr/>
          </p:nvGraphicFramePr>
          <p:xfrm>
            <a:off x="7716960" y="4343400"/>
            <a:ext cx="360360" cy="6858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716960" y="4343400"/>
                      <a:ext cx="3603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81" name=""/>
          <p:cNvGraphicFramePr/>
          <p:nvPr/>
        </p:nvGraphicFramePr>
        <p:xfrm>
          <a:off x="4952880" y="4952880"/>
          <a:ext cx="1828800" cy="736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952880" y="4952880"/>
                    <a:ext cx="18288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1066680" y="4876920"/>
          <a:ext cx="1067040" cy="723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66680" y="4876920"/>
                    <a:ext cx="10670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1066680" y="5562720"/>
          <a:ext cx="990720" cy="627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66680" y="5562720"/>
                    <a:ext cx="9907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7" name=""/>
          <p:cNvGrpSpPr/>
          <p:nvPr/>
        </p:nvGrpSpPr>
        <p:grpSpPr>
          <a:xfrm>
            <a:off x="3505320" y="5715000"/>
            <a:ext cx="4900320" cy="588960"/>
            <a:chOff x="3505320" y="5715000"/>
            <a:chExt cx="4900320" cy="588960"/>
          </a:xfrm>
        </p:grpSpPr>
        <p:graphicFrame>
          <p:nvGraphicFramePr>
            <p:cNvPr id="288" name=""/>
            <p:cNvGraphicFramePr/>
            <p:nvPr/>
          </p:nvGraphicFramePr>
          <p:xfrm>
            <a:off x="3505320" y="5715000"/>
            <a:ext cx="1981080" cy="588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505320" y="5715000"/>
                      <a:ext cx="198108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5548680" y="5805720"/>
              <a:ext cx="285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стационарно състоя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DE9-9FB8-47CD-9CA9-CE85FF2FC5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09480" y="990720"/>
            <a:ext cx="1371600" cy="5638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67040" y="990720"/>
            <a:ext cx="6172200" cy="56386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620720" y="4916520"/>
            <a:ext cx="1198800" cy="1654200"/>
            <a:chOff x="1620720" y="4916520"/>
            <a:chExt cx="1198800" cy="1654200"/>
          </a:xfrm>
        </p:grpSpPr>
        <p:sp>
          <p:nvSpPr>
            <p:cNvPr id="294" name=""/>
            <p:cNvSpPr/>
            <p:nvPr/>
          </p:nvSpPr>
          <p:spPr>
            <a:xfrm>
              <a:off x="1620720" y="5297400"/>
              <a:ext cx="806400" cy="857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bg-BG" sz="3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09920" y="5896080"/>
              <a:ext cx="309600" cy="322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40080" y="6129360"/>
              <a:ext cx="123840" cy="13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41520" y="5867280"/>
              <a:ext cx="122400" cy="136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09920" y="5345280"/>
              <a:ext cx="309600" cy="322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38280" y="5578560"/>
              <a:ext cx="123840" cy="13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40080" y="5316480"/>
              <a:ext cx="123840" cy="13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0920" y="4944960"/>
              <a:ext cx="309600" cy="322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81080" y="5178600"/>
              <a:ext cx="123840" cy="13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82880" y="4916520"/>
              <a:ext cx="122040" cy="13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50920" y="6200640"/>
              <a:ext cx="309600" cy="322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81080" y="6434280"/>
              <a:ext cx="123840" cy="13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82880" y="6172200"/>
              <a:ext cx="122040" cy="13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955960" y="5791320"/>
            <a:ext cx="3457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526080" y="5040360"/>
            <a:ext cx="1555920" cy="1589040"/>
            <a:chOff x="6526080" y="5040360"/>
            <a:chExt cx="1555920" cy="1589040"/>
          </a:xfrm>
        </p:grpSpPr>
        <p:sp>
          <p:nvSpPr>
            <p:cNvPr id="309" name=""/>
            <p:cNvSpPr/>
            <p:nvPr/>
          </p:nvSpPr>
          <p:spPr>
            <a:xfrm>
              <a:off x="6888240" y="5351400"/>
              <a:ext cx="804960" cy="858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702560" y="5684760"/>
              <a:ext cx="379440" cy="398520"/>
              <a:chOff x="7702560" y="5684760"/>
              <a:chExt cx="379440" cy="398520"/>
            </a:xfrm>
          </p:grpSpPr>
          <p:sp>
            <p:nvSpPr>
              <p:cNvPr id="311" name=""/>
              <p:cNvSpPr/>
              <p:nvPr/>
            </p:nvSpPr>
            <p:spPr>
              <a:xfrm>
                <a:off x="7773120" y="5713200"/>
                <a:ext cx="308880" cy="321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02560" y="5947200"/>
                <a:ext cx="12312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703640" y="5684760"/>
                <a:ext cx="12312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6526080" y="5742000"/>
              <a:ext cx="379440" cy="398520"/>
              <a:chOff x="6526080" y="5742000"/>
              <a:chExt cx="379440" cy="398520"/>
            </a:xfrm>
          </p:grpSpPr>
          <p:sp>
            <p:nvSpPr>
              <p:cNvPr id="315" name=""/>
              <p:cNvSpPr/>
              <p:nvPr/>
            </p:nvSpPr>
            <p:spPr>
              <a:xfrm>
                <a:off x="6596640" y="5770440"/>
                <a:ext cx="308880" cy="321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26080" y="6004440"/>
                <a:ext cx="12312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527160" y="5742000"/>
                <a:ext cx="12312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7481880" y="5040360"/>
              <a:ext cx="379440" cy="398520"/>
              <a:chOff x="7481880" y="5040360"/>
              <a:chExt cx="379440" cy="398520"/>
            </a:xfrm>
          </p:grpSpPr>
          <p:sp>
            <p:nvSpPr>
              <p:cNvPr id="319" name=""/>
              <p:cNvSpPr/>
              <p:nvPr/>
            </p:nvSpPr>
            <p:spPr>
              <a:xfrm>
                <a:off x="7552440" y="5068800"/>
                <a:ext cx="308880" cy="321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481880" y="5302800"/>
                <a:ext cx="12312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482960" y="5040360"/>
                <a:ext cx="12312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730920" y="5048280"/>
              <a:ext cx="379440" cy="398520"/>
              <a:chOff x="6730920" y="5048280"/>
              <a:chExt cx="379440" cy="398520"/>
            </a:xfrm>
          </p:grpSpPr>
          <p:sp>
            <p:nvSpPr>
              <p:cNvPr id="323" name=""/>
              <p:cNvSpPr/>
              <p:nvPr/>
            </p:nvSpPr>
            <p:spPr>
              <a:xfrm>
                <a:off x="6801480" y="5076720"/>
                <a:ext cx="308880" cy="321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730920" y="5310720"/>
                <a:ext cx="12312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732000" y="5048280"/>
                <a:ext cx="12312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356600" y="6221520"/>
              <a:ext cx="380520" cy="398520"/>
              <a:chOff x="7356600" y="6221520"/>
              <a:chExt cx="380520" cy="398520"/>
            </a:xfrm>
          </p:grpSpPr>
          <p:sp>
            <p:nvSpPr>
              <p:cNvPr id="327" name=""/>
              <p:cNvSpPr/>
              <p:nvPr/>
            </p:nvSpPr>
            <p:spPr>
              <a:xfrm>
                <a:off x="7427160" y="6249960"/>
                <a:ext cx="309960" cy="321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356600" y="6483960"/>
                <a:ext cx="12348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57680" y="6221520"/>
                <a:ext cx="12348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6843600" y="6230880"/>
              <a:ext cx="379440" cy="398520"/>
              <a:chOff x="6843600" y="6230880"/>
              <a:chExt cx="379440" cy="398520"/>
            </a:xfrm>
          </p:grpSpPr>
          <p:sp>
            <p:nvSpPr>
              <p:cNvPr id="331" name=""/>
              <p:cNvSpPr/>
              <p:nvPr/>
            </p:nvSpPr>
            <p:spPr>
              <a:xfrm>
                <a:off x="6914160" y="6259320"/>
                <a:ext cx="308880" cy="321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843600" y="6493320"/>
                <a:ext cx="12312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44680" y="6230880"/>
                <a:ext cx="12312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3137760" y="6019920"/>
            <a:ext cx="278388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ранспорт на метални йо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4095720"/>
            <a:ext cx="806400" cy="857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51040" y="3246480"/>
            <a:ext cx="40932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bg-BG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2895480"/>
            <a:ext cx="3733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477120" y="2133720"/>
            <a:ext cx="1446120" cy="1236600"/>
            <a:chOff x="6477120" y="2133720"/>
            <a:chExt cx="1446120" cy="1236600"/>
          </a:xfrm>
        </p:grpSpPr>
        <p:sp>
          <p:nvSpPr>
            <p:cNvPr id="339" name=""/>
            <p:cNvSpPr/>
            <p:nvPr/>
          </p:nvSpPr>
          <p:spPr>
            <a:xfrm>
              <a:off x="6838920" y="2444760"/>
              <a:ext cx="804960" cy="85716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7543800" y="2971800"/>
              <a:ext cx="379440" cy="398520"/>
              <a:chOff x="7543800" y="2971800"/>
              <a:chExt cx="379440" cy="398520"/>
            </a:xfrm>
          </p:grpSpPr>
          <p:sp>
            <p:nvSpPr>
              <p:cNvPr id="341" name=""/>
              <p:cNvSpPr/>
              <p:nvPr/>
            </p:nvSpPr>
            <p:spPr>
              <a:xfrm>
                <a:off x="7614360" y="3000240"/>
                <a:ext cx="308880" cy="321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543800" y="3234240"/>
                <a:ext cx="12312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544880" y="2971800"/>
                <a:ext cx="12312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477120" y="2835360"/>
              <a:ext cx="379440" cy="398520"/>
              <a:chOff x="6477120" y="2835360"/>
              <a:chExt cx="379440" cy="398520"/>
            </a:xfrm>
          </p:grpSpPr>
          <p:sp>
            <p:nvSpPr>
              <p:cNvPr id="345" name=""/>
              <p:cNvSpPr/>
              <p:nvPr/>
            </p:nvSpPr>
            <p:spPr>
              <a:xfrm>
                <a:off x="6547680" y="2863800"/>
                <a:ext cx="308880" cy="321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477120" y="3097800"/>
                <a:ext cx="12312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78200" y="2835360"/>
                <a:ext cx="12312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432560" y="2133720"/>
              <a:ext cx="379440" cy="398520"/>
              <a:chOff x="7432560" y="2133720"/>
              <a:chExt cx="379440" cy="398520"/>
            </a:xfrm>
          </p:grpSpPr>
          <p:sp>
            <p:nvSpPr>
              <p:cNvPr id="349" name=""/>
              <p:cNvSpPr/>
              <p:nvPr/>
            </p:nvSpPr>
            <p:spPr>
              <a:xfrm>
                <a:off x="7503120" y="2162160"/>
                <a:ext cx="308880" cy="321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32560" y="2396160"/>
                <a:ext cx="12312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433640" y="2133720"/>
                <a:ext cx="12312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6681960" y="2141640"/>
              <a:ext cx="378720" cy="398520"/>
              <a:chOff x="6681960" y="2141640"/>
              <a:chExt cx="378720" cy="398520"/>
            </a:xfrm>
          </p:grpSpPr>
          <p:sp>
            <p:nvSpPr>
              <p:cNvPr id="353" name=""/>
              <p:cNvSpPr/>
              <p:nvPr/>
            </p:nvSpPr>
            <p:spPr>
              <a:xfrm>
                <a:off x="6752160" y="2170080"/>
                <a:ext cx="308520" cy="321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81960" y="2404080"/>
                <a:ext cx="12276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683040" y="2141640"/>
                <a:ext cx="12276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"/>
          <p:cNvSpPr/>
          <p:nvPr/>
        </p:nvSpPr>
        <p:spPr>
          <a:xfrm>
            <a:off x="1616040" y="2473200"/>
            <a:ext cx="804960" cy="8589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143000" y="29714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48769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066680" y="3733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58200" y="2514600"/>
            <a:ext cx="291024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ранспорт на деполяриз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43000" y="1249200"/>
            <a:ext cx="804960" cy="8589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27520" y="1676520"/>
            <a:ext cx="3457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77120" y="1143000"/>
            <a:ext cx="804600" cy="8589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90280" y="1243080"/>
            <a:ext cx="221544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ранспорт на проду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905120" y="1980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6880" y="5257800"/>
            <a:ext cx="1179000" cy="106740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нос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овар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нод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ц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9080" y="1546200"/>
            <a:ext cx="1076040" cy="131076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нос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овар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атод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ц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6040" y="155520"/>
            <a:ext cx="7851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- едновременно протичане на д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акции с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ренос на товар на  границата метал / електролитна среда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9520" y="48006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981080" y="3381480"/>
            <a:ext cx="2132280" cy="2046240"/>
            <a:chOff x="1981080" y="3381480"/>
            <a:chExt cx="2132280" cy="2046240"/>
          </a:xfrm>
        </p:grpSpPr>
        <p:grpSp>
          <p:nvGrpSpPr>
            <p:cNvPr id="371" name=""/>
            <p:cNvGrpSpPr/>
            <p:nvPr/>
          </p:nvGrpSpPr>
          <p:grpSpPr>
            <a:xfrm>
              <a:off x="3733920" y="4114800"/>
              <a:ext cx="379440" cy="1312920"/>
              <a:chOff x="3733920" y="4114800"/>
              <a:chExt cx="379440" cy="131292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3733920" y="4114800"/>
                <a:ext cx="379440" cy="398520"/>
                <a:chOff x="3733920" y="4114800"/>
                <a:chExt cx="379440" cy="3985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3804480" y="4143240"/>
                  <a:ext cx="308880" cy="321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733920" y="4377240"/>
                  <a:ext cx="123120" cy="136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735000" y="4114800"/>
                  <a:ext cx="123120" cy="136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3733920" y="4572000"/>
                <a:ext cx="379440" cy="398520"/>
                <a:chOff x="3733920" y="4572000"/>
                <a:chExt cx="379440" cy="3985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3804480" y="4600440"/>
                  <a:ext cx="308880" cy="321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733920" y="4834440"/>
                  <a:ext cx="123120" cy="136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735000" y="4572000"/>
                  <a:ext cx="123120" cy="136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733920" y="5029200"/>
                <a:ext cx="379440" cy="398520"/>
                <a:chOff x="3733920" y="5029200"/>
                <a:chExt cx="379440" cy="3985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804480" y="5057640"/>
                  <a:ext cx="308880" cy="321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733920" y="5291640"/>
                  <a:ext cx="123120" cy="136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735000" y="5029200"/>
                  <a:ext cx="123120" cy="136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4" name=""/>
            <p:cNvSpPr/>
            <p:nvPr/>
          </p:nvSpPr>
          <p:spPr>
            <a:xfrm>
              <a:off x="1981080" y="3429000"/>
              <a:ext cx="806400" cy="857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4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66880" y="3381480"/>
              <a:ext cx="309600" cy="322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78280" y="3429000"/>
              <a:ext cx="123840" cy="13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43200" y="3838680"/>
              <a:ext cx="309600" cy="322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54240" y="3886200"/>
              <a:ext cx="123840" cy="13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H="1" flipV="1">
            <a:off x="2819520" y="419112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39800" y="3448080"/>
            <a:ext cx="240732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върхностен филм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розионни продук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8EB-5EE3-43BE-8A8B-3463ED3A7F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4240" y="19224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ъ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1800" y="733320"/>
            <a:ext cx="826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Корозия - самопроизволно разрушаване на металите чрез химична или електрохимична реакция в резултат на взаимодействието им съ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заобикалящата ги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0960" y="1789200"/>
            <a:ext cx="896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Същност на корозия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съвкупност от хетерогенни химични или електрохимич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акции, протичащи на фазовата граница метал / заобикаляща го течна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азова среда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металът преминава в окислено (йонно) състояние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905120" y="2895480"/>
          <a:ext cx="5638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95480"/>
                    <a:ext cx="5638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08080" y="3998880"/>
            <a:ext cx="873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Особености на корозионните процес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окислителните и редукционните стад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тичат на различни места върху метал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свободно движение на е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нодните към катодните участъци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системата е електрохимична 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95280" y="5791320"/>
          <a:ext cx="281952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5791320"/>
                    <a:ext cx="28195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609200" y="5257800"/>
            <a:ext cx="17596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ноден проц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63920" y="5029200"/>
            <a:ext cx="19591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атодни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800600" y="5410080"/>
          <a:ext cx="2743200" cy="12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5410080"/>
                    <a:ext cx="27432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3E7-AD1F-4F80-ACD0-6430808C8C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28600" y="15228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1520" y="595080"/>
            <a:ext cx="649260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040" rIns="90000" tIns="152280" bIns="38160" anchor="ctr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ермодинамика на електрохимичната коро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75200" y="127008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амопроизволно извършване на корозионния проце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762120" y="1660680"/>
          <a:ext cx="1143000" cy="42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0680"/>
                    <a:ext cx="11430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681120" y="2378160"/>
          <a:ext cx="456408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1120" y="2378160"/>
                    <a:ext cx="4564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190520" y="4025880"/>
          <a:ext cx="478152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0520" y="4025880"/>
                    <a:ext cx="478152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573120" y="300816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вновесният потенциал на метала трябва да е по-отрицателен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вновесния потенциал на редукция на деполяриз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34440" y="4991040"/>
            <a:ext cx="83048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лектрохимичната корозия се извършва самопроизволно, ако в разтв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ма деполяризатор, чийто окислително-редукционен потенц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о-положителен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т равновесния потенциал на мет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CA7-61C9-4AC3-A027-CD0D05DF09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274680"/>
            <a:ext cx="69613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5040" rIns="90000" tIns="152280" bIns="38160" anchor="ctr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ермодинамика на електрохимичната корозия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" y="1158840"/>
            <a:ext cx="358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3300"/>
                </a:solidFill>
                <a:latin typeface="Arial"/>
              </a:rPr>
              <a:t>Диаграми на Пурбе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</a:rPr>
              <a:t>изотермични фазо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</a:rPr>
              <a:t>диаграми на състоянието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на системата метал-в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в координати потенциал-</a:t>
            </a: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равновесия метал-йо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оксид (хидроксид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ласт на имун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ласти на ко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V,V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области на пас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блокиране на повърхността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абилни оксиди/хидрокси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rcRect l="0" t="4815" r="9676" b="0"/>
          <a:stretch/>
        </p:blipFill>
        <p:spPr>
          <a:xfrm>
            <a:off x="2270160" y="836640"/>
            <a:ext cx="6873840" cy="58863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14480" y="4943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0600" y="4857840"/>
          <a:ext cx="2854080" cy="47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600" y="4857840"/>
                    <a:ext cx="28540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206280" y="5283360"/>
          <a:ext cx="3300480" cy="46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80" y="5283360"/>
                    <a:ext cx="3300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4A7-031D-48C6-9775-D3BD362678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274680"/>
            <a:ext cx="69613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5040" rIns="90000" tIns="152280" bIns="38160" anchor="ctr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ермодинамика на електрохимичната корозия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996560" y="1011240"/>
            <a:ext cx="5227560" cy="5383080"/>
            <a:chOff x="1996560" y="1011240"/>
            <a:chExt cx="5227560" cy="5383080"/>
          </a:xfrm>
        </p:grpSpPr>
        <p:sp>
          <p:nvSpPr>
            <p:cNvPr id="418" name=""/>
            <p:cNvSpPr/>
            <p:nvPr/>
          </p:nvSpPr>
          <p:spPr>
            <a:xfrm>
              <a:off x="2711520" y="1112760"/>
              <a:ext cx="4100400" cy="469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14800" y="56642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63800" y="56624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32320" y="56786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56200" y="56768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35800" y="56800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91360" y="56642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48480" y="5935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97480" y="5935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69240" y="594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78720" y="5935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02960" y="5937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95160" y="59500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52160" y="60260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12960" y="48560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25560" y="37926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12960" y="26701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98920" y="1655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27520" y="5675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-2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43360" y="46544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-1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54680" y="3586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9200" y="1438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11680" y="24591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97120" y="3368520"/>
              <a:ext cx="4100400" cy="1447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11520" y="2332080"/>
              <a:ext cx="4100400" cy="1447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65240" y="47912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41200" y="139212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72720" y="29462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030800">
              <a:off x="2844720" y="3785040"/>
              <a:ext cx="1608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r>
                <a:rPr b="0" lang="en-US" sz="1800" spc="-1" strike="noStrike" baseline="30000">
                  <a:solidFill>
                    <a:srgbClr val="0000ff"/>
                  </a:solidFill>
                  <a:latin typeface="Arial"/>
                </a:rPr>
                <a:t>+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 + e</a:t>
              </a:r>
              <a:r>
                <a:rPr b="0" lang="en-US" sz="1800" spc="-1" strike="noStrike" baseline="30000">
                  <a:solidFill>
                    <a:srgbClr val="0000ff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 =1/2H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030800">
              <a:off x="2683800" y="2813040"/>
              <a:ext cx="244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 + 4e</a:t>
              </a:r>
              <a:r>
                <a:rPr b="0" lang="en-US" sz="1800" spc="-1" strike="noStrike" baseline="30000">
                  <a:solidFill>
                    <a:srgbClr val="0000ff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 + 2H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O=4OH</a:t>
              </a:r>
              <a:r>
                <a:rPr b="0" lang="en-US" sz="1800" spc="-1" strike="noStrike" baseline="30000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96560" y="101124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96000" y="5261040"/>
              <a:ext cx="88920" cy="8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94200" y="5367240"/>
              <a:ext cx="88920" cy="8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78360" y="4970520"/>
              <a:ext cx="88920" cy="8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79800" y="4756320"/>
              <a:ext cx="88920" cy="88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79800" y="4543560"/>
              <a:ext cx="88920" cy="8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94200" y="4194000"/>
              <a:ext cx="88920" cy="8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79800" y="4025880"/>
              <a:ext cx="88920" cy="8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78360" y="3813120"/>
              <a:ext cx="88920" cy="8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62520" y="3552840"/>
              <a:ext cx="88920" cy="8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79800" y="3049560"/>
              <a:ext cx="88920" cy="8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76920" y="2913120"/>
              <a:ext cx="88920" cy="8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79800" y="2668680"/>
              <a:ext cx="88920" cy="8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48120" y="1982880"/>
              <a:ext cx="88920" cy="8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75280" y="178920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60880" y="2444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46480" y="294804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60880" y="27036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45040" y="338940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90760" y="363384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1000" y="3906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60880" y="413532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60520" y="439416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61600" y="4624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74920" y="48531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14800" y="53244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30280" y="50497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DAB-112F-4AFF-8FB2-607DBD5153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23720" y="982800"/>
            <a:ext cx="7696440" cy="54752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0" y="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274680"/>
            <a:ext cx="69613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5040" rIns="90000" tIns="152280" bIns="38160" anchor="ctr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ермодинамика на електрохимичната корозия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FC3-4069-4E87-B431-E204855809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096920" y="1092240"/>
            <a:ext cx="7391520" cy="49402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0" y="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274680"/>
            <a:ext cx="69613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5040" rIns="90000" tIns="152280" bIns="38160" anchor="ctr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ермодинамика на електрохимичната корозия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471-2032-4ED4-8BF3-01D43E7DB8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010280" cy="46753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0" y="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274680"/>
            <a:ext cx="69613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5040" rIns="90000" tIns="152280" bIns="38160" anchor="ctr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ермодинамика на електрохимичната корозия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DA3-3512-42B9-96F1-7B949B12BB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1219320" y="870120"/>
            <a:ext cx="7162560" cy="49212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0" y="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274680"/>
            <a:ext cx="69613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5040" rIns="90000" tIns="152280" bIns="38160" anchor="ctr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ермодинамика на електрохимичната корозия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82F-A558-4189-804F-09610630B1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705720" cy="45320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0" y="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274680"/>
            <a:ext cx="69613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5040" rIns="90000" tIns="152280" bIns="38160" anchor="ctr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ермодинамика на електрохимичната корозия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299-C4F0-4FF5-B71D-18568FAFC9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-8280" y="380880"/>
            <a:ext cx="562536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040" rIns="90000" tIns="152280" bIns="38160" anchor="ctr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инетика на електрохимичната коро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" y="1066680"/>
            <a:ext cx="41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орозия с водородна деполяр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053000" y="163656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умарна корозионна реа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600200" y="2133720"/>
          <a:ext cx="358128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358128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996120" y="2682720"/>
            <a:ext cx="39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арциални електродни реа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052640" y="3262320"/>
          <a:ext cx="228600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2640" y="3262320"/>
                    <a:ext cx="22860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4788720" y="325116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нодно разтваряне на ме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055520" y="3983040"/>
          <a:ext cx="236880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55520" y="3983040"/>
                    <a:ext cx="23688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817520" y="3983040"/>
            <a:ext cx="32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атодно отлагане на ме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944640" y="4770360"/>
          <a:ext cx="3354480" cy="57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44640" y="4770360"/>
                    <a:ext cx="33544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4784760" y="48531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атодна редукция на водородни й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915840" y="5624640"/>
          <a:ext cx="332280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5840" y="5624640"/>
                    <a:ext cx="33228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4740480" y="561672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нодна йонизация на вод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625-3441-4399-BC79-98EEE93137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507840" y="1600200"/>
            <a:ext cx="45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умарна скорост на окисление на ме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762120"/>
            <a:ext cx="44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орозия с водородна деполяризация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00360" y="2855880"/>
            <a:ext cx="36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словие за електронеутра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914400" y="3276720"/>
          <a:ext cx="47242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76720"/>
                    <a:ext cx="47242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5791680" y="355284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 случ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7391520" y="3267000"/>
          <a:ext cx="1295280" cy="9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3267000"/>
                    <a:ext cx="129528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268920" y="4273560"/>
            <a:ext cx="86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авномерна короз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лектродният потенциал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има една и съща стой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в всяка точка от повърхността на метал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70440" y="5005440"/>
            <a:ext cx="70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арциалните криви ток - потенциал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кородиращия мет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а точно определени и еднозначн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519120" y="5756400"/>
          <a:ext cx="7178760" cy="63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9120" y="5756400"/>
                    <a:ext cx="71787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1031760" y="1415880"/>
          <a:ext cx="1652760" cy="54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31760" y="1415880"/>
                    <a:ext cx="165276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1003320" y="2109960"/>
          <a:ext cx="164448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3320" y="2109960"/>
                    <a:ext cx="16444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"/>
          <p:cNvSpPr/>
          <p:nvPr/>
        </p:nvSpPr>
        <p:spPr>
          <a:xfrm>
            <a:off x="3473280" y="2246400"/>
            <a:ext cx="54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умарна скорост на редукция на водородни й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382-BEB6-4E49-8CB2-929B7A1695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43520" y="19224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ъведение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76400" y="1592280"/>
            <a:ext cx="7014960" cy="39751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2019240" y="2160720"/>
            <a:ext cx="4019400" cy="2283120"/>
            <a:chOff x="2019240" y="2160720"/>
            <a:chExt cx="4019400" cy="2283120"/>
          </a:xfrm>
        </p:grpSpPr>
        <p:sp>
          <p:nvSpPr>
            <p:cNvPr id="60" name=""/>
            <p:cNvSpPr/>
            <p:nvPr/>
          </p:nvSpPr>
          <p:spPr>
            <a:xfrm>
              <a:off x="4663800" y="2160720"/>
              <a:ext cx="1122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Arial"/>
                </a:rPr>
                <a:t>Възду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14960" y="2860560"/>
              <a:ext cx="823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1679400" y="3735720"/>
              <a:ext cx="1047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Желяз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04000" y="7221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орозия на стом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A44-8F1B-4B27-A849-686A4741A3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30040" y="517680"/>
            <a:ext cx="44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орозия с водородна деполяризация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2880" y="996840"/>
            <a:ext cx="847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≤ 2 – скоростта на отделяне на Н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се лимитира от реакцията на Фолмер на пренос на товар през двойния електричен слой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30200" y="1825560"/>
          <a:ext cx="785340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825560"/>
                    <a:ext cx="785340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410400" y="4829040"/>
            <a:ext cx="793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овърхността на електрода не е покрита с оксиден слой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коростите на разтваряне и редукция на метала обикновено 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лимитират от стадия на пренос на товар през двойния електричен слой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623960" y="5911920"/>
          <a:ext cx="586116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3960" y="5911920"/>
                    <a:ext cx="58611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471600" y="27496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ли в опростен ви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552600" y="3208320"/>
          <a:ext cx="51512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2600" y="3208320"/>
                    <a:ext cx="5151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596880" y="3862440"/>
          <a:ext cx="7329600" cy="87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880" y="3862440"/>
                    <a:ext cx="73296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716-7EF1-4402-9FDF-B886F39A8B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660240" y="605880"/>
            <a:ext cx="34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оляризационна 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59320" y="289080"/>
            <a:ext cx="44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орозия с водородна деполяризация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5348160" y="2092320"/>
          <a:ext cx="118116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8160" y="2092320"/>
                    <a:ext cx="11811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5308560" y="1449360"/>
          <a:ext cx="114948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8560" y="1449360"/>
                    <a:ext cx="1149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5376960" y="892080"/>
            <a:ext cx="29066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ри 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fi-FI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 = 0 т.е. при </a:t>
            </a:r>
            <a:r>
              <a:rPr b="1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1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fi-FI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fi-FI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130880" y="2103480"/>
            <a:ext cx="565200" cy="258840"/>
          </a:xfrm>
          <a:prstGeom prst="rightArrow">
            <a:avLst>
              <a:gd name="adj1" fmla="val 50000"/>
              <a:gd name="adj2" fmla="val 545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5400000">
            <a:off x="6917040" y="4542480"/>
            <a:ext cx="565200" cy="258840"/>
          </a:xfrm>
          <a:prstGeom prst="rightArrow">
            <a:avLst>
              <a:gd name="adj1" fmla="val 50000"/>
              <a:gd name="adj2" fmla="val 545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343480" y="5108400"/>
          <a:ext cx="371808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43480" y="5108400"/>
                    <a:ext cx="37180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82440" y="471600"/>
            <a:ext cx="5337360" cy="6262560"/>
            <a:chOff x="82440" y="471600"/>
            <a:chExt cx="5337360" cy="6262560"/>
          </a:xfrm>
        </p:grpSpPr>
        <p:grpSp>
          <p:nvGrpSpPr>
            <p:cNvPr id="562" name=""/>
            <p:cNvGrpSpPr/>
            <p:nvPr/>
          </p:nvGrpSpPr>
          <p:grpSpPr>
            <a:xfrm>
              <a:off x="82440" y="471600"/>
              <a:ext cx="3905280" cy="6262560"/>
              <a:chOff x="82440" y="471600"/>
              <a:chExt cx="3905280" cy="6262560"/>
            </a:xfrm>
          </p:grpSpPr>
          <p:sp>
            <p:nvSpPr>
              <p:cNvPr id="563" name=""/>
              <p:cNvSpPr/>
              <p:nvPr/>
            </p:nvSpPr>
            <p:spPr>
              <a:xfrm flipV="1">
                <a:off x="546120" y="898560"/>
                <a:ext cx="0" cy="578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96480" y="4429800"/>
                <a:ext cx="3729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803040" y="3824640"/>
                <a:ext cx="184680" cy="36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6640" y="471600"/>
                <a:ext cx="183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2440" y="1172520"/>
                <a:ext cx="3674520" cy="5550840"/>
              </a:xfrm>
              <a:custGeom>
                <a:avLst/>
                <a:gdLst/>
                <a:ahLst/>
                <a:rect l="l" t="t" r="r" b="b"/>
                <a:pathLst>
                  <a:path w="3360" h="1036">
                    <a:moveTo>
                      <a:pt x="0" y="1036"/>
                    </a:moveTo>
                    <a:cubicBezTo>
                      <a:pt x="114" y="1009"/>
                      <a:pt x="485" y="917"/>
                      <a:pt x="684" y="872"/>
                    </a:cubicBezTo>
                    <a:cubicBezTo>
                      <a:pt x="883" y="827"/>
                      <a:pt x="1041" y="801"/>
                      <a:pt x="1196" y="768"/>
                    </a:cubicBezTo>
                    <a:cubicBezTo>
                      <a:pt x="1351" y="735"/>
                      <a:pt x="1495" y="703"/>
                      <a:pt x="1616" y="676"/>
                    </a:cubicBezTo>
                    <a:cubicBezTo>
                      <a:pt x="1737" y="649"/>
                      <a:pt x="1793" y="638"/>
                      <a:pt x="1920" y="608"/>
                    </a:cubicBezTo>
                    <a:cubicBezTo>
                      <a:pt x="2047" y="578"/>
                      <a:pt x="2221" y="544"/>
                      <a:pt x="2376" y="496"/>
                    </a:cubicBezTo>
                    <a:cubicBezTo>
                      <a:pt x="2531" y="448"/>
                      <a:pt x="2736" y="376"/>
                      <a:pt x="2850" y="318"/>
                    </a:cubicBezTo>
                    <a:cubicBezTo>
                      <a:pt x="2964" y="260"/>
                      <a:pt x="3015" y="233"/>
                      <a:pt x="3102" y="180"/>
                    </a:cubicBezTo>
                    <a:cubicBezTo>
                      <a:pt x="3187" y="127"/>
                      <a:pt x="3306" y="37"/>
                      <a:pt x="336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1080" y="1205280"/>
                <a:ext cx="3648240" cy="3235320"/>
              </a:xfrm>
              <a:custGeom>
                <a:avLst/>
                <a:gdLst/>
                <a:ahLst/>
                <a:rect l="l" t="t" r="r" b="b"/>
                <a:pathLst>
                  <a:path w="3336" h="604">
                    <a:moveTo>
                      <a:pt x="0" y="594"/>
                    </a:moveTo>
                    <a:cubicBezTo>
                      <a:pt x="207" y="599"/>
                      <a:pt x="405" y="604"/>
                      <a:pt x="654" y="594"/>
                    </a:cubicBezTo>
                    <a:cubicBezTo>
                      <a:pt x="903" y="584"/>
                      <a:pt x="1223" y="563"/>
                      <a:pt x="1494" y="534"/>
                    </a:cubicBezTo>
                    <a:cubicBezTo>
                      <a:pt x="1765" y="505"/>
                      <a:pt x="2043" y="468"/>
                      <a:pt x="2280" y="420"/>
                    </a:cubicBezTo>
                    <a:cubicBezTo>
                      <a:pt x="2517" y="372"/>
                      <a:pt x="2740" y="316"/>
                      <a:pt x="2916" y="246"/>
                    </a:cubicBezTo>
                    <a:cubicBezTo>
                      <a:pt x="3092" y="176"/>
                      <a:pt x="3249" y="51"/>
                      <a:pt x="333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409480" y="2217240"/>
                <a:ext cx="18360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707480" y="5234040"/>
                <a:ext cx="18468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7560" y="4473360"/>
                <a:ext cx="3647880" cy="2260800"/>
              </a:xfrm>
              <a:custGeom>
                <a:avLst/>
                <a:gdLst/>
                <a:ahLst/>
                <a:rect l="l" t="t" r="r" b="b"/>
                <a:pathLst>
                  <a:path w="3336" h="422">
                    <a:moveTo>
                      <a:pt x="3336" y="0"/>
                    </a:moveTo>
                    <a:cubicBezTo>
                      <a:pt x="3219" y="4"/>
                      <a:pt x="2879" y="8"/>
                      <a:pt x="2634" y="26"/>
                    </a:cubicBezTo>
                    <a:cubicBezTo>
                      <a:pt x="2389" y="44"/>
                      <a:pt x="2125" y="79"/>
                      <a:pt x="1866" y="110"/>
                    </a:cubicBezTo>
                    <a:cubicBezTo>
                      <a:pt x="1607" y="141"/>
                      <a:pt x="1315" y="178"/>
                      <a:pt x="1080" y="212"/>
                    </a:cubicBezTo>
                    <a:cubicBezTo>
                      <a:pt x="845" y="246"/>
                      <a:pt x="636" y="279"/>
                      <a:pt x="456" y="314"/>
                    </a:cubicBezTo>
                    <a:cubicBezTo>
                      <a:pt x="276" y="349"/>
                      <a:pt x="95" y="400"/>
                      <a:pt x="0" y="4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177640" y="3792960"/>
                <a:ext cx="0" cy="123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1760" y="3155400"/>
                <a:ext cx="18468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534960" y="5029920"/>
                <a:ext cx="16401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530640" y="3787200"/>
                <a:ext cx="16401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22120" y="4456440"/>
                <a:ext cx="18360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2154240" y="4319280"/>
              <a:ext cx="46080" cy="22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022480" y="4897440"/>
              <a:ext cx="1843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442440" y="4143240"/>
              <a:ext cx="3313440" cy="647280"/>
              <a:chOff x="442440" y="4143240"/>
              <a:chExt cx="3313440" cy="647280"/>
            </a:xfrm>
          </p:grpSpPr>
          <p:sp>
            <p:nvSpPr>
              <p:cNvPr id="580" name=""/>
              <p:cNvSpPr/>
              <p:nvPr/>
            </p:nvSpPr>
            <p:spPr>
              <a:xfrm>
                <a:off x="2603520" y="4143240"/>
                <a:ext cx="1152360" cy="647280"/>
              </a:xfrm>
              <a:custGeom>
                <a:avLst/>
                <a:gdLst/>
                <a:ahLst/>
                <a:rect l="l" t="t" r="r" b="b"/>
                <a:pathLst>
                  <a:path w="862" h="484">
                    <a:moveTo>
                      <a:pt x="0" y="484"/>
                    </a:moveTo>
                    <a:cubicBezTo>
                      <a:pt x="295" y="318"/>
                      <a:pt x="590" y="152"/>
                      <a:pt x="726" y="76"/>
                    </a:cubicBezTo>
                    <a:cubicBezTo>
                      <a:pt x="862" y="0"/>
                      <a:pt x="801" y="38"/>
                      <a:pt x="816" y="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819520" y="4143240"/>
                <a:ext cx="863640" cy="286920"/>
              </a:xfrm>
              <a:custGeom>
                <a:avLst/>
                <a:gdLst/>
                <a:ahLst/>
                <a:rect l="l" t="t" r="r" b="b"/>
                <a:pathLst>
                  <a:path w="453" h="136">
                    <a:moveTo>
                      <a:pt x="453" y="0"/>
                    </a:moveTo>
                    <a:cubicBezTo>
                      <a:pt x="260" y="56"/>
                      <a:pt x="68" y="113"/>
                      <a:pt x="0" y="13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442440" y="4358880"/>
                <a:ext cx="576360" cy="14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2827440" y="37828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3179880" y="2774880"/>
              <a:ext cx="3603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21600" y="241452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8600" y="7794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757680" y="4430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251160" y="4430520"/>
              <a:ext cx="71640" cy="57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24240" y="507996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0" name=""/>
            <p:cNvGraphicFramePr/>
            <p:nvPr/>
          </p:nvGraphicFramePr>
          <p:xfrm>
            <a:off x="3251160" y="4979880"/>
            <a:ext cx="906480" cy="563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51160" y="4979880"/>
                      <a:ext cx="906480" cy="56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"/>
            <p:cNvGraphicFramePr/>
            <p:nvPr/>
          </p:nvGraphicFramePr>
          <p:xfrm>
            <a:off x="731880" y="3382920"/>
            <a:ext cx="1089000" cy="688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880" y="3382920"/>
                      <a:ext cx="1089000" cy="68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4" name=""/>
            <p:cNvSpPr/>
            <p:nvPr/>
          </p:nvSpPr>
          <p:spPr>
            <a:xfrm flipV="1">
              <a:off x="658800" y="4071600"/>
              <a:ext cx="216000" cy="35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5" name=""/>
            <p:cNvGraphicFramePr/>
            <p:nvPr/>
          </p:nvGraphicFramePr>
          <p:xfrm>
            <a:off x="139680" y="4503600"/>
            <a:ext cx="1671840" cy="872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9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9680" y="4503600"/>
                      <a:ext cx="1671840" cy="87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7" name=""/>
            <p:cNvSpPr/>
            <p:nvPr/>
          </p:nvSpPr>
          <p:spPr>
            <a:xfrm>
              <a:off x="2180520" y="44244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47880" y="3782880"/>
              <a:ext cx="0" cy="64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395520" y="3855600"/>
              <a:ext cx="432000" cy="35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0" name=""/>
            <p:cNvGraphicFramePr/>
            <p:nvPr/>
          </p:nvGraphicFramePr>
          <p:xfrm>
            <a:off x="3611520" y="2963880"/>
            <a:ext cx="1808280" cy="858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0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11520" y="2963880"/>
                      <a:ext cx="1808280" cy="85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2" name=""/>
            <p:cNvSpPr/>
            <p:nvPr/>
          </p:nvSpPr>
          <p:spPr>
            <a:xfrm>
              <a:off x="2532240" y="4863960"/>
              <a:ext cx="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3" name=""/>
            <p:cNvGraphicFramePr/>
            <p:nvPr/>
          </p:nvGraphicFramePr>
          <p:xfrm>
            <a:off x="1936800" y="5489280"/>
            <a:ext cx="1738440" cy="836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0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936800" y="5489280"/>
                      <a:ext cx="1738440" cy="83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5" name=""/>
            <p:cNvSpPr/>
            <p:nvPr/>
          </p:nvSpPr>
          <p:spPr>
            <a:xfrm flipH="1" flipV="1">
              <a:off x="2171520" y="2990880"/>
              <a:ext cx="43164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6" name=""/>
            <p:cNvGraphicFramePr/>
            <p:nvPr/>
          </p:nvGraphicFramePr>
          <p:xfrm>
            <a:off x="1019160" y="2152440"/>
            <a:ext cx="1838520" cy="871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019160" y="2152440"/>
                      <a:ext cx="1838520" cy="87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 flipH="1">
              <a:off x="803160" y="5655960"/>
              <a:ext cx="216000" cy="14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9" name=""/>
          <p:cNvGraphicFramePr/>
          <p:nvPr/>
        </p:nvGraphicFramePr>
        <p:xfrm>
          <a:off x="6060960" y="2911320"/>
          <a:ext cx="2363760" cy="1127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60960" y="2911320"/>
                    <a:ext cx="236376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3E9-7587-49D4-9050-F388776D6E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60" y="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30040" y="517680"/>
            <a:ext cx="44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орозия с водородна деполяризация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98360" y="1058760"/>
            <a:ext cx="588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r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f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ноден и катоден контр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724040" y="1571760"/>
          <a:ext cx="361152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4040" y="1571760"/>
                    <a:ext cx="36115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1109520" y="2149560"/>
          <a:ext cx="7085160" cy="4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9520" y="2149560"/>
                    <a:ext cx="70851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290520" y="2854440"/>
          <a:ext cx="1060560" cy="5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520" y="2854440"/>
                    <a:ext cx="1060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1690560" y="2889360"/>
          <a:ext cx="506592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0560" y="2889360"/>
                    <a:ext cx="50659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774720" y="3622680"/>
          <a:ext cx="8018280" cy="73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4720" y="3622680"/>
                    <a:ext cx="80182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"/>
          <p:cNvSpPr/>
          <p:nvPr/>
        </p:nvSpPr>
        <p:spPr>
          <a:xfrm>
            <a:off x="3094200" y="4592520"/>
            <a:ext cx="38527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оляризация на елект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16200000">
            <a:off x="3346920" y="3894840"/>
            <a:ext cx="168480" cy="1004760"/>
          </a:xfrm>
          <a:custGeom>
            <a:avLst/>
            <a:gdLst>
              <a:gd name="textAreaLeft" fmla="*/ 107640 w 168480"/>
              <a:gd name="textAreaRight" fmla="*/ 168840 w 168480"/>
              <a:gd name="textAreaTop" fmla="*/ 25920 h 1004760"/>
              <a:gd name="textAreaBottom" fmla="*/ 978840 h 10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336760" y="5370480"/>
          <a:ext cx="4056120" cy="12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36760" y="5370480"/>
                    <a:ext cx="405612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688-F7E9-4D2A-B982-E74F88E53A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214920" y="1355760"/>
            <a:ext cx="85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лектродна поляризация </a:t>
            </a:r>
            <a:r>
              <a:rPr b="1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менение на електродния потенциал, п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тичане на сумарния ток – мярка за затрудненията на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лектродния проц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60" y="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30040" y="517680"/>
            <a:ext cx="44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орозия с водородна деполяризация 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48280" y="407664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идове поляр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3000" y="2409840"/>
            <a:ext cx="827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свързана с този стадий, който определя скоростта на целия процес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й-бавния от последователно протичащите процеси в системата или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й-бързия от паралелно протича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6040" y="4608360"/>
            <a:ext cx="779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тивационна – при забавена реакция на пренос на тов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нцентрацонна – при забавен пренос (доставяне или отвеждане)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частващите в реакцията частиц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2E2-0738-4235-B5F4-E6BB6514C7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60" y="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76120" y="441360"/>
            <a:ext cx="44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орозия с водородна деполяризация 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4662360" y="1863720"/>
          <a:ext cx="112248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2360" y="1863720"/>
                    <a:ext cx="11224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3551400" y="2254320"/>
          <a:ext cx="441936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1400" y="2254320"/>
                    <a:ext cx="44193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2657520" y="922320"/>
          <a:ext cx="1146240" cy="4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57520" y="922320"/>
                    <a:ext cx="11462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595520" y="1308240"/>
          <a:ext cx="450360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95520" y="1308240"/>
                    <a:ext cx="45036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"/>
          <p:cNvSpPr/>
          <p:nvPr/>
        </p:nvSpPr>
        <p:spPr>
          <a:xfrm flipV="1">
            <a:off x="2209680" y="1873080"/>
            <a:ext cx="716040" cy="1036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5643720" y="5718240"/>
          <a:ext cx="2814480" cy="6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43720" y="5718240"/>
                    <a:ext cx="28144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"/>
          <p:cNvSpPr/>
          <p:nvPr/>
        </p:nvSpPr>
        <p:spPr>
          <a:xfrm flipH="1" flipV="1">
            <a:off x="4846680" y="274284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4754160" y="4830840"/>
            <a:ext cx="3475080" cy="8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2214000">
            <a:off x="1897560" y="3769560"/>
            <a:ext cx="1924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афелова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19377600">
            <a:off x="6374160" y="3465720"/>
            <a:ext cx="1924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афелова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827280" y="1668240"/>
            <a:ext cx="7408440" cy="4548960"/>
            <a:chOff x="827280" y="1668240"/>
            <a:chExt cx="7408440" cy="4548960"/>
          </a:xfrm>
        </p:grpSpPr>
        <p:sp>
          <p:nvSpPr>
            <p:cNvPr id="652" name=""/>
            <p:cNvSpPr/>
            <p:nvPr/>
          </p:nvSpPr>
          <p:spPr>
            <a:xfrm flipV="1">
              <a:off x="1848960" y="1668240"/>
              <a:ext cx="0" cy="4493160"/>
            </a:xfrm>
            <a:prstGeom prst="line">
              <a:avLst/>
            </a:prstGeom>
            <a:ln w="9360">
              <a:solidFill>
                <a:srgbClr val="0000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74600" y="5495400"/>
              <a:ext cx="6426000" cy="0"/>
            </a:xfrm>
            <a:prstGeom prst="line">
              <a:avLst/>
            </a:prstGeom>
            <a:ln w="9360">
              <a:solidFill>
                <a:srgbClr val="0000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59200" y="52189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e1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36800" y="1672920"/>
              <a:ext cx="5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e1"/>
                  </a:solidFill>
                  <a:latin typeface="Times New Roman"/>
                </a:rPr>
                <a:t>ln|</a:t>
              </a:r>
              <a:r>
                <a:rPr b="0" i="1" lang="en-US" sz="1800" spc="-1" strike="noStrike">
                  <a:solidFill>
                    <a:srgbClr val="0000e1"/>
                  </a:solidFill>
                  <a:latin typeface="Times New Roman"/>
                </a:rPr>
                <a:t>i|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70560" y="542232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1289160" y="2295000"/>
              <a:ext cx="3472920" cy="2560680"/>
            </a:xfrm>
            <a:prstGeom prst="line">
              <a:avLst/>
            </a:prstGeom>
            <a:ln cap="rnd" w="1908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4762800" y="2295000"/>
              <a:ext cx="3472920" cy="2560680"/>
            </a:xfrm>
            <a:prstGeom prst="line">
              <a:avLst/>
            </a:prstGeom>
            <a:ln cap="rnd" w="1908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762800" y="4856400"/>
              <a:ext cx="0" cy="633960"/>
            </a:xfrm>
            <a:prstGeom prst="line">
              <a:avLst/>
            </a:prstGeom>
            <a:ln cap="rnd" w="1908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1811520" y="4833720"/>
              <a:ext cx="2951280" cy="2196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27280" y="4469400"/>
              <a:ext cx="70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n{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1293120" y="2295360"/>
              <a:ext cx="3312720" cy="3892680"/>
              <a:chOff x="1293120" y="2295360"/>
              <a:chExt cx="3312720" cy="3892680"/>
            </a:xfrm>
          </p:grpSpPr>
          <p:sp>
            <p:nvSpPr>
              <p:cNvPr id="663" name=""/>
              <p:cNvSpPr/>
              <p:nvPr/>
            </p:nvSpPr>
            <p:spPr>
              <a:xfrm>
                <a:off x="2873880" y="2430000"/>
                <a:ext cx="18432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293120" y="2295360"/>
                <a:ext cx="3312720" cy="3892680"/>
              </a:xfrm>
              <a:custGeom>
                <a:avLst/>
                <a:gdLst/>
                <a:ahLst/>
                <a:rect l="l" t="t" r="r" b="b"/>
                <a:pathLst>
                  <a:path w="1758" h="1590">
                    <a:moveTo>
                      <a:pt x="0" y="0"/>
                    </a:moveTo>
                    <a:cubicBezTo>
                      <a:pt x="161" y="92"/>
                      <a:pt x="345" y="200"/>
                      <a:pt x="510" y="294"/>
                    </a:cubicBezTo>
                    <a:cubicBezTo>
                      <a:pt x="675" y="388"/>
                      <a:pt x="850" y="480"/>
                      <a:pt x="990" y="564"/>
                    </a:cubicBezTo>
                    <a:cubicBezTo>
                      <a:pt x="1130" y="648"/>
                      <a:pt x="1248" y="716"/>
                      <a:pt x="1350" y="798"/>
                    </a:cubicBezTo>
                    <a:cubicBezTo>
                      <a:pt x="1452" y="880"/>
                      <a:pt x="1539" y="959"/>
                      <a:pt x="1602" y="1056"/>
                    </a:cubicBezTo>
                    <a:cubicBezTo>
                      <a:pt x="1665" y="1153"/>
                      <a:pt x="1702" y="1291"/>
                      <a:pt x="1728" y="1380"/>
                    </a:cubicBezTo>
                    <a:cubicBezTo>
                      <a:pt x="1754" y="1469"/>
                      <a:pt x="1752" y="1546"/>
                      <a:pt x="1758" y="15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879080" y="2324160"/>
              <a:ext cx="3312360" cy="3893040"/>
              <a:chOff x="4879080" y="2324160"/>
              <a:chExt cx="3312360" cy="3893040"/>
            </a:xfrm>
          </p:grpSpPr>
          <p:sp>
            <p:nvSpPr>
              <p:cNvPr id="666" name=""/>
              <p:cNvSpPr/>
              <p:nvPr/>
            </p:nvSpPr>
            <p:spPr>
              <a:xfrm>
                <a:off x="6292440" y="2451240"/>
                <a:ext cx="18288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4878720" y="2324160"/>
                <a:ext cx="3312360" cy="3893040"/>
              </a:xfrm>
              <a:custGeom>
                <a:avLst/>
                <a:gdLst/>
                <a:ahLst/>
                <a:rect l="l" t="t" r="r" b="b"/>
                <a:pathLst>
                  <a:path w="1758" h="1590">
                    <a:moveTo>
                      <a:pt x="0" y="0"/>
                    </a:moveTo>
                    <a:cubicBezTo>
                      <a:pt x="161" y="92"/>
                      <a:pt x="345" y="200"/>
                      <a:pt x="510" y="294"/>
                    </a:cubicBezTo>
                    <a:cubicBezTo>
                      <a:pt x="675" y="388"/>
                      <a:pt x="850" y="480"/>
                      <a:pt x="990" y="564"/>
                    </a:cubicBezTo>
                    <a:cubicBezTo>
                      <a:pt x="1130" y="648"/>
                      <a:pt x="1248" y="716"/>
                      <a:pt x="1350" y="798"/>
                    </a:cubicBezTo>
                    <a:cubicBezTo>
                      <a:pt x="1452" y="880"/>
                      <a:pt x="1539" y="959"/>
                      <a:pt x="1602" y="1056"/>
                    </a:cubicBezTo>
                    <a:cubicBezTo>
                      <a:pt x="1665" y="1153"/>
                      <a:pt x="1702" y="1291"/>
                      <a:pt x="1728" y="1380"/>
                    </a:cubicBezTo>
                    <a:cubicBezTo>
                      <a:pt x="1754" y="1469"/>
                      <a:pt x="1752" y="1546"/>
                      <a:pt x="1758" y="15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668" name=""/>
            <p:cNvGraphicFramePr/>
            <p:nvPr/>
          </p:nvGraphicFramePr>
          <p:xfrm>
            <a:off x="2572920" y="2441880"/>
            <a:ext cx="408960" cy="776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572920" y="2441880"/>
                      <a:ext cx="4089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0" name=""/>
            <p:cNvGraphicFramePr/>
            <p:nvPr/>
          </p:nvGraphicFramePr>
          <p:xfrm>
            <a:off x="6036480" y="2552400"/>
            <a:ext cx="466920" cy="822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36480" y="2552400"/>
                      <a:ext cx="466920" cy="82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53B-724B-4D14-B3CC-4EAE657C0B3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60" y="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75040" y="441360"/>
            <a:ext cx="42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орозия с кислородна деполяр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60920" y="9507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цеси при които катодната реакция се осъществява за смет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едукцията на разтворения в електролита кислород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3560760" y="1874880"/>
          <a:ext cx="23652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0760" y="1874880"/>
                    <a:ext cx="23652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239760" y="2749680"/>
          <a:ext cx="1441440" cy="49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9760" y="2749680"/>
                    <a:ext cx="144144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1906560" y="2911320"/>
            <a:ext cx="563760" cy="88920"/>
          </a:xfrm>
          <a:prstGeom prst="rightArrow">
            <a:avLst>
              <a:gd name="adj1" fmla="val 50000"/>
              <a:gd name="adj2" fmla="val 1585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606040" y="2552760"/>
            <a:ext cx="59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пълнява се за голям брой метали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корозионн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цеси с кислородна деполяризация са значител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-разпространени в практик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43800" y="3825000"/>
            <a:ext cx="83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6≤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≤8 - морска, езерна, речна, питейна вода, атмосферни условия и др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08920" y="459252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умарна катодна реа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2879640" y="5192640"/>
          <a:ext cx="301788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79640" y="5192640"/>
                    <a:ext cx="301788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95D-5A25-4F7A-B0EF-CFD6EDA532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609480" y="1967040"/>
            <a:ext cx="1371600" cy="4662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981080" y="1979640"/>
            <a:ext cx="6172200" cy="4633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620720" y="5297400"/>
            <a:ext cx="806400" cy="857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981080" y="4916520"/>
            <a:ext cx="838440" cy="1654200"/>
            <a:chOff x="1981080" y="4916520"/>
            <a:chExt cx="838440" cy="1654200"/>
          </a:xfrm>
        </p:grpSpPr>
        <p:sp>
          <p:nvSpPr>
            <p:cNvPr id="690" name=""/>
            <p:cNvSpPr/>
            <p:nvPr/>
          </p:nvSpPr>
          <p:spPr>
            <a:xfrm>
              <a:off x="2509920" y="5896080"/>
              <a:ext cx="309600" cy="322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40080" y="6129360"/>
              <a:ext cx="123840" cy="13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441520" y="5867280"/>
              <a:ext cx="122400" cy="136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09920" y="5345280"/>
              <a:ext cx="309600" cy="322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38280" y="5578560"/>
              <a:ext cx="123840" cy="13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40080" y="5316480"/>
              <a:ext cx="123840" cy="13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50920" y="4944960"/>
              <a:ext cx="309600" cy="322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81080" y="5178600"/>
              <a:ext cx="123840" cy="13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982880" y="4916520"/>
              <a:ext cx="122040" cy="13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50920" y="6200640"/>
              <a:ext cx="309600" cy="322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981080" y="6434280"/>
              <a:ext cx="123840" cy="13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82880" y="6172200"/>
              <a:ext cx="122040" cy="13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62120" y="4095720"/>
            <a:ext cx="806400" cy="857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5320" y="3274920"/>
            <a:ext cx="40932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bg-BG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590920" y="3228840"/>
            <a:ext cx="3733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4492800" y="4359240"/>
            <a:ext cx="378720" cy="398520"/>
            <a:chOff x="4492800" y="4359240"/>
            <a:chExt cx="378720" cy="398520"/>
          </a:xfrm>
        </p:grpSpPr>
        <p:sp>
          <p:nvSpPr>
            <p:cNvPr id="706" name=""/>
            <p:cNvSpPr/>
            <p:nvPr/>
          </p:nvSpPr>
          <p:spPr>
            <a:xfrm>
              <a:off x="4563000" y="4387680"/>
              <a:ext cx="308520" cy="321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92800" y="4621680"/>
              <a:ext cx="122760" cy="13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493880" y="4359240"/>
              <a:ext cx="122760" cy="13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62120" y="2976480"/>
            <a:ext cx="804960" cy="8589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bg-BG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1143000" y="3249360"/>
            <a:ext cx="563400" cy="2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219320" y="48769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066680" y="3733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874400" y="4784760"/>
            <a:ext cx="1892160" cy="58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ранспорт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хидроксилни йо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560680" y="3398760"/>
            <a:ext cx="1307880" cy="7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523200" y="2925720"/>
            <a:ext cx="804600" cy="8589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36880" y="5257800"/>
            <a:ext cx="1179000" cy="106740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нос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овар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нод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ц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07360" y="2432160"/>
            <a:ext cx="194400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нос на товар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атоден проц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4216320" y="3948120"/>
            <a:ext cx="379440" cy="398520"/>
            <a:chOff x="4216320" y="3948120"/>
            <a:chExt cx="379440" cy="398520"/>
          </a:xfrm>
        </p:grpSpPr>
        <p:sp>
          <p:nvSpPr>
            <p:cNvPr id="719" name=""/>
            <p:cNvSpPr/>
            <p:nvPr/>
          </p:nvSpPr>
          <p:spPr>
            <a:xfrm>
              <a:off x="4286880" y="3976560"/>
              <a:ext cx="308880" cy="321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216320" y="4210560"/>
              <a:ext cx="123120" cy="13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217400" y="3948120"/>
              <a:ext cx="123120" cy="13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4370400" y="4846680"/>
            <a:ext cx="379440" cy="398520"/>
            <a:chOff x="4370400" y="4846680"/>
            <a:chExt cx="379440" cy="398520"/>
          </a:xfrm>
        </p:grpSpPr>
        <p:sp>
          <p:nvSpPr>
            <p:cNvPr id="723" name=""/>
            <p:cNvSpPr/>
            <p:nvPr/>
          </p:nvSpPr>
          <p:spPr>
            <a:xfrm>
              <a:off x="4440960" y="4875120"/>
              <a:ext cx="308880" cy="321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70400" y="5109120"/>
              <a:ext cx="123120" cy="13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71480" y="4846680"/>
              <a:ext cx="123120" cy="13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 flipV="1">
            <a:off x="2835360" y="5121000"/>
            <a:ext cx="74448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981080" y="3936960"/>
            <a:ext cx="1197000" cy="905040"/>
            <a:chOff x="1981080" y="3936960"/>
            <a:chExt cx="1197000" cy="905040"/>
          </a:xfrm>
        </p:grpSpPr>
        <p:sp>
          <p:nvSpPr>
            <p:cNvPr id="728" name=""/>
            <p:cNvSpPr/>
            <p:nvPr/>
          </p:nvSpPr>
          <p:spPr>
            <a:xfrm>
              <a:off x="1981080" y="3984480"/>
              <a:ext cx="806400" cy="857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4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3936960"/>
              <a:ext cx="309600" cy="322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978280" y="3984480"/>
              <a:ext cx="123840" cy="136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43200" y="4394160"/>
              <a:ext cx="309600" cy="322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54240" y="4441680"/>
              <a:ext cx="123840" cy="136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 flipH="1" flipV="1">
            <a:off x="2895120" y="4571640"/>
            <a:ext cx="7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245760" y="5734080"/>
            <a:ext cx="296496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върхностен филм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розионни продукти (ръж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6948360" y="1830240"/>
            <a:ext cx="595440" cy="11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299360" y="958680"/>
            <a:ext cx="804960" cy="8589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595680" y="4160880"/>
            <a:ext cx="804960" cy="8589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07040" y="1706400"/>
            <a:ext cx="2475720" cy="58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тваряне на кислор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 възд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3720" y="17460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38400" y="61596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орозия с кислородна деполяризация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06800" y="4663800"/>
            <a:ext cx="163224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7540560" y="4359240"/>
            <a:ext cx="379440" cy="398520"/>
            <a:chOff x="7540560" y="4359240"/>
            <a:chExt cx="379440" cy="398520"/>
          </a:xfrm>
        </p:grpSpPr>
        <p:sp>
          <p:nvSpPr>
            <p:cNvPr id="743" name=""/>
            <p:cNvSpPr/>
            <p:nvPr/>
          </p:nvSpPr>
          <p:spPr>
            <a:xfrm>
              <a:off x="7611120" y="4387680"/>
              <a:ext cx="308880" cy="321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40560" y="4621680"/>
              <a:ext cx="123120" cy="13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41640" y="4359240"/>
              <a:ext cx="123120" cy="13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7264440" y="3948120"/>
            <a:ext cx="379440" cy="398520"/>
            <a:chOff x="7264440" y="3948120"/>
            <a:chExt cx="379440" cy="398520"/>
          </a:xfrm>
        </p:grpSpPr>
        <p:sp>
          <p:nvSpPr>
            <p:cNvPr id="747" name=""/>
            <p:cNvSpPr/>
            <p:nvPr/>
          </p:nvSpPr>
          <p:spPr>
            <a:xfrm>
              <a:off x="7335000" y="3976560"/>
              <a:ext cx="308880" cy="321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64440" y="4210560"/>
              <a:ext cx="123120" cy="13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65520" y="3948120"/>
              <a:ext cx="123120" cy="13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7418520" y="4846680"/>
            <a:ext cx="379440" cy="398520"/>
            <a:chOff x="7418520" y="4846680"/>
            <a:chExt cx="379440" cy="398520"/>
          </a:xfrm>
        </p:grpSpPr>
        <p:sp>
          <p:nvSpPr>
            <p:cNvPr id="751" name=""/>
            <p:cNvSpPr/>
            <p:nvPr/>
          </p:nvSpPr>
          <p:spPr>
            <a:xfrm>
              <a:off x="7489080" y="4875120"/>
              <a:ext cx="308880" cy="321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18520" y="5109120"/>
              <a:ext cx="123120" cy="13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419600" y="4846680"/>
              <a:ext cx="123120" cy="13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6643800" y="4160880"/>
            <a:ext cx="804600" cy="8589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33360" y="1057320"/>
            <a:ext cx="42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адии на катодния и анодния проц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6BD-A466-4484-ADD9-DE7E3629BBF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360" y="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1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75040" y="441360"/>
            <a:ext cx="45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орозия с кислородна деполяризация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21480" y="87480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Сумарна поляризационна крив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4489560" y="849240"/>
          <a:ext cx="3832200" cy="5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9560" y="849240"/>
                    <a:ext cx="38322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1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-12600" y="1542960"/>
            <a:ext cx="6473880" cy="431028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230040" y="5899320"/>
            <a:ext cx="57135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лкална корозия–заедно  с редукцията на кислород протича и разлагане на водата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1344600" y="4121280"/>
            <a:ext cx="563400" cy="17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998160" y="4124160"/>
            <a:ext cx="4876200" cy="13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bg-BG" sz="1600" spc="-1" strike="noStrike" baseline="-25000">
                <a:solidFill>
                  <a:srgbClr val="000000"/>
                </a:solidFill>
                <a:latin typeface="Arial"/>
              </a:rPr>
              <a:t>к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в близост до граничния дифузионен ток 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едукция  на кислорода </a:t>
            </a:r>
            <a:r>
              <a:rPr b="0" lang="bg-BG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скоростта на короз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вна на този ток </a:t>
            </a:r>
            <a:r>
              <a:rPr b="0" lang="bg-BG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всяка молеку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ислород достигаща до повърхността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етала се редуцира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 flipV="1">
            <a:off x="3370320" y="3038040"/>
            <a:ext cx="1341360" cy="103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29520" y="2322360"/>
            <a:ext cx="3702600" cy="15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bg-BG" sz="1600" spc="-1" strike="noStrike" baseline="-25000">
                <a:solidFill>
                  <a:srgbClr val="000000"/>
                </a:solidFill>
                <a:latin typeface="Arial"/>
              </a:rPr>
              <a:t>к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в област на смесена кинетика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едукцията на кислород – не 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стигнат граничен дифузионен т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отсъствие на оксидни слоев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рху повърхност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4605480" y="2549520"/>
            <a:ext cx="807840" cy="57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rot="16200000">
            <a:off x="7236720" y="700560"/>
            <a:ext cx="228600" cy="1446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6120"/>
              <a:gd name="textAreaBottom" fmla="*/ 1408680 h 144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5"/>
                </a:lnTo>
                <a:cubicBezTo>
                  <a:pt x="10800" y="9915"/>
                  <a:pt x="5400" y="10815"/>
                  <a:pt x="0" y="10815"/>
                </a:cubicBezTo>
                <a:cubicBezTo>
                  <a:pt x="5400" y="10815"/>
                  <a:pt x="10800" y="11715"/>
                  <a:pt x="10800" y="1261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5425920" y="1417680"/>
            <a:ext cx="225432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965-D5CD-47BC-B276-CA8986BC47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60" y="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75040" y="441360"/>
            <a:ext cx="45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орозия с кислородна деполяризация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66360" y="1225440"/>
            <a:ext cx="7238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случая А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(повърхностната концентрация на кислорода е 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положение, че кислородът се редуцира до хидроксилни йон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лучава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2608200" y="2530440"/>
          <a:ext cx="395136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8200" y="2530440"/>
                    <a:ext cx="39513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"/>
          <p:cNvSpPr/>
          <p:nvPr/>
        </p:nvSpPr>
        <p:spPr>
          <a:xfrm>
            <a:off x="3657600" y="3454560"/>
            <a:ext cx="2209680" cy="641160"/>
          </a:xfrm>
          <a:prstGeom prst="borderCallout1">
            <a:avLst>
              <a:gd name="adj1" fmla="val 18750"/>
              <a:gd name="adj2" fmla="val -8333"/>
              <a:gd name="adj3" fmla="val -74009"/>
              <a:gd name="adj4" fmla="val 1178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ефективна дебелина на дифузионен слой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83800" y="4654440"/>
            <a:ext cx="723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зи случай има важно практическо приложение, тъй ка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ответства на корозията на желязото и нелегираните стоман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твори, близки до неутралните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F7D-E3D2-46C0-B0A3-9C8974817C4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60" y="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2680" y="62388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асивност на метал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52520" y="1457280"/>
            <a:ext cx="75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асивност -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язко намаляване на скоростта на корозия на метала в условия, при които той от термодинамична гледна точка е напълно реакционноспособ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извиква се от забавяне на скоростта на анодния процес пора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разуване на тънък непрекъснат оксиден филм  -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асивен фил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кинетиката на анодния процес се контролира от скоростта му на разтваря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Електродният потенциал се измества в положителна пос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имична пасивност – пасиватори (наприме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(V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нодна пасивност – прилагане на достатъчно положителен потенци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чрез аноден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356-E3D0-4688-BEDB-E3EF7BA01A1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6" dur="indefinite" restart="never" nodeType="tmRoot">
          <p:childTnLst>
            <p:seq>
              <p:cTn id="1747" dur="indefinite" nodeType="mainSeq">
                <p:childTnLst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10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10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7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7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7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7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43520" y="19224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ъведение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4000" y="72216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орозия на стомани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887400" y="1233360"/>
            <a:ext cx="7718040" cy="4741560"/>
            <a:chOff x="887400" y="1233360"/>
            <a:chExt cx="7718040" cy="474156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887400" y="1233360"/>
              <a:ext cx="7718040" cy="47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 rot="16200000">
              <a:off x="1382760" y="3087720"/>
              <a:ext cx="1681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Arial"/>
                </a:rPr>
                <a:t>Желязо </a:t>
              </a:r>
              <a:r>
                <a:rPr b="1" lang="fi-FI" sz="2000" spc="-1" strike="noStrike">
                  <a:solidFill>
                    <a:srgbClr val="000000"/>
                  </a:solidFill>
                  <a:latin typeface="Arial"/>
                </a:rPr>
                <a:t>(F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14560" y="1719720"/>
              <a:ext cx="1122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Arial"/>
                </a:rPr>
                <a:t>Възду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04720" y="2475360"/>
              <a:ext cx="1308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89560" y="5279760"/>
              <a:ext cx="4575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3300"/>
                  </a:solidFill>
                  <a:latin typeface="Arial"/>
                </a:rPr>
                <a:t>Ръжда.........хидратиран железен окси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D00-2C28-46CD-88C7-278F6E6BE8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"/>
          <p:cNvGraphicFramePr/>
          <p:nvPr/>
        </p:nvGraphicFramePr>
        <p:xfrm>
          <a:off x="0" y="2003400"/>
          <a:ext cx="8432640" cy="44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03400"/>
                    <a:ext cx="843264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"/>
          <p:cNvSpPr/>
          <p:nvPr/>
        </p:nvSpPr>
        <p:spPr>
          <a:xfrm>
            <a:off x="360" y="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лектрохимична корозия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82680" y="623880"/>
            <a:ext cx="30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асивност на металите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1468440" y="2827440"/>
          <a:ext cx="1700280" cy="3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8440" y="2827440"/>
                    <a:ext cx="1700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1143000" y="1071720"/>
          <a:ext cx="160020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071720"/>
                    <a:ext cx="16002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3919680" y="4662360"/>
          <a:ext cx="3070080" cy="87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19680" y="4662360"/>
                    <a:ext cx="30700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"/>
          <p:cNvSpPr/>
          <p:nvPr/>
        </p:nvSpPr>
        <p:spPr>
          <a:xfrm>
            <a:off x="4311720" y="2965320"/>
            <a:ext cx="1965240" cy="946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503520" y="1285920"/>
            <a:ext cx="277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/ 1M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fi-FI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fi-FI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575080" y="3276720"/>
            <a:ext cx="411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 flipV="1">
            <a:off x="2179440" y="1858680"/>
            <a:ext cx="19836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CA8-4D5C-458F-B006-2F69B11BDBC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4" dur="indefinite" restart="never" nodeType="tmRoot">
          <p:childTnLst>
            <p:seq>
              <p:cTn id="1795" dur="indefinite" nodeType="mainSeq">
                <p:childTnLst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199440" y="68580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лияние на вътрешни фак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680" y="1027080"/>
            <a:ext cx="84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рмодинамична стабилност на метала – може да се оцени приблизите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 стандартния му електроден потенц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стояние на повърхността на метала – фината обработка на повърхност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вишава корозионната устойчивост – улеснява формирането на защит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о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став на сплав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944640" y="2681280"/>
          <a:ext cx="634680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2681280"/>
                    <a:ext cx="63468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"/>
          <p:cNvSpPr/>
          <p:nvPr/>
        </p:nvSpPr>
        <p:spPr>
          <a:xfrm>
            <a:off x="258840" y="371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62360" y="18252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Фактори, влияещи върху електрохимичната ко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FCE-BA2F-44F1-95CF-64820515AD5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6" dur="indefinite" restart="never" nodeType="tmRoot">
          <p:childTnLst>
            <p:seq>
              <p:cTn id="1847" dur="indefinite" nodeType="mainSeq">
                <p:childTnLst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6094800" y="5326200"/>
            <a:ext cx="19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вишаван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мперату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3440" y="95580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лияние на външни фак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174600" y="2498760"/>
            <a:ext cx="4708440" cy="3614400"/>
            <a:chOff x="174600" y="2498760"/>
            <a:chExt cx="4708440" cy="3614400"/>
          </a:xfrm>
        </p:grpSpPr>
        <p:pic>
          <p:nvPicPr>
            <p:cNvPr id="806" name="" descr=""/>
            <p:cNvPicPr/>
            <p:nvPr/>
          </p:nvPicPr>
          <p:blipFill>
            <a:blip r:embed="rId1"/>
            <a:stretch/>
          </p:blipFill>
          <p:spPr>
            <a:xfrm>
              <a:off x="174600" y="2684160"/>
              <a:ext cx="470844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894600" y="5744880"/>
              <a:ext cx="31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концентрация на окислит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6200000">
              <a:off x="-475920" y="4190040"/>
              <a:ext cx="2212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скорост на короз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10440" y="2498760"/>
              <a:ext cx="1080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актив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короз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298600" y="2498760"/>
              <a:ext cx="12672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пасивно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750240" y="162396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нцентрация на окислителя и темп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4543200" y="2258640"/>
            <a:ext cx="4600440" cy="2986560"/>
            <a:chOff x="4543200" y="2258640"/>
            <a:chExt cx="4600440" cy="2986560"/>
          </a:xfrm>
        </p:grpSpPr>
        <p:grpSp>
          <p:nvGrpSpPr>
            <p:cNvPr id="813" name=""/>
            <p:cNvGrpSpPr/>
            <p:nvPr/>
          </p:nvGrpSpPr>
          <p:grpSpPr>
            <a:xfrm>
              <a:off x="4543200" y="2258640"/>
              <a:ext cx="4600440" cy="2986560"/>
              <a:chOff x="4543200" y="2258640"/>
              <a:chExt cx="4600440" cy="2986560"/>
            </a:xfrm>
          </p:grpSpPr>
          <p:pic>
            <p:nvPicPr>
              <p:cNvPr id="814" name="" descr=""/>
              <p:cNvPicPr/>
              <p:nvPr/>
            </p:nvPicPr>
            <p:blipFill>
              <a:blip r:embed="rId2"/>
              <a:stretch/>
            </p:blipFill>
            <p:spPr>
              <a:xfrm flipH="1" rot="5400000">
                <a:off x="5352120" y="1449360"/>
                <a:ext cx="2982600" cy="46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>
                <a:off x="6193080" y="4816440"/>
                <a:ext cx="23644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g-BG" sz="2000" spc="-1" strike="noStrike">
                    <a:solidFill>
                      <a:srgbClr val="000000"/>
                    </a:solidFill>
                    <a:latin typeface="Arial"/>
                  </a:rPr>
                  <a:t>Е /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                  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16200000">
                <a:off x="3657600" y="3691800"/>
                <a:ext cx="26467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 / mA cm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-2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29280" y="2963520"/>
                <a:ext cx="715680" cy="671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flipV="1">
                <a:off x="7230600" y="3663360"/>
                <a:ext cx="16920" cy="8398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>
              <a:off x="5337360" y="4732200"/>
              <a:ext cx="266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487360" y="4752720"/>
              <a:ext cx="330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136440" y="55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9800" y="281160"/>
            <a:ext cx="87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Фактори, влияещи върху електрохимичната корозия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84E-A98C-44E4-9CDC-E95031E57DE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83600" y="54288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лияние на външни фактори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239400" y="1378080"/>
            <a:ext cx="4025880" cy="3684240"/>
            <a:chOff x="239400" y="1378080"/>
            <a:chExt cx="4025880" cy="3684240"/>
          </a:xfrm>
        </p:grpSpPr>
        <p:pic>
          <p:nvPicPr>
            <p:cNvPr id="825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239400" y="1378080"/>
              <a:ext cx="4025880" cy="35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"/>
            <p:cNvSpPr/>
            <p:nvPr/>
          </p:nvSpPr>
          <p:spPr>
            <a:xfrm>
              <a:off x="1640160" y="4694040"/>
              <a:ext cx="1317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Е /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61480" y="4649760"/>
              <a:ext cx="266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547080" y="4640040"/>
              <a:ext cx="330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16200000">
              <a:off x="-347760" y="2806920"/>
              <a:ext cx="1581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 (i</a:t>
              </a: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 / 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-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14280" y="3922560"/>
              <a:ext cx="7401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85480" y="2570040"/>
              <a:ext cx="740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166400" y="1398600"/>
              <a:ext cx="740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14280" y="1989000"/>
              <a:ext cx="740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17382000">
              <a:off x="2607120" y="2076120"/>
              <a:ext cx="1229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Fe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+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2e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3945600">
              <a:off x="2411280" y="3491280"/>
              <a:ext cx="171000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+ 2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+4e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 4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4516560" y="1405080"/>
            <a:ext cx="3798360" cy="3754800"/>
            <a:chOff x="4516560" y="1405080"/>
            <a:chExt cx="3798360" cy="3754800"/>
          </a:xfrm>
        </p:grpSpPr>
        <p:pic>
          <p:nvPicPr>
            <p:cNvPr id="837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4651560" y="1415160"/>
              <a:ext cx="367344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"/>
            <p:cNvSpPr/>
            <p:nvPr/>
          </p:nvSpPr>
          <p:spPr>
            <a:xfrm>
              <a:off x="5985000" y="4724280"/>
              <a:ext cx="1317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Е /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158080" y="4724280"/>
              <a:ext cx="266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17600" y="4761000"/>
              <a:ext cx="330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6200000">
              <a:off x="3909600" y="2864520"/>
              <a:ext cx="1581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 (i</a:t>
              </a: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 / 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-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571360" y="4005360"/>
              <a:ext cx="67752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 m/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55560" y="2654280"/>
              <a:ext cx="677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 m/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17840" y="2041560"/>
              <a:ext cx="740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25840" y="1460520"/>
              <a:ext cx="740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4257600">
              <a:off x="5932080" y="2288160"/>
              <a:ext cx="19710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+ 2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+4e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 4OH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7153400">
              <a:off x="7117200" y="2717640"/>
              <a:ext cx="1374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Fe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+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2e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720720" y="930240"/>
            <a:ext cx="35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корост на корозионната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99800" y="0"/>
            <a:ext cx="87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Фактори, влияещи върху електрохимичнат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992-BA7B-4C15-BBA4-141F3B64FF6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0" dur="indefinite" restart="never" nodeType="tmRoot">
          <p:childTnLst>
            <p:seq>
              <p:cTn id="1931" dur="indefinite" nodeType="mainSeq">
                <p:childTnLst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6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194760" y="55548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лияние на външни фактори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9520" y="94608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Н на корозионната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738360" y="1332000"/>
          <a:ext cx="6230880" cy="48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332000"/>
                    <a:ext cx="623088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199800" y="0"/>
            <a:ext cx="87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Фактори, влияещи върху електрохимичнат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3CB-757E-49E4-9C9B-074619B86B4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9" dur="indefinite" restart="never" nodeType="tmRoot">
          <p:childTnLst>
            <p:seq>
              <p:cTn id="1960" dur="indefinite" nodeType="mainSeq">
                <p:childTnLst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83600" y="57960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лияние на външни фактори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29320" y="976320"/>
            <a:ext cx="91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нхибитори на корозия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вещества, които прибавени към корозионната сре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акар и в малки количества, намаляват силно скоростта на корозия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67840" y="1770120"/>
            <a:ext cx="34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фективност на инхибитор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3492360" y="2268360"/>
          <a:ext cx="235116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268360"/>
                    <a:ext cx="235116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0" name=""/>
          <p:cNvSpPr/>
          <p:nvPr/>
        </p:nvSpPr>
        <p:spPr>
          <a:xfrm>
            <a:off x="1257480" y="2714760"/>
            <a:ext cx="1317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8796"/>
              <a:gd name="adj5" fmla="val -8333"/>
              <a:gd name="adj6" fmla="val 1656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епен на защита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14520" y="3736800"/>
            <a:ext cx="20080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333"/>
              <a:gd name="adj5" fmla="val -8333"/>
              <a:gd name="adj6" fmla="val 143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ефициент на защитно действи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800680" y="1727280"/>
            <a:ext cx="26956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129"/>
              <a:gd name="adj5" fmla="val 117189"/>
              <a:gd name="adj6" fmla="val -31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корост на корозия при добавка на инхибитор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789520" y="3124080"/>
            <a:ext cx="26956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1250"/>
              <a:gd name="adj5" fmla="val -13282"/>
              <a:gd name="adj6" fmla="val -41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корост на корозия без инхибитор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30920" y="481320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идове инхибитори според механизма на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69880" y="5203800"/>
            <a:ext cx="725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нодни – затрудняват разтварянето на метала (анодния проце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атодни – забавят катодния процес (отделянето на водор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с смесено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10960" y="158760"/>
            <a:ext cx="87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Фактори, влияещи върху електрохимичнат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87B-BFE0-4164-8EDC-2BA5167F3E4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7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83600" y="47160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лияние на външни фактори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97280" y="996840"/>
            <a:ext cx="889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тимулатори на корозият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вещества, които макар и в незначител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личество в корозионната среда, увеличават забележимо скоростта на корозия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-290520" y="1789200"/>
            <a:ext cx="91440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нодни стимулатори - ускоряват анодния проц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алогенни аниони (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) - нарушават пасивното състояние на метала или затрудняват неговото възникван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мплексообразуватели (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) - свързват йоните на кородиращия метал в комплекси и понижават неговата термодинамична устойчиво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39040" y="3857760"/>
            <a:ext cx="84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ни стимулатори - ускоряват катодния процес </a:t>
            </a: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йоните с променли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ност (Fe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Fe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Cu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Cu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- участват в катодния процес ка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поляриз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1" name=""/>
          <p:cNvGraphicFramePr/>
          <p:nvPr/>
        </p:nvGraphicFramePr>
        <p:xfrm>
          <a:off x="3255840" y="4876920"/>
          <a:ext cx="232092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5840" y="4876920"/>
                    <a:ext cx="23209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"/>
          <p:cNvGraphicFramePr/>
          <p:nvPr/>
        </p:nvGraphicFramePr>
        <p:xfrm>
          <a:off x="2457360" y="5468760"/>
          <a:ext cx="432432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57360" y="5468760"/>
                    <a:ext cx="43243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"/>
          <p:cNvSpPr/>
          <p:nvPr/>
        </p:nvSpPr>
        <p:spPr>
          <a:xfrm>
            <a:off x="199800" y="0"/>
            <a:ext cx="87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Фактори, влияещи върху електрохимичната короз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C4C-7353-40F8-95BC-21B9F0511A1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7" dur="5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2" dur="500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7" dur="500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2" dur="500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203040" y="11448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Локална ко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42560" y="557280"/>
            <a:ext cx="83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орозия в пукнатини (процепи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бързо развиваща се локална корози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укнатини или екранирани участъци от металната повърхност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нтакт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тал с неметал, гума, дърво, замърсявания с почва, прах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579600" y="1562040"/>
            <a:ext cx="2989080" cy="306540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4227120" y="2727360"/>
            <a:ext cx="38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ланец на тръбопровод в конта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 гумено уплът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14920" y="5018040"/>
            <a:ext cx="89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итингова короз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локално разтваряне на метала, поради образуване на д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рху повърхността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розия чрез перфо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27520" y="5675400"/>
            <a:ext cx="8970840" cy="1099800"/>
            <a:chOff x="227520" y="5675400"/>
            <a:chExt cx="8970840" cy="1099800"/>
          </a:xfrm>
        </p:grpSpPr>
        <p:sp>
          <p:nvSpPr>
            <p:cNvPr id="882" name=""/>
            <p:cNvSpPr/>
            <p:nvPr/>
          </p:nvSpPr>
          <p:spPr>
            <a:xfrm>
              <a:off x="227520" y="5919840"/>
              <a:ext cx="332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винаги присъстват </a:t>
              </a: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0" lang="fi-FI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йо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3597120" y="5897520"/>
              <a:ext cx="62388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51960" y="5675400"/>
              <a:ext cx="35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метали в контакт с морска 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11520" y="6232680"/>
              <a:ext cx="5493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38280" y="6132600"/>
              <a:ext cx="496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неръждаеми стомани изложени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действието на разтвори съдържащи </a:t>
              </a: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0" lang="fi-FI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йо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D6E-4317-417A-BFF9-CEDF1D7B821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8" dur="indefinite" restart="never" nodeType="tmRoot">
          <p:childTnLst>
            <p:seq>
              <p:cTn id="2099" dur="indefinite" nodeType="mainSeq">
                <p:childTnLst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213480" y="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Локална корозия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16360" y="555480"/>
            <a:ext cx="39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ханизъм на корозионния проц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840200" y="1158840"/>
            <a:ext cx="29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кисление: 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756320" y="1619280"/>
            <a:ext cx="394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дукция: О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+ 4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986000" y="228744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ървоначално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обща ко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394160" y="3138480"/>
            <a:ext cx="4398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След 6 – 12 месец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О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 пукнатин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е изчерпва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лишък от М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и подкисляване на сред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силена миграция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449280" y="1120680"/>
            <a:ext cx="36100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60F-D9F9-4348-89B3-C70FEBF2E79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0" dur="indefinite" restart="never" nodeType="tmRoot">
          <p:childTnLst>
            <p:seq>
              <p:cTn id="2131" dur="indefinite" nodeType="mainSeq">
                <p:childTnLst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4959360" y="4111560"/>
            <a:ext cx="387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разтваряне с голяма скорост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метала в пукнатинит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автокаталитичен проце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13480" y="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Локална корозия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635360" y="2496960"/>
            <a:ext cx="3894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коростта на редукция на О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на други участъци от повърхнос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е ускоря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34800" y="565200"/>
            <a:ext cx="85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дновременно присъствие 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скоряване на анодното разтвар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пукнати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255600" y="1309680"/>
          <a:ext cx="86583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309680"/>
                    <a:ext cx="8658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0" name="" descr=""/>
          <p:cNvPicPr/>
          <p:nvPr/>
        </p:nvPicPr>
        <p:blipFill>
          <a:blip r:embed="rId3"/>
          <a:srcRect l="0" t="14158" r="0" b="2843"/>
          <a:stretch/>
        </p:blipFill>
        <p:spPr>
          <a:xfrm>
            <a:off x="287280" y="2021040"/>
            <a:ext cx="4183200" cy="418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671-F485-4E95-8F20-B30EEE2F7ED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0" dur="indefinite" restart="never" nodeType="tmRoot">
          <p:childTnLst>
            <p:seq>
              <p:cTn id="2171" dur="indefinite" nodeType="mainSeq">
                <p:childTnLst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3120" y="192240"/>
            <a:ext cx="64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Класификация на корозионните проц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4960" y="1523880"/>
            <a:ext cx="262080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механизъм на проц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4880" y="785880"/>
            <a:ext cx="4731120" cy="580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химична </a:t>
            </a:r>
            <a:r>
              <a:rPr b="0" lang="bg-BG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 М / корозионна среда - хетероген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химични реакции</a:t>
            </a:r>
            <a:r>
              <a:rPr b="0" lang="fi-FI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87040" y="2004840"/>
            <a:ext cx="5557320" cy="580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електрохимична </a:t>
            </a:r>
            <a:r>
              <a:rPr b="0" lang="bg-BG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 М / течна електролитна среда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катодни и анодни участъци – пространствено раздел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828800" y="1218960"/>
            <a:ext cx="76212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2057400"/>
            <a:ext cx="76212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7840" y="4800600"/>
            <a:ext cx="3865680" cy="3682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ff"/>
                </a:solidFill>
                <a:latin typeface="Arial"/>
              </a:rPr>
              <a:t>според характера на разруша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327840"/>
            <a:ext cx="3505320" cy="8240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ff"/>
                </a:solidFill>
                <a:latin typeface="Arial"/>
              </a:rPr>
              <a:t>обща корозия </a:t>
            </a:r>
            <a:r>
              <a:rPr b="0" lang="bg-BG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bg-BG" sz="1600" spc="-1" strike="noStrike">
                <a:solidFill>
                  <a:srgbClr val="0000ff"/>
                </a:solidFill>
                <a:latin typeface="Arial"/>
              </a:rPr>
              <a:t> по цяла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ff"/>
                </a:solidFill>
                <a:latin typeface="Arial"/>
              </a:rPr>
              <a:t>метална повърхност в конта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ff"/>
                </a:solidFill>
                <a:latin typeface="Arial"/>
              </a:rPr>
              <a:t>с корозионната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67720" y="3147840"/>
            <a:ext cx="132660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ff"/>
                </a:solidFill>
                <a:latin typeface="Arial"/>
              </a:rPr>
              <a:t>равномер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68440" y="3986280"/>
            <a:ext cx="155088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ff"/>
                </a:solidFill>
                <a:latin typeface="Arial"/>
              </a:rPr>
              <a:t>неравномер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248520" y="3276360"/>
            <a:ext cx="45720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3962520"/>
            <a:ext cx="53316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95280" y="3962160"/>
            <a:ext cx="1295640" cy="6094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75520" y="5738760"/>
            <a:ext cx="348012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ff"/>
                </a:solidFill>
                <a:latin typeface="Arial"/>
              </a:rPr>
              <a:t>локална корозия </a:t>
            </a:r>
            <a:r>
              <a:rPr b="0" lang="bg-BG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bg-BG" sz="1600" spc="-1" strike="noStrike">
                <a:solidFill>
                  <a:srgbClr val="0000ff"/>
                </a:solidFill>
                <a:latin typeface="Arial"/>
              </a:rPr>
              <a:t> обхваща сам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ff"/>
                </a:solidFill>
                <a:latin typeface="Arial"/>
              </a:rPr>
              <a:t>някои участъци от повърхност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5334120"/>
            <a:ext cx="1295640" cy="6094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47880" y="5205240"/>
            <a:ext cx="82836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ff"/>
                </a:solidFill>
                <a:latin typeface="Arial"/>
              </a:rPr>
              <a:t>язв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38400" y="4748040"/>
            <a:ext cx="91368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ff"/>
                </a:solidFill>
                <a:latin typeface="Arial"/>
              </a:rPr>
              <a:t>точк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31240" y="4672080"/>
            <a:ext cx="168804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ff"/>
                </a:solidFill>
                <a:latin typeface="Arial"/>
              </a:rPr>
              <a:t>интеркристал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114800" y="5181480"/>
            <a:ext cx="762120" cy="533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876920" y="5028840"/>
            <a:ext cx="167616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67280" y="5409720"/>
            <a:ext cx="129564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6324480"/>
            <a:ext cx="685800" cy="152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03560" y="6477120"/>
            <a:ext cx="228672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ff"/>
                </a:solidFill>
                <a:latin typeface="Arial"/>
              </a:rPr>
              <a:t>корозионно напук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11920" y="5662440"/>
            <a:ext cx="189360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ff"/>
                </a:solidFill>
                <a:latin typeface="Arial"/>
              </a:rPr>
              <a:t>интеркристалит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172200" y="5866920"/>
            <a:ext cx="6094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C7A-D18F-42F9-BFA5-42CA59085E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213480" y="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Локална корозия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865840" y="136224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Механизъ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51160" y="890640"/>
            <a:ext cx="37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тал / аериран разтвор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208120" y="1895400"/>
            <a:ext cx="27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кисление: 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197320" y="2332080"/>
            <a:ext cx="394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дукция: О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+ 4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234040" y="2808360"/>
            <a:ext cx="333684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лишък о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черпване на О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 “дупките” – миграция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си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кисляване на сред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налогичен механизъм на корозия в пукнатини, 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-локализи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rcRect l="5204" t="7665" r="3582" b="0"/>
          <a:stretch/>
        </p:blipFill>
        <p:spPr>
          <a:xfrm>
            <a:off x="330120" y="1415880"/>
            <a:ext cx="4853160" cy="459108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336240" y="43344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итингова ко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9E0-7598-4F2E-8C2B-26F2AB20DC5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4" dur="indefinite" restart="never" nodeType="tmRoot">
          <p:childTnLst>
            <p:seq>
              <p:cTn id="2205" dur="indefinite" nodeType="mainSeq">
                <p:childTnLst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8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1" dur="500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4" dur="500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9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9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213120" y="0"/>
            <a:ext cx="32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Локална корозия (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1560" y="525600"/>
            <a:ext cx="57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Защита от корозия в пукнатини и питингова ко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49840" y="1149480"/>
            <a:ext cx="75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ползване на заваръчни вместо винтови или нитови съ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63160" y="1682640"/>
            <a:ext cx="82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бягване на остри ъгли и припокриване на конструкционни елемент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ста в който се натрупват корозионни аг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5040" y="2535120"/>
            <a:ext cx="89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чистване на компонентите и премахване на остатъчни соли и замърся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93040" y="3359160"/>
            <a:ext cx="74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ползване на твърди метални, тефлонови и гумени уплът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880" y="4227480"/>
            <a:ext cx="81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предотвратяване от питингова корозия – използване на неръжда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омани с повече от 2%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72CA-0FCF-4C01-8966-EEF4199291A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5" dur="indefinite" restart="never" nodeType="tmRoot">
          <p:childTnLst>
            <p:seq>
              <p:cTn id="2266" dur="indefinite" nodeType="mainSeq">
                <p:childTnLst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13480" y="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Локална корозия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17440" y="509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49400" y="473040"/>
            <a:ext cx="62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розионно напукване под механично напрежение (КН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272880" y="1442880"/>
            <a:ext cx="2794320" cy="389916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3571920" y="1033560"/>
            <a:ext cx="457200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атериалът подложен на механично напре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атериалът в контакт с корозионна среда, чийто състав зависи от природата на ме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ме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глеродна стомана – податлива на КНН  в разтвори, съдържащи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fi-FI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 не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fi-FI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ръждаема стомана - податлива на КНН в разтвори, съдържащи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fi-FI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но не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fi-FI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синг – податлив на КНН в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fi-FI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държащи разтвори, но не в такива, съдържащи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fi-FI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fi-FI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чистите метали са много по-слабо податливи на КНН, отколкото сплав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1C7-11BC-4CB8-8229-1E14A0ECAA5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9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9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9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9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8" dur="500" fill="hold"/>
                                        <p:tgtEl>
                                          <p:spTgt spid="9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9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4" dur="500"/>
                                        <p:tgtEl>
                                          <p:spTgt spid="9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213480" y="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Локална корозия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49400" y="473040"/>
            <a:ext cx="66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розионно напукване под механично напрежение (КНН)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41360" y="911160"/>
            <a:ext cx="8472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ероятен механизъм на КНН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нечистванията или сплавните микроелементи създават предпочитани пътища в метала, по които се развиват корозионните пукнат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зи пътища са вероятни области на локална корозия. Онечистванията обикновено се натрупват по границите на зърната, т.е. КНН често протича интеркриста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резултат на значителна пластична деформация (студено валцуване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ислокационните равнини на преплъзване са анодни участъци по отношение на заобикалящия ги метал и кородират предпочитано, което води до транскристалитно К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ложеното външно механично напрежение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раздалечава локално кородиращите области една от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разкъсва пасивните филми на върха на пукнатините, което води до директен контакт между метала и корозионната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3280" y="464652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9E9-DD3A-4602-8DDD-C0EBC71361B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9" dur="500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4" dur="500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9" dur="500"/>
                                        <p:tgtEl>
                                          <p:spTgt spid="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4" dur="500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9" dur="500"/>
                                        <p:tgtEl>
                                          <p:spTgt spid="9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4" dur="500"/>
                                        <p:tgtEl>
                                          <p:spTgt spid="9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9" dur="500"/>
                                        <p:tgtEl>
                                          <p:spTgt spid="9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213480" y="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Локална корозия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49400" y="473040"/>
            <a:ext cx="66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розионно напукване под механично напрежение (КНН)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1852560" y="1090440"/>
            <a:ext cx="3656160" cy="494352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11480" y="1697040"/>
            <a:ext cx="18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късван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асивния фил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939920" y="1589040"/>
            <a:ext cx="35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тивно разтваряне на мет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върха на пукнати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06000" y="3281400"/>
            <a:ext cx="19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цепван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извикано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асивния фил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579280" y="3112920"/>
            <a:ext cx="334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укнатината, предизвикан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-крехкия оксид, нараств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-еластичния ме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53880" y="4881600"/>
            <a:ext cx="17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локализи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върхност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ластич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03680" y="4805280"/>
            <a:ext cx="314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укнатината нараств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оната на метала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нижена еластичнос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извикана от анодно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тваря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0B7-73CA-416F-99B8-5CDCC5D49D0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0" dur="indefinite" restart="never" nodeType="tmRoot">
          <p:childTnLst>
            <p:seq>
              <p:cTn id="2401" dur="indefinite" nodeType="mainSeq">
                <p:childTnLst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244440" y="873000"/>
            <a:ext cx="833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гресивните йони от корозионната среда могат да се адсорбират върху повърхността на метала (различни типове йони се адсорбират върху различни метали и сплав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дсорбираните йони (А) се свързват с атомите на върха на пукнатината и водят до отслабване на локалните междуатомни връ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дсорбираните йони водят до нарастване на скоростта на повърхностна дифузия на атомите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достатъчно обоснована теория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13480" y="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Локална корозия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9400" y="473040"/>
            <a:ext cx="66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розионно напукване под механично напрежение (КНН)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rcRect l="0" t="4755" r="0" b="5653"/>
          <a:stretch/>
        </p:blipFill>
        <p:spPr>
          <a:xfrm>
            <a:off x="2965320" y="3187800"/>
            <a:ext cx="3078360" cy="343044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/>
          <p:nvPr/>
        </p:nvSpPr>
        <p:spPr>
          <a:xfrm>
            <a:off x="5912640" y="3298680"/>
            <a:ext cx="27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дсорбцията на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оди до отслабван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ръзките на върха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укнати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974200" y="5051520"/>
            <a:ext cx="279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том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игрират навъ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т върха на пукнати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37360" y="3359160"/>
            <a:ext cx="201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цепван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извикано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839880" y="518796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виш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върхност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виж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EE8-62EB-4A54-BA07-1333F270B71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1" dur="indefinite" restart="never" nodeType="tmRoot">
          <p:childTnLst>
            <p:seq>
              <p:cTn id="2452" dur="indefinite" nodeType="mainSeq">
                <p:childTnLst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197640" y="19836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Локална корозия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23640" y="74772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нтактна (галванична) ко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07680" y="1195560"/>
            <a:ext cx="8433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тича, когато два различни метала в контакт са потопени в корози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реда – създава се потенциална разлика и протича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розионната среда е основен фактор – понякога анодът и катодът 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менят мес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пр. цинк и стомана в галванична комбинация –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родира, а стома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става инерт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: ако температурата е по-висока от 80 °С или в корозионната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състват нитрати / карбонати – стоманата кородира, а цинкът се пасив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коростта на корозия е максимална в близост до контакта между дв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Ширината на корозионната атака нараства с нарастване проводимостт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розионната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пр. медни нитове+стоманена пластина – малък катод / голям анод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начителна корозия, голяма контактна повърх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ратно: стоманени нитове+медна пластина - малък анод / голям катод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рушаване само на нито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EAD-4002-453A-8FCF-7E2D2C19BE2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8" dur="indefinite" restart="never" nodeType="tmRoot">
          <p:childTnLst>
            <p:seq>
              <p:cTn id="2509" dur="indefinite" nodeType="mainSeq">
                <p:childTnLst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4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7" dur="500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2" dur="500"/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5" dur="500"/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0" dur="500"/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3" dur="500"/>
                                        <p:tgtEl>
                                          <p:spTgt spid="9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6" dur="500"/>
                                        <p:tgtEl>
                                          <p:spTgt spid="9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9" dur="500"/>
                                        <p:tgtEl>
                                          <p:spTgt spid="9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4" dur="500"/>
                                        <p:tgtEl>
                                          <p:spTgt spid="9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7" dur="500"/>
                                        <p:tgtEl>
                                          <p:spTgt spid="9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0" dur="500"/>
                                        <p:tgtEl>
                                          <p:spTgt spid="9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3" dur="500"/>
                                        <p:tgtEl>
                                          <p:spTgt spid="9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8" dur="500"/>
                                        <p:tgtEl>
                                          <p:spTgt spid="9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1" dur="500"/>
                                        <p:tgtEl>
                                          <p:spTgt spid="9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4" dur="500"/>
                                        <p:tgtEl>
                                          <p:spTgt spid="9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7" dur="500"/>
                                        <p:tgtEl>
                                          <p:spTgt spid="9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97640" y="19836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Локална корозия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25080" y="747720"/>
            <a:ext cx="480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отвратяване на галваничната ко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800" y="1214280"/>
            <a:ext cx="857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сновни метод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бор на комбинации от метали, които са колкото е възможно по-близо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да на електродните потенци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Избягване на ситуациите с малък анод и голям 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3. Използване на изолация, когато е възможно – напр. болт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вързване на шайби на фланцово съединение – необходима е изола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ъблото на бол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1798560" y="3152880"/>
            <a:ext cx="5470560" cy="3691800"/>
            <a:chOff x="1798560" y="3152880"/>
            <a:chExt cx="5470560" cy="3691800"/>
          </a:xfrm>
        </p:grpSpPr>
        <p:pic>
          <p:nvPicPr>
            <p:cNvPr id="949" name="" descr=""/>
            <p:cNvPicPr/>
            <p:nvPr/>
          </p:nvPicPr>
          <p:blipFill>
            <a:blip r:embed="rId1"/>
            <a:srcRect l="0" t="6393" r="0" b="3134"/>
            <a:stretch/>
          </p:blipFill>
          <p:spPr>
            <a:xfrm>
              <a:off x="1798560" y="3229200"/>
              <a:ext cx="5470560" cy="35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>
              <a:off x="1980720" y="3640320"/>
              <a:ext cx="11865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Изолиращ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шайб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520800" y="3152880"/>
              <a:ext cx="11865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Изолиращ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втул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256120" y="4996080"/>
              <a:ext cx="583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Бол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713320" y="5910480"/>
              <a:ext cx="700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Тръб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655240" y="5940720"/>
              <a:ext cx="782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Венти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752360" y="6537600"/>
              <a:ext cx="1674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Резбован флане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110400" y="6427800"/>
              <a:ext cx="1181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Уплът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21720" y="4187880"/>
              <a:ext cx="651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Гай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218-2080-4408-A010-1E1011F1EAF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8" dur="indefinite" restart="never" nodeType="tmRoot">
          <p:childTnLst>
            <p:seq>
              <p:cTn id="2579" dur="indefinite" nodeType="mainSeq">
                <p:childTnLst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7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98000" y="19836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Локална корозия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25080" y="747720"/>
            <a:ext cx="51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отвратяване на галваничната корозия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63400" y="1735200"/>
            <a:ext cx="7894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сновни метода (прод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крития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! –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собено ако анодът е покрит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бавяне на инхиби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ползване н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оени съединения вместо резбови, още по-добре – заваръчни съединения – необходимо е заваръчния метал да бъде еднакъв с единия или двата метала в галваничен конта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птимален дизайн – лесно сменяеми или значително по-дебели ан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личие на трети метал, който е по-аноден (т.е. има по-отрицателен потенциал) и от двата галванично свързани компон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885-934B-4AEC-8554-00A8DDCB169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1" dur="indefinite" restart="never" nodeType="tmRoot">
          <p:childTnLst>
            <p:seq>
              <p:cTn id="2632" dur="indefinite" nodeType="mainSeq">
                <p:childTnLst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5" dur="500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1" dur="500" fill="hold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7" dur="500" fill="hold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fill="hold">
                      <p:stCondLst>
                        <p:cond delay="indefinite"/>
                      </p:stCondLst>
                      <p:childTnLst>
                        <p:par>
                          <p:cTn id="2671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7240" y="3733920"/>
            <a:ext cx="253224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условия на протич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7400" y="1981080"/>
            <a:ext cx="2425680" cy="9169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газова корози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М / газова с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в отсъствие на в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93400" y="3657600"/>
            <a:ext cx="3376440" cy="64260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корозия в неелектролит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М / течни непроводящи ср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17080" y="762120"/>
            <a:ext cx="2814120" cy="64260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атмосферна корози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М / атмосферни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" y="192240"/>
            <a:ext cx="68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Класификация на корозионните процеси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95200" y="1523880"/>
            <a:ext cx="2206080" cy="64260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почвена корози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М / поч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90520" y="2438280"/>
            <a:ext cx="2986560" cy="9169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електрокорози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М / електролитни среди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блуждаещи ток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92680" y="4572000"/>
            <a:ext cx="3123720" cy="64260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корозия в електролит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М / течни проводящи ср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19240" y="5562720"/>
            <a:ext cx="4856400" cy="64260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корозия под напреж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корозионна среда + механични напре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80" y="4724280"/>
            <a:ext cx="2992680" cy="64260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биокорози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9900"/>
                </a:solidFill>
                <a:latin typeface="Arial"/>
              </a:rPr>
              <a:t>в почва + микрооргани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33520" y="2971440"/>
            <a:ext cx="685800" cy="7621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191120"/>
            <a:ext cx="76212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743200" y="1142640"/>
            <a:ext cx="990720" cy="2590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114800"/>
            <a:ext cx="990720" cy="1828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19520" y="1904760"/>
            <a:ext cx="990360" cy="19047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19520" y="2971800"/>
            <a:ext cx="990360" cy="914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819520" y="3809520"/>
            <a:ext cx="914400" cy="228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4114800"/>
            <a:ext cx="990360" cy="5335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9E8-74B7-432F-9F39-4CDBAEE441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2400" y="192240"/>
            <a:ext cx="68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Класификация на корозионните процеси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9560" y="692280"/>
            <a:ext cx="59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и за някои най-често срещани видове ко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1600" y="1595520"/>
            <a:ext cx="4694040" cy="3009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1280" y="5035680"/>
            <a:ext cx="80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а корозия - разпространява се по цялата метална повърхн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контакт с корозионната сре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ата корозия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равномерна и неравноме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BAA-6FE4-4B3D-A80C-1D6A2CA839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2400" y="0"/>
            <a:ext cx="68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Класификация на корозионните процеси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240" y="463680"/>
            <a:ext cx="68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и за някои най-често срещани видове локална ко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040" y="853920"/>
            <a:ext cx="3897360" cy="2792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48120" y="134784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орозия в пукнат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68160" y="3851280"/>
            <a:ext cx="4116600" cy="2701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34080" y="436572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итингова ко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5A9-3033-432A-9360-8E6DF843A0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2400" y="0"/>
            <a:ext cx="68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Класификация на корозионните процеси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240" y="463680"/>
            <a:ext cx="68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и за някои най-често срещани видове локална ко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6560" y="890640"/>
            <a:ext cx="3808440" cy="2957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55600" y="181944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нтеркристалитна короз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leachcor.jpg (11057 bytes)"/>
          <p:cNvPicPr/>
          <p:nvPr/>
        </p:nvPicPr>
        <p:blipFill>
          <a:blip r:embed="rId2"/>
          <a:stretch/>
        </p:blipFill>
        <p:spPr>
          <a:xfrm>
            <a:off x="388800" y="4211640"/>
            <a:ext cx="4302360" cy="2165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76360" y="448632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елективно разтвар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745-F3B2-4257-9CE4-D4F749BA00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4:03:33Z</dcterms:created>
  <dc:creator>Iva Betova</dc:creator>
  <dc:description/>
  <dc:language>en-US</dc:language>
  <cp:lastModifiedBy>Iva Betova</cp:lastModifiedBy>
  <dcterms:modified xsi:type="dcterms:W3CDTF">2007-11-20T11:03:18Z</dcterms:modified>
  <cp:revision>170</cp:revision>
  <dc:subject/>
  <dc:title>Slide 1</dc:title>
</cp:coreProperties>
</file>