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BC8-B681-41E9-9ED0-0DB3B0E7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616-E78F-4E1A-9998-15F6AB31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0B3-6164-4C4B-80E7-AA8ABBDD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5A6-A5E3-4074-9E05-A86D26D1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B3E0-F19C-49FD-9A1E-35B60C92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5C96-B9C6-44D3-89DF-2442277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C6BA-200F-4E66-B92F-31A1734A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CF42-9966-437F-B771-EF8E9EDB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2188-F3C3-430A-A5CC-1A8075A0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C42F-F9E5-463B-8E94-E2293655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0231-F6DB-4B96-B49D-6388082D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291-3093-4620-8463-06809E22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CE17-0327-46F3-9984-6A2CC235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E912-44D3-4543-B6F9-7783C635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413D-4FC7-4058-A2E4-46868CDA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A563-1C3E-4243-9837-44AAD8D6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26E5-0783-4299-9D4D-C5611408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549-7273-4D1A-8C43-FB785105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189-2093-4CBF-9A49-3A557068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ED0-2400-4710-9A3C-B023E8B4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BBC-9C9C-4C06-9A1B-3FCBD9AC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413-B906-4CC0-865B-F467488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3D9-1131-4ABB-93C5-BCB7BF7E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9CA-C9C5-4BDF-B093-D0711374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CF8D-4738-4118-B4A3-E40A27D285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4376-49FF-433E-B826-3121D6876A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Стратегии на управление на памет и събиране на боклук в .NET платфор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39640" y="1338840"/>
            <a:ext cx="79930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*  Бъгове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при досегашните стратег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* управляван heep в Common Language Runtime средата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оследоват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елно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заемане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, съседни в програма-съседни в кеш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* heep на С runtime библ.:поддържа свързан списък на блокове памет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(защо не може горната стратегия?- преобразуванията в типове в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un-time</a:t>
            </a: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 и вътрешни референции няма как да се определят. Тук метаданново описание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Group 28"/>
          <p:cNvGrpSpPr/>
          <p:nvPr/>
        </p:nvGrpSpPr>
        <p:grpSpPr>
          <a:xfrm>
            <a:off x="1042920" y="2997360"/>
            <a:ext cx="5689800" cy="1027440"/>
            <a:chOff x="1042920" y="2997360"/>
            <a:chExt cx="5689800" cy="1027440"/>
          </a:xfrm>
        </p:grpSpPr>
        <p:sp>
          <p:nvSpPr>
            <p:cNvPr id="91" name="Rectangle 10"/>
            <p:cNvSpPr/>
            <p:nvPr/>
          </p:nvSpPr>
          <p:spPr>
            <a:xfrm>
              <a:off x="2052720" y="2997360"/>
              <a:ext cx="468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716120" y="2997360"/>
              <a:ext cx="3366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1379520" y="2997360"/>
              <a:ext cx="3366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1042920" y="2997360"/>
              <a:ext cx="3366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Line 11"/>
            <p:cNvSpPr/>
            <p:nvPr/>
          </p:nvSpPr>
          <p:spPr>
            <a:xfrm>
              <a:off x="1042920" y="2997360"/>
              <a:ext cx="5689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>
              <a:off x="1042920" y="3362400"/>
              <a:ext cx="5689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>
              <a:off x="1042920" y="2997360"/>
              <a:ext cx="0" cy="365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>
              <a:off x="1379520" y="299736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15"/>
            <p:cNvSpPr/>
            <p:nvPr/>
          </p:nvSpPr>
          <p:spPr>
            <a:xfrm>
              <a:off x="1716120" y="299736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16"/>
            <p:cNvSpPr/>
            <p:nvPr/>
          </p:nvSpPr>
          <p:spPr>
            <a:xfrm>
              <a:off x="2052720" y="299736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17"/>
            <p:cNvSpPr/>
            <p:nvPr/>
          </p:nvSpPr>
          <p:spPr>
            <a:xfrm>
              <a:off x="6732720" y="2997360"/>
              <a:ext cx="0" cy="365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26"/>
            <p:cNvSpPr/>
            <p:nvPr/>
          </p:nvSpPr>
          <p:spPr>
            <a:xfrm flipV="1">
              <a:off x="2050920" y="335736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Text Box 27"/>
            <p:cNvSpPr/>
            <p:nvPr/>
          </p:nvSpPr>
          <p:spPr>
            <a:xfrm>
              <a:off x="1869840" y="3717720"/>
              <a:ext cx="11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ObjPt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" name="Rectangle 29"/>
          <p:cNvSpPr/>
          <p:nvPr/>
        </p:nvSpPr>
        <p:spPr>
          <a:xfrm>
            <a:off x="685800" y="4194000"/>
            <a:ext cx="77770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0066"/>
                </a:solidFill>
                <a:latin typeface="Tahoma"/>
              </a:rPr>
              <a:t>Ами когато паметта свърши?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Алгоритъм за събиране на боклу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OutOfMemoryException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-Формиране на </a:t>
            </a:r>
            <a:r>
              <a:rPr b="1" i="1" lang="bg-BG" sz="1400" spc="-1" strike="noStrike">
                <a:solidFill>
                  <a:srgbClr val="ff0066"/>
                </a:solidFill>
                <a:latin typeface="Tahoma"/>
              </a:rPr>
              <a:t>корени (</a:t>
            </a:r>
            <a:r>
              <a:rPr b="1" i="1" lang="en-US" sz="1400" spc="-1" strike="noStrike">
                <a:solidFill>
                  <a:srgbClr val="ff0066"/>
                </a:solidFill>
                <a:latin typeface="Tahoma"/>
              </a:rPr>
              <a:t>roots</a:t>
            </a:r>
            <a:r>
              <a:rPr b="1" i="1" lang="bg-BG" sz="1400" spc="-1" strike="noStrike">
                <a:solidFill>
                  <a:srgbClr val="ff0066"/>
                </a:solidFill>
                <a:latin typeface="Tahoma"/>
              </a:rPr>
              <a:t>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и боклук във всеки момент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Корени могат да са: всички глобални и статични  референтни типове; локални пром. от  референтен тип; регистрови променливи. Корени са и обекти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реферирани от обхващащи повиквания нагоре из стека на нишка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-Таблица н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JIT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компилатора с  </a:t>
            </a:r>
            <a:r>
              <a:rPr b="1" i="1" lang="bg-BG" sz="1400" spc="-1" strike="noStrike" u="sng">
                <a:solidFill>
                  <a:srgbClr val="000000"/>
                </a:solidFill>
                <a:uFillTx/>
                <a:latin typeface="Tahoma"/>
              </a:rPr>
              <a:t>области на код и достижимост на обекти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40"/>
          <p:cNvSpPr/>
          <p:nvPr/>
        </p:nvSpPr>
        <p:spPr>
          <a:xfrm>
            <a:off x="324000" y="549360"/>
            <a:ext cx="3240000" cy="21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85200" y="477000"/>
            <a:ext cx="77166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66"/>
                </a:solidFill>
                <a:latin typeface="Tahoma"/>
              </a:rPr>
              <a:t>Поколения. Допуск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нов обект </a:t>
            </a:r>
            <a:r>
              <a:rPr b="1" i="1" lang="bg-BG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по-кратък живот; стар обект </a:t>
            </a:r>
            <a:r>
              <a:rPr b="1" i="1" lang="bg-BG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по-дълго може да живе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събиране на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част от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е по-бързо от събиране на целия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неизследвани обекти в управлявания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са от поколение 0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68360" y="2781360"/>
          <a:ext cx="7343640" cy="334800"/>
        </p:xfrm>
        <a:graphic>
          <a:graphicData uri="http://schemas.openxmlformats.org/drawingml/2006/table">
            <a:tbl>
              <a:tblPr/>
              <a:tblGrid>
                <a:gridCol w="563400"/>
                <a:gridCol w="567000"/>
                <a:gridCol w="563400"/>
                <a:gridCol w="5649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8360" y="1916280"/>
          <a:ext cx="7343640" cy="334800"/>
        </p:xfrm>
        <a:graphic>
          <a:graphicData uri="http://schemas.openxmlformats.org/drawingml/2006/table">
            <a:tbl>
              <a:tblPr/>
              <a:tblGrid>
                <a:gridCol w="563400"/>
                <a:gridCol w="567000"/>
                <a:gridCol w="563400"/>
                <a:gridCol w="566640"/>
                <a:gridCol w="508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120"/>
          <p:cNvSpPr/>
          <p:nvPr/>
        </p:nvSpPr>
        <p:spPr>
          <a:xfrm>
            <a:off x="348120" y="2276640"/>
            <a:ext cx="35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0 (256K)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bg-BG" sz="1400" spc="-1" strike="noStrike">
                <a:solidFill>
                  <a:srgbClr val="3333cc"/>
                </a:solidFill>
                <a:latin typeface="Tahoma"/>
              </a:rPr>
              <a:t>‘С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’ е недостижим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121"/>
          <p:cNvSpPr/>
          <p:nvPr/>
        </p:nvSpPr>
        <p:spPr>
          <a:xfrm>
            <a:off x="466560" y="2565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122"/>
          <p:cNvSpPr/>
          <p:nvPr/>
        </p:nvSpPr>
        <p:spPr>
          <a:xfrm>
            <a:off x="360720" y="3213000"/>
            <a:ext cx="16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 (2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123"/>
          <p:cNvSpPr/>
          <p:nvPr/>
        </p:nvSpPr>
        <p:spPr>
          <a:xfrm flipV="1">
            <a:off x="466560" y="349884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124"/>
          <p:cNvSpPr/>
          <p:nvPr/>
        </p:nvSpPr>
        <p:spPr>
          <a:xfrm>
            <a:off x="2084400" y="321300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125"/>
          <p:cNvSpPr/>
          <p:nvPr/>
        </p:nvSpPr>
        <p:spPr>
          <a:xfrm>
            <a:off x="2195640" y="3502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68360" y="3716280"/>
          <a:ext cx="7343640" cy="335160"/>
        </p:xfrm>
        <a:graphic>
          <a:graphicData uri="http://schemas.openxmlformats.org/drawingml/2006/table">
            <a:tbl>
              <a:tblPr/>
              <a:tblGrid>
                <a:gridCol w="563400"/>
                <a:gridCol w="567000"/>
                <a:gridCol w="563400"/>
                <a:gridCol w="566640"/>
                <a:gridCol w="563760"/>
                <a:gridCol w="565200"/>
                <a:gridCol w="564840"/>
                <a:gridCol w="565200"/>
                <a:gridCol w="563760"/>
                <a:gridCol w="2260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 Box 156"/>
          <p:cNvSpPr/>
          <p:nvPr/>
        </p:nvSpPr>
        <p:spPr>
          <a:xfrm>
            <a:off x="355680" y="40766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466560" y="436248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158"/>
          <p:cNvSpPr/>
          <p:nvPr/>
        </p:nvSpPr>
        <p:spPr>
          <a:xfrm>
            <a:off x="2084400" y="40766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159"/>
          <p:cNvSpPr/>
          <p:nvPr/>
        </p:nvSpPr>
        <p:spPr>
          <a:xfrm>
            <a:off x="2195640" y="4365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68360" y="4653000"/>
          <a:ext cx="7343640" cy="334800"/>
        </p:xfrm>
        <a:graphic>
          <a:graphicData uri="http://schemas.openxmlformats.org/drawingml/2006/table">
            <a:tbl>
              <a:tblPr/>
              <a:tblGrid>
                <a:gridCol w="563400"/>
                <a:gridCol w="567000"/>
                <a:gridCol w="563400"/>
                <a:gridCol w="566640"/>
                <a:gridCol w="563760"/>
                <a:gridCol w="565200"/>
                <a:gridCol w="564840"/>
                <a:gridCol w="338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190"/>
          <p:cNvSpPr/>
          <p:nvPr/>
        </p:nvSpPr>
        <p:spPr>
          <a:xfrm>
            <a:off x="355680" y="501336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91"/>
          <p:cNvSpPr/>
          <p:nvPr/>
        </p:nvSpPr>
        <p:spPr>
          <a:xfrm>
            <a:off x="466560" y="530064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92"/>
          <p:cNvSpPr/>
          <p:nvPr/>
        </p:nvSpPr>
        <p:spPr>
          <a:xfrm>
            <a:off x="4388040" y="501336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93"/>
          <p:cNvSpPr/>
          <p:nvPr/>
        </p:nvSpPr>
        <p:spPr>
          <a:xfrm flipV="1">
            <a:off x="4498920" y="530064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68360" y="5589720"/>
          <a:ext cx="7343640" cy="334800"/>
        </p:xfrm>
        <a:graphic>
          <a:graphicData uri="http://schemas.openxmlformats.org/drawingml/2006/table">
            <a:tbl>
              <a:tblPr/>
              <a:tblGrid>
                <a:gridCol w="563400"/>
                <a:gridCol w="567000"/>
                <a:gridCol w="563400"/>
                <a:gridCol w="566640"/>
                <a:gridCol w="563760"/>
                <a:gridCol w="565200"/>
                <a:gridCol w="564840"/>
                <a:gridCol w="565200"/>
                <a:gridCol w="563760"/>
                <a:gridCol w="533160"/>
                <a:gridCol w="172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 Box 231"/>
          <p:cNvSpPr/>
          <p:nvPr/>
        </p:nvSpPr>
        <p:spPr>
          <a:xfrm>
            <a:off x="428760" y="595008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32"/>
          <p:cNvSpPr/>
          <p:nvPr/>
        </p:nvSpPr>
        <p:spPr>
          <a:xfrm>
            <a:off x="539640" y="623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33"/>
          <p:cNvSpPr/>
          <p:nvPr/>
        </p:nvSpPr>
        <p:spPr>
          <a:xfrm>
            <a:off x="4461120" y="595008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234"/>
          <p:cNvSpPr/>
          <p:nvPr/>
        </p:nvSpPr>
        <p:spPr>
          <a:xfrm flipV="1">
            <a:off x="4572000" y="623736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684360" y="692280"/>
          <a:ext cx="7343640" cy="334800"/>
        </p:xfrm>
        <a:graphic>
          <a:graphicData uri="http://schemas.openxmlformats.org/drawingml/2006/table">
            <a:tbl>
              <a:tblPr/>
              <a:tblGrid>
                <a:gridCol w="563400"/>
                <a:gridCol w="566640"/>
                <a:gridCol w="563760"/>
                <a:gridCol w="566640"/>
                <a:gridCol w="563400"/>
                <a:gridCol w="565200"/>
                <a:gridCol w="565200"/>
                <a:gridCol w="565200"/>
                <a:gridCol w="563760"/>
                <a:gridCol w="2260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30"/>
          <p:cNvSpPr/>
          <p:nvPr/>
        </p:nvSpPr>
        <p:spPr>
          <a:xfrm>
            <a:off x="571680" y="10526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31"/>
          <p:cNvSpPr/>
          <p:nvPr/>
        </p:nvSpPr>
        <p:spPr>
          <a:xfrm>
            <a:off x="682560" y="1339920"/>
            <a:ext cx="511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32"/>
          <p:cNvSpPr/>
          <p:nvPr/>
        </p:nvSpPr>
        <p:spPr>
          <a:xfrm>
            <a:off x="5756400" y="10526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33"/>
          <p:cNvSpPr/>
          <p:nvPr/>
        </p:nvSpPr>
        <p:spPr>
          <a:xfrm flipV="1">
            <a:off x="5867280" y="133992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757080" y="1684440"/>
          <a:ext cx="727092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6640"/>
                <a:gridCol w="563760"/>
                <a:gridCol w="566640"/>
                <a:gridCol w="563400"/>
                <a:gridCol w="565200"/>
                <a:gridCol w="565200"/>
                <a:gridCol w="565200"/>
                <a:gridCol w="563400"/>
                <a:gridCol w="533520"/>
                <a:gridCol w="533520"/>
                <a:gridCol w="533160"/>
                <a:gridCol w="587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60"/>
          <p:cNvSpPr/>
          <p:nvPr/>
        </p:nvSpPr>
        <p:spPr>
          <a:xfrm>
            <a:off x="644760" y="204480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61"/>
          <p:cNvSpPr/>
          <p:nvPr/>
        </p:nvSpPr>
        <p:spPr>
          <a:xfrm>
            <a:off x="755640" y="2332080"/>
            <a:ext cx="511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62"/>
          <p:cNvSpPr/>
          <p:nvPr/>
        </p:nvSpPr>
        <p:spPr>
          <a:xfrm>
            <a:off x="5829480" y="204480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63"/>
          <p:cNvSpPr/>
          <p:nvPr/>
        </p:nvSpPr>
        <p:spPr>
          <a:xfrm flipV="1">
            <a:off x="5940360" y="233208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57080" y="2708280"/>
          <a:ext cx="734400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6640"/>
                <a:gridCol w="563760"/>
                <a:gridCol w="566640"/>
                <a:gridCol w="563400"/>
                <a:gridCol w="565200"/>
                <a:gridCol w="565200"/>
                <a:gridCol w="338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Text Box 97"/>
          <p:cNvSpPr/>
          <p:nvPr/>
        </p:nvSpPr>
        <p:spPr>
          <a:xfrm>
            <a:off x="646920" y="3068640"/>
            <a:ext cx="180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2 (10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98"/>
          <p:cNvSpPr/>
          <p:nvPr/>
        </p:nvSpPr>
        <p:spPr>
          <a:xfrm>
            <a:off x="755640" y="3355920"/>
            <a:ext cx="2808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99"/>
          <p:cNvSpPr/>
          <p:nvPr/>
        </p:nvSpPr>
        <p:spPr>
          <a:xfrm>
            <a:off x="4676760" y="306864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00"/>
          <p:cNvSpPr/>
          <p:nvPr/>
        </p:nvSpPr>
        <p:spPr>
          <a:xfrm flipV="1">
            <a:off x="4788000" y="3355560"/>
            <a:ext cx="21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103"/>
          <p:cNvSpPr/>
          <p:nvPr/>
        </p:nvSpPr>
        <p:spPr>
          <a:xfrm>
            <a:off x="3524400" y="307008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поколени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04"/>
          <p:cNvSpPr/>
          <p:nvPr/>
        </p:nvSpPr>
        <p:spPr>
          <a:xfrm flipV="1">
            <a:off x="3635280" y="335772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05"/>
          <p:cNvSpPr/>
          <p:nvPr/>
        </p:nvSpPr>
        <p:spPr>
          <a:xfrm>
            <a:off x="609480" y="3938760"/>
            <a:ext cx="83552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Системата е самонастройваща се: напр. ако след освобождаване на поколение 0 не се е освободила реално много памет, то границата се разширява напр на 512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(напр.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SP.NET)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където вследствие клиентски заявки се формират куп обекти, системата работи с  по-висока ефективнос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Големи обекти (над 100 КВ) се заделят от отделен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. Финализацията работи по същия начин, но без преместване за свиване на паметта (това би било по-бавно).  Те се считат като че винаги са в поколение 2 – т.е. по-рядко се финализират. Ако обаче се ползва явно финализиране за унищожението на големи обекти, то се форсира честа обработка и през всички поколения (0,1,2), което силно влошава производителност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6"/>
          <p:cNvSpPr/>
          <p:nvPr/>
        </p:nvSpPr>
        <p:spPr>
          <a:xfrm>
            <a:off x="1836720" y="404640"/>
            <a:ext cx="612000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-99360" y="1916280"/>
            <a:ext cx="92779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void Gc.Collect()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66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void Collect(Int32 generation, GCollectionMode mod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Където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‘mode’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може да е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Default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за момента действа както и без флаг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orced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форсира стартиране н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C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за всички поколе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Optimized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опитва с дефрагментация или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C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за младшо поколение , докат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се удовлетворят исканията за паме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добре е стартиране н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C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ако знаете, че някакви обекти вече не са ви нужни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добре е стартиране н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C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ако сте току-що съхранили някакви данни във файл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Или при ‘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load ‘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‘Windows Form’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контрол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Можете да повикате и метод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C.WaitForPendingFinalizers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Или ако знаете, че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C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ще изисква доста време за събиране на обектите, может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явно да го повикате предварително, в по-ненатоварен времеви интервал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Можете да получите и информация в кое поколение  е определен обект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nt2 GetGeneration(Object obj);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66560" y="830160"/>
            <a:ext cx="806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Програмно активиране системата за събиране на боклук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1) void GC.Collect(Int32 Generation);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//указвате кое поколение да се събир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// събира указаното поколение и тези под него (напр при ‘1’: поколение1 и 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406080" y="333360"/>
            <a:ext cx="80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Предварително оценяване за наличност на големи обеми пам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(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NET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04200" y="1413000"/>
            <a:ext cx="88502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ahoma"/>
              </a:rPr>
              <a:t>MemoryFailPoint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в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stem.Runtime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amespace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public sealed class MemoryFailPoint : CriticlalFinalizerObject, IDispo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public MemoryFailPoint(Int32 sizeInMegabytes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~MemoryFailPoint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public void Dispo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Начин на изпозване на механизм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Създава се инстанция на класа с подаден обем памет в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, които оценъчно ще се заделят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проверките са следните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има ли достатъно място ( в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ging file)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, като се взема предвид и предходно заделяне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от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moryFailPoint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конструктор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ако има такова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ако няма памет –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C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се стартира в опит да освобод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ако пак не достига – опитва се с разширение н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ging file (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при неуспех –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ceptio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при успех – заявената памет се ‘заделя’ в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read safe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режим, така че същот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може да се направи и многократно в други нишки (вкл. и  еднотипни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379800" y="5799240"/>
            <a:ext cx="842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В реакция на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nsufficientMemoryException</a:t>
            </a:r>
            <a:r>
              <a:rPr b="1" lang="en-US" sz="1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дъщерен н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utOfMemoryException)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можете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да добавите код (напр кеширане на някакви данни, редуциране на обеми и т.н.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91" name="Straight Arrow Connector 2"/>
          <p:cNvCxnSpPr/>
          <p:nvPr/>
        </p:nvCxnSpPr>
        <p:spPr>
          <a:xfrm flipH="1">
            <a:off x="3131280" y="4869000"/>
            <a:ext cx="496980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4"/>
          <p:cNvSpPr/>
          <p:nvPr/>
        </p:nvSpPr>
        <p:spPr>
          <a:xfrm>
            <a:off x="264600" y="404640"/>
            <a:ext cx="86241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Tahoma"/>
              </a:rPr>
              <a:t>Използване на техника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Using System.Runtim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public static class Program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public static void Main(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‘логическо’ резервиране на 1.5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GB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паме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using (MemoryFailPoint mfp = new MemoryFailPoint(1500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// алгоритъм , който консумира тази паме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} //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завършва с повикване н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Dispose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- ‘логически’ освобождав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atch (InsufficientMemoryException e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//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каквото трябва да се случи, ако липсва подобен обем свободна паме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onsole.WriteLine(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04C3A53"/>
          <p:cNvPicPr/>
          <p:nvPr/>
        </p:nvPicPr>
        <p:blipFill>
          <a:blip r:embed="rId1"/>
          <a:stretch/>
        </p:blipFill>
        <p:spPr>
          <a:xfrm>
            <a:off x="108000" y="476280"/>
            <a:ext cx="7547040" cy="2732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08000" y="476280"/>
            <a:ext cx="1655640" cy="431640"/>
          </a:xfrm>
          <a:prstGeom prst="rect">
            <a:avLst/>
          </a:prstGeom>
          <a:solidFill>
            <a:srgbClr val="e9e9e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264040" y="4508640"/>
            <a:ext cx="661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800000"/>
                </a:solidFill>
                <a:latin typeface="Tahoma"/>
              </a:rPr>
              <a:t>граф на достижимите обекти от коренит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(създаван на база на таблицата динамично от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IT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 компилатора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Freeform 7"/>
          <p:cNvSpPr/>
          <p:nvPr/>
        </p:nvSpPr>
        <p:spPr>
          <a:xfrm>
            <a:off x="260280" y="941400"/>
            <a:ext cx="2241720" cy="620640"/>
          </a:xfrm>
          <a:custGeom>
            <a:avLst/>
            <a:gdLst/>
            <a:ahLst/>
            <a:rect l="l" t="t" r="r" b="b"/>
            <a:pathLst>
              <a:path w="1412" h="391">
                <a:moveTo>
                  <a:pt x="1412" y="113"/>
                </a:moveTo>
                <a:cubicBezTo>
                  <a:pt x="1370" y="75"/>
                  <a:pt x="1129" y="100"/>
                  <a:pt x="1084" y="102"/>
                </a:cubicBezTo>
                <a:cubicBezTo>
                  <a:pt x="986" y="100"/>
                  <a:pt x="888" y="104"/>
                  <a:pt x="790" y="96"/>
                </a:cubicBezTo>
                <a:cubicBezTo>
                  <a:pt x="673" y="86"/>
                  <a:pt x="775" y="71"/>
                  <a:pt x="711" y="68"/>
                </a:cubicBezTo>
                <a:cubicBezTo>
                  <a:pt x="640" y="65"/>
                  <a:pt x="568" y="64"/>
                  <a:pt x="497" y="62"/>
                </a:cubicBezTo>
                <a:cubicBezTo>
                  <a:pt x="468" y="58"/>
                  <a:pt x="441" y="52"/>
                  <a:pt x="412" y="45"/>
                </a:cubicBezTo>
                <a:cubicBezTo>
                  <a:pt x="218" y="49"/>
                  <a:pt x="161" y="0"/>
                  <a:pt x="56" y="96"/>
                </a:cubicBezTo>
                <a:cubicBezTo>
                  <a:pt x="40" y="151"/>
                  <a:pt x="67" y="73"/>
                  <a:pt x="34" y="124"/>
                </a:cubicBezTo>
                <a:cubicBezTo>
                  <a:pt x="23" y="140"/>
                  <a:pt x="6" y="189"/>
                  <a:pt x="0" y="209"/>
                </a:cubicBezTo>
                <a:cubicBezTo>
                  <a:pt x="7" y="240"/>
                  <a:pt x="15" y="248"/>
                  <a:pt x="34" y="271"/>
                </a:cubicBezTo>
                <a:cubicBezTo>
                  <a:pt x="40" y="278"/>
                  <a:pt x="43" y="289"/>
                  <a:pt x="51" y="294"/>
                </a:cubicBezTo>
                <a:cubicBezTo>
                  <a:pt x="63" y="301"/>
                  <a:pt x="90" y="305"/>
                  <a:pt x="90" y="305"/>
                </a:cubicBezTo>
                <a:cubicBezTo>
                  <a:pt x="106" y="317"/>
                  <a:pt x="128" y="331"/>
                  <a:pt x="147" y="339"/>
                </a:cubicBezTo>
                <a:cubicBezTo>
                  <a:pt x="159" y="344"/>
                  <a:pt x="186" y="350"/>
                  <a:pt x="186" y="350"/>
                </a:cubicBezTo>
                <a:cubicBezTo>
                  <a:pt x="224" y="373"/>
                  <a:pt x="268" y="375"/>
                  <a:pt x="310" y="390"/>
                </a:cubicBezTo>
                <a:cubicBezTo>
                  <a:pt x="509" y="387"/>
                  <a:pt x="604" y="391"/>
                  <a:pt x="768" y="378"/>
                </a:cubicBezTo>
                <a:cubicBezTo>
                  <a:pt x="858" y="371"/>
                  <a:pt x="943" y="345"/>
                  <a:pt x="1033" y="339"/>
                </a:cubicBezTo>
                <a:cubicBezTo>
                  <a:pt x="1066" y="327"/>
                  <a:pt x="1101" y="321"/>
                  <a:pt x="1135" y="311"/>
                </a:cubicBezTo>
                <a:cubicBezTo>
                  <a:pt x="1164" y="290"/>
                  <a:pt x="1202" y="282"/>
                  <a:pt x="1231" y="260"/>
                </a:cubicBezTo>
                <a:cubicBezTo>
                  <a:pt x="1260" y="238"/>
                  <a:pt x="1286" y="212"/>
                  <a:pt x="1316" y="192"/>
                </a:cubicBezTo>
                <a:cubicBezTo>
                  <a:pt x="1328" y="174"/>
                  <a:pt x="1344" y="161"/>
                  <a:pt x="1361" y="147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22"/>
          <p:cNvGrpSpPr/>
          <p:nvPr/>
        </p:nvGrpSpPr>
        <p:grpSpPr>
          <a:xfrm>
            <a:off x="395280" y="404640"/>
            <a:ext cx="6840720" cy="2735280"/>
            <a:chOff x="395280" y="404640"/>
            <a:chExt cx="6840720" cy="2735280"/>
          </a:xfrm>
        </p:grpSpPr>
        <p:sp>
          <p:nvSpPr>
            <p:cNvPr id="110" name="Line 16"/>
            <p:cNvSpPr/>
            <p:nvPr/>
          </p:nvSpPr>
          <p:spPr>
            <a:xfrm flipV="1">
              <a:off x="3851280" y="1123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3670200" y="1483920"/>
              <a:ext cx="11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ObjPt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46"/>
            <p:cNvSpPr/>
            <p:nvPr/>
          </p:nvSpPr>
          <p:spPr>
            <a:xfrm>
              <a:off x="3584520" y="765000"/>
              <a:ext cx="26676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3851280" y="765000"/>
              <a:ext cx="3384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3317760" y="765000"/>
              <a:ext cx="26676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>
              <a:off x="3051000" y="765000"/>
              <a:ext cx="26676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25"/>
            <p:cNvSpPr/>
            <p:nvPr/>
          </p:nvSpPr>
          <p:spPr>
            <a:xfrm>
              <a:off x="2786040" y="765000"/>
              <a:ext cx="26496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24"/>
            <p:cNvSpPr/>
            <p:nvPr/>
          </p:nvSpPr>
          <p:spPr>
            <a:xfrm>
              <a:off x="2519280" y="765000"/>
              <a:ext cx="26676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2252520" y="765000"/>
              <a:ext cx="26676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1986120" y="765000"/>
              <a:ext cx="26640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1720800" y="765000"/>
              <a:ext cx="26532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20"/>
            <p:cNvSpPr/>
            <p:nvPr/>
          </p:nvSpPr>
          <p:spPr>
            <a:xfrm>
              <a:off x="1454040" y="765000"/>
              <a:ext cx="26676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1187280" y="765000"/>
              <a:ext cx="26676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>
              <a:off x="1187280" y="765000"/>
              <a:ext cx="6048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>
              <a:off x="1187280" y="1123560"/>
              <a:ext cx="6048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>
              <a:off x="1187280" y="765000"/>
              <a:ext cx="0" cy="358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145404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>
              <a:off x="172080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>
              <a:off x="198612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35"/>
            <p:cNvSpPr/>
            <p:nvPr/>
          </p:nvSpPr>
          <p:spPr>
            <a:xfrm>
              <a:off x="225252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Line 36"/>
            <p:cNvSpPr/>
            <p:nvPr/>
          </p:nvSpPr>
          <p:spPr>
            <a:xfrm>
              <a:off x="251928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37"/>
            <p:cNvSpPr/>
            <p:nvPr/>
          </p:nvSpPr>
          <p:spPr>
            <a:xfrm>
              <a:off x="278604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Line 38"/>
            <p:cNvSpPr/>
            <p:nvPr/>
          </p:nvSpPr>
          <p:spPr>
            <a:xfrm>
              <a:off x="305100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Line 39"/>
            <p:cNvSpPr/>
            <p:nvPr/>
          </p:nvSpPr>
          <p:spPr>
            <a:xfrm>
              <a:off x="331776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Line 40"/>
            <p:cNvSpPr/>
            <p:nvPr/>
          </p:nvSpPr>
          <p:spPr>
            <a:xfrm>
              <a:off x="358452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41"/>
            <p:cNvSpPr/>
            <p:nvPr/>
          </p:nvSpPr>
          <p:spPr>
            <a:xfrm>
              <a:off x="7236000" y="765000"/>
              <a:ext cx="0" cy="358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47"/>
            <p:cNvSpPr/>
            <p:nvPr/>
          </p:nvSpPr>
          <p:spPr>
            <a:xfrm>
              <a:off x="3851280" y="76500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63"/>
            <p:cNvSpPr/>
            <p:nvPr/>
          </p:nvSpPr>
          <p:spPr>
            <a:xfrm>
              <a:off x="2136240" y="404640"/>
              <a:ext cx="393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anaged heap</a:t>
              </a:r>
              <a:r>
                <a:rPr b="0" lang="bg-BG" sz="1400" spc="-1" strike="noStrike">
                  <a:solidFill>
                    <a:srgbClr val="000000"/>
                  </a:solidFill>
                  <a:latin typeface="Tahoma"/>
                </a:rPr>
                <a:t> преди събиране на боклу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AutoShape 64"/>
            <p:cNvSpPr/>
            <p:nvPr/>
          </p:nvSpPr>
          <p:spPr>
            <a:xfrm>
              <a:off x="395280" y="1773000"/>
              <a:ext cx="2376360" cy="1366920"/>
            </a:xfrm>
            <a:prstGeom prst="cloudCallout">
              <a:avLst>
                <a:gd name="adj1" fmla="val -40379"/>
                <a:gd name="adj2" fmla="val -4163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(strong reference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lob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tic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PU register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65"/>
            <p:cNvSpPr/>
            <p:nvPr/>
          </p:nvSpPr>
          <p:spPr>
            <a:xfrm>
              <a:off x="1258920" y="1123560"/>
              <a:ext cx="766800" cy="720720"/>
            </a:xfrm>
            <a:custGeom>
              <a:avLst/>
              <a:gdLst/>
              <a:ahLst/>
              <a:rect l="l" t="t" r="r" b="b"/>
              <a:pathLst>
                <a:path w="483" h="454">
                  <a:moveTo>
                    <a:pt x="453" y="454"/>
                  </a:moveTo>
                  <a:cubicBezTo>
                    <a:pt x="468" y="401"/>
                    <a:pt x="483" y="349"/>
                    <a:pt x="408" y="273"/>
                  </a:cubicBezTo>
                  <a:cubicBezTo>
                    <a:pt x="333" y="197"/>
                    <a:pt x="68" y="4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68"/>
            <p:cNvSpPr/>
            <p:nvPr/>
          </p:nvSpPr>
          <p:spPr>
            <a:xfrm>
              <a:off x="1979640" y="1123560"/>
              <a:ext cx="457200" cy="720720"/>
            </a:xfrm>
            <a:custGeom>
              <a:avLst/>
              <a:gdLst/>
              <a:ahLst/>
              <a:rect l="l" t="t" r="r" b="b"/>
              <a:pathLst>
                <a:path w="288" h="454">
                  <a:moveTo>
                    <a:pt x="0" y="454"/>
                  </a:moveTo>
                  <a:cubicBezTo>
                    <a:pt x="129" y="356"/>
                    <a:pt x="258" y="258"/>
                    <a:pt x="273" y="182"/>
                  </a:cubicBezTo>
                  <a:cubicBezTo>
                    <a:pt x="288" y="106"/>
                    <a:pt x="121" y="30"/>
                    <a:pt x="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69"/>
            <p:cNvSpPr/>
            <p:nvPr/>
          </p:nvSpPr>
          <p:spPr>
            <a:xfrm>
              <a:off x="1835280" y="1123560"/>
              <a:ext cx="384120" cy="720720"/>
            </a:xfrm>
            <a:custGeom>
              <a:avLst/>
              <a:gdLst/>
              <a:ahLst/>
              <a:rect l="l" t="t" r="r" b="b"/>
              <a:pathLst>
                <a:path w="242" h="454">
                  <a:moveTo>
                    <a:pt x="90" y="454"/>
                  </a:moveTo>
                  <a:cubicBezTo>
                    <a:pt x="166" y="355"/>
                    <a:pt x="242" y="257"/>
                    <a:pt x="227" y="182"/>
                  </a:cubicBezTo>
                  <a:cubicBezTo>
                    <a:pt x="212" y="107"/>
                    <a:pt x="38" y="3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1979640" y="1123560"/>
              <a:ext cx="912960" cy="720720"/>
            </a:xfrm>
            <a:custGeom>
              <a:avLst/>
              <a:gdLst/>
              <a:ahLst/>
              <a:rect l="l" t="t" r="r" b="b"/>
              <a:pathLst>
                <a:path w="575" h="454">
                  <a:moveTo>
                    <a:pt x="0" y="454"/>
                  </a:moveTo>
                  <a:cubicBezTo>
                    <a:pt x="211" y="356"/>
                    <a:pt x="423" y="258"/>
                    <a:pt x="499" y="182"/>
                  </a:cubicBezTo>
                  <a:cubicBezTo>
                    <a:pt x="575" y="106"/>
                    <a:pt x="514" y="53"/>
                    <a:pt x="45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2124000" y="1123560"/>
              <a:ext cx="1079640" cy="217440"/>
            </a:xfrm>
            <a:custGeom>
              <a:avLst/>
              <a:gdLst/>
              <a:ahLst/>
              <a:rect l="l" t="t" r="r" b="b"/>
              <a:pathLst>
                <a:path w="725" h="137">
                  <a:moveTo>
                    <a:pt x="0" y="0"/>
                  </a:moveTo>
                  <a:cubicBezTo>
                    <a:pt x="188" y="68"/>
                    <a:pt x="377" y="137"/>
                    <a:pt x="498" y="137"/>
                  </a:cubicBezTo>
                  <a:cubicBezTo>
                    <a:pt x="619" y="137"/>
                    <a:pt x="672" y="68"/>
                    <a:pt x="72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Rectangle 119"/>
          <p:cNvSpPr/>
          <p:nvPr/>
        </p:nvSpPr>
        <p:spPr>
          <a:xfrm>
            <a:off x="370800" y="5908680"/>
            <a:ext cx="807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# може и да не пишете код, управляващ времето на живот на обектите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ече няма неизползвани обекти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сички те ще се премахнат скоро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1" i="1" lang="bg-BG" sz="1400" spc="-1" strike="noStrike" u="sng">
                <a:solidFill>
                  <a:srgbClr val="000000"/>
                </a:solidFill>
                <a:uFillTx/>
                <a:latin typeface="Tahoma"/>
              </a:rPr>
              <a:t>освобождаване на обект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bg-BG" sz="1400" spc="-1" strike="noStrike" u="sng">
                <a:solidFill>
                  <a:srgbClr val="000000"/>
                </a:solidFill>
                <a:uFillTx/>
                <a:latin typeface="Tahoma"/>
              </a:rPr>
              <a:t>липса на достъп до обекта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са еквивалентни твърдения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123"/>
          <p:cNvGrpSpPr/>
          <p:nvPr/>
        </p:nvGrpSpPr>
        <p:grpSpPr>
          <a:xfrm>
            <a:off x="380880" y="3124080"/>
            <a:ext cx="8734320" cy="2735280"/>
            <a:chOff x="380880" y="3124080"/>
            <a:chExt cx="8734320" cy="2735280"/>
          </a:xfrm>
        </p:grpSpPr>
        <p:sp>
          <p:nvSpPr>
            <p:cNvPr id="146" name="Line 73"/>
            <p:cNvSpPr/>
            <p:nvPr/>
          </p:nvSpPr>
          <p:spPr>
            <a:xfrm flipV="1">
              <a:off x="2901960" y="3842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Text Box 74"/>
            <p:cNvSpPr/>
            <p:nvPr/>
          </p:nvSpPr>
          <p:spPr>
            <a:xfrm>
              <a:off x="2719080" y="4203360"/>
              <a:ext cx="11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ObjPt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77"/>
            <p:cNvSpPr/>
            <p:nvPr/>
          </p:nvSpPr>
          <p:spPr>
            <a:xfrm>
              <a:off x="2879640" y="3484440"/>
              <a:ext cx="43419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79"/>
            <p:cNvSpPr/>
            <p:nvPr/>
          </p:nvSpPr>
          <p:spPr>
            <a:xfrm>
              <a:off x="2539800" y="3484440"/>
              <a:ext cx="33984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81"/>
            <p:cNvSpPr/>
            <p:nvPr/>
          </p:nvSpPr>
          <p:spPr>
            <a:xfrm>
              <a:off x="2197080" y="3484440"/>
              <a:ext cx="34272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83"/>
            <p:cNvSpPr/>
            <p:nvPr/>
          </p:nvSpPr>
          <p:spPr>
            <a:xfrm>
              <a:off x="1855800" y="3484440"/>
              <a:ext cx="34128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84"/>
            <p:cNvSpPr/>
            <p:nvPr/>
          </p:nvSpPr>
          <p:spPr>
            <a:xfrm>
              <a:off x="1514520" y="3484440"/>
              <a:ext cx="34128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86"/>
            <p:cNvSpPr/>
            <p:nvPr/>
          </p:nvSpPr>
          <p:spPr>
            <a:xfrm>
              <a:off x="1172880" y="3484440"/>
              <a:ext cx="34164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87"/>
            <p:cNvSpPr/>
            <p:nvPr/>
          </p:nvSpPr>
          <p:spPr>
            <a:xfrm>
              <a:off x="1172880" y="3484440"/>
              <a:ext cx="6048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88"/>
            <p:cNvSpPr/>
            <p:nvPr/>
          </p:nvSpPr>
          <p:spPr>
            <a:xfrm>
              <a:off x="1172880" y="3843000"/>
              <a:ext cx="6048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89"/>
            <p:cNvSpPr/>
            <p:nvPr/>
          </p:nvSpPr>
          <p:spPr>
            <a:xfrm>
              <a:off x="1172880" y="3484440"/>
              <a:ext cx="0" cy="358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90"/>
            <p:cNvSpPr/>
            <p:nvPr/>
          </p:nvSpPr>
          <p:spPr>
            <a:xfrm>
              <a:off x="1514520" y="348444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92"/>
            <p:cNvSpPr/>
            <p:nvPr/>
          </p:nvSpPr>
          <p:spPr>
            <a:xfrm>
              <a:off x="1855800" y="348444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93"/>
            <p:cNvSpPr/>
            <p:nvPr/>
          </p:nvSpPr>
          <p:spPr>
            <a:xfrm>
              <a:off x="2197080" y="348444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Line 95"/>
            <p:cNvSpPr/>
            <p:nvPr/>
          </p:nvSpPr>
          <p:spPr>
            <a:xfrm>
              <a:off x="2539800" y="348444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Line 97"/>
            <p:cNvSpPr/>
            <p:nvPr/>
          </p:nvSpPr>
          <p:spPr>
            <a:xfrm>
              <a:off x="2879640" y="348444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99"/>
            <p:cNvSpPr/>
            <p:nvPr/>
          </p:nvSpPr>
          <p:spPr>
            <a:xfrm>
              <a:off x="7221600" y="3484440"/>
              <a:ext cx="0" cy="358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101"/>
            <p:cNvSpPr/>
            <p:nvPr/>
          </p:nvSpPr>
          <p:spPr>
            <a:xfrm>
              <a:off x="2082600" y="3124080"/>
              <a:ext cx="703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anaged heap</a:t>
              </a:r>
              <a:r>
                <a:rPr b="0" lang="bg-BG" sz="1400" spc="-1" strike="noStrike">
                  <a:solidFill>
                    <a:srgbClr val="000000"/>
                  </a:solidFill>
                  <a:latin typeface="Tahoma"/>
                </a:rPr>
                <a:t> – след събиране на боклука (обекти и указатели се разместват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AutoShape 102"/>
            <p:cNvSpPr/>
            <p:nvPr/>
          </p:nvSpPr>
          <p:spPr>
            <a:xfrm>
              <a:off x="380880" y="4492440"/>
              <a:ext cx="2376360" cy="1366920"/>
            </a:xfrm>
            <a:prstGeom prst="cloudCallout">
              <a:avLst>
                <a:gd name="adj1" fmla="val -40379"/>
                <a:gd name="adj2" fmla="val -4163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(strong reference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lob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tic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PU register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03"/>
            <p:cNvSpPr/>
            <p:nvPr/>
          </p:nvSpPr>
          <p:spPr>
            <a:xfrm>
              <a:off x="1317600" y="3843000"/>
              <a:ext cx="766800" cy="720720"/>
            </a:xfrm>
            <a:custGeom>
              <a:avLst/>
              <a:gdLst/>
              <a:ahLst/>
              <a:rect l="l" t="t" r="r" b="b"/>
              <a:pathLst>
                <a:path w="483" h="454">
                  <a:moveTo>
                    <a:pt x="453" y="454"/>
                  </a:moveTo>
                  <a:cubicBezTo>
                    <a:pt x="468" y="401"/>
                    <a:pt x="483" y="349"/>
                    <a:pt x="408" y="273"/>
                  </a:cubicBezTo>
                  <a:cubicBezTo>
                    <a:pt x="333" y="197"/>
                    <a:pt x="68" y="4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07"/>
            <p:cNvSpPr/>
            <p:nvPr/>
          </p:nvSpPr>
          <p:spPr>
            <a:xfrm>
              <a:off x="1965240" y="3843000"/>
              <a:ext cx="792000" cy="144720"/>
            </a:xfrm>
            <a:custGeom>
              <a:avLst/>
              <a:gdLst/>
              <a:ahLst/>
              <a:rect l="l" t="t" r="r" b="b"/>
              <a:pathLst>
                <a:path w="725" h="137">
                  <a:moveTo>
                    <a:pt x="0" y="0"/>
                  </a:moveTo>
                  <a:cubicBezTo>
                    <a:pt x="188" y="68"/>
                    <a:pt x="377" y="137"/>
                    <a:pt x="498" y="137"/>
                  </a:cubicBezTo>
                  <a:cubicBezTo>
                    <a:pt x="619" y="137"/>
                    <a:pt x="672" y="68"/>
                    <a:pt x="72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13"/>
            <p:cNvSpPr/>
            <p:nvPr/>
          </p:nvSpPr>
          <p:spPr>
            <a:xfrm>
              <a:off x="1677960" y="3843000"/>
              <a:ext cx="587160" cy="720720"/>
            </a:xfrm>
            <a:custGeom>
              <a:avLst/>
              <a:gdLst/>
              <a:ahLst/>
              <a:rect l="l" t="t" r="r" b="b"/>
              <a:pathLst>
                <a:path w="461" h="454">
                  <a:moveTo>
                    <a:pt x="317" y="454"/>
                  </a:moveTo>
                  <a:cubicBezTo>
                    <a:pt x="389" y="356"/>
                    <a:pt x="461" y="258"/>
                    <a:pt x="408" y="182"/>
                  </a:cubicBezTo>
                  <a:cubicBezTo>
                    <a:pt x="355" y="106"/>
                    <a:pt x="177" y="5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14"/>
            <p:cNvSpPr/>
            <p:nvPr/>
          </p:nvSpPr>
          <p:spPr>
            <a:xfrm>
              <a:off x="1893600" y="3843000"/>
              <a:ext cx="576360" cy="720720"/>
            </a:xfrm>
            <a:custGeom>
              <a:avLst/>
              <a:gdLst/>
              <a:ahLst/>
              <a:rect l="l" t="t" r="r" b="b"/>
              <a:pathLst>
                <a:path w="432" h="454">
                  <a:moveTo>
                    <a:pt x="136" y="454"/>
                  </a:moveTo>
                  <a:cubicBezTo>
                    <a:pt x="284" y="356"/>
                    <a:pt x="432" y="258"/>
                    <a:pt x="409" y="182"/>
                  </a:cubicBezTo>
                  <a:cubicBezTo>
                    <a:pt x="386" y="106"/>
                    <a:pt x="193" y="5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Freeform 120"/>
            <p:cNvSpPr/>
            <p:nvPr/>
          </p:nvSpPr>
          <p:spPr>
            <a:xfrm>
              <a:off x="2036520" y="3843000"/>
              <a:ext cx="636840" cy="720720"/>
            </a:xfrm>
            <a:custGeom>
              <a:avLst/>
              <a:gdLst/>
              <a:ahLst/>
              <a:rect l="l" t="t" r="r" b="b"/>
              <a:pathLst>
                <a:path w="401" h="454">
                  <a:moveTo>
                    <a:pt x="0" y="454"/>
                  </a:moveTo>
                  <a:cubicBezTo>
                    <a:pt x="162" y="355"/>
                    <a:pt x="325" y="257"/>
                    <a:pt x="363" y="182"/>
                  </a:cubicBezTo>
                  <a:cubicBezTo>
                    <a:pt x="401" y="107"/>
                    <a:pt x="250" y="30"/>
                    <a:pt x="2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" name="Text Box 124"/>
          <p:cNvSpPr/>
          <p:nvPr/>
        </p:nvSpPr>
        <p:spPr>
          <a:xfrm>
            <a:off x="7684560" y="278136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mcpy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25"/>
          <p:cNvSpPr/>
          <p:nvPr/>
        </p:nvSpPr>
        <p:spPr>
          <a:xfrm flipH="1" flipV="1">
            <a:off x="8027640" y="299700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24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68360" y="189000"/>
            <a:ext cx="7775640" cy="225540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Пример: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lass My 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static void XX() {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rrayList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= new ArrayList();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//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’а’ е коре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or(Int32 x=0;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x&lt;1000;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x++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{a.Add(new Object());}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//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’а’ реферира 1000 об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onsole.WriteLine( a.Lenght);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//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използваме ‘а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//липсва друго използване на ‘а’ – то може да се почисти като боклу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95280" y="2706480"/>
            <a:ext cx="83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3333cc"/>
                </a:solidFill>
                <a:latin typeface="Tahoma"/>
              </a:rPr>
              <a:t>Какво да стане в момента на унищожаване? Това се определя от 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Finalize(), Dispose(), Close(), </a:t>
            </a:r>
            <a:r>
              <a:rPr b="1" i="1" lang="bg-BG" sz="1400" spc="-1" strike="noStrike">
                <a:solidFill>
                  <a:srgbClr val="3333cc"/>
                </a:solidFill>
                <a:latin typeface="Tahoma"/>
              </a:rPr>
              <a:t>които програмистът пиш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Напр. типове, които обвиват неуправляеми ресурси (файл,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mutex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,сокет..) изискват явно финализиране –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inalize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() за почистването си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539640" y="4045320"/>
            <a:ext cx="7775640" cy="201204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Пример за добра (от структурна гледна точка) финализац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protected override void Finalize()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try { CloseHandle(handle); }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//</a:t>
            </a:r>
            <a:r>
              <a:rPr b="1" i="1" lang="bg-BG" sz="1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ако тук има 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inally { 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base.Finalize();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Това прави и деструкторът клас в управляем код, ако срещне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~MyClass()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CloseHandle(handl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468360" y="6091560"/>
            <a:ext cx="822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#, Managed C++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,..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сички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__gc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класове наследяват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inalize(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от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Object) 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това става в синтаксиса на деструктора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68360" y="5661000"/>
            <a:ext cx="78487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95280" y="191160"/>
            <a:ext cx="8280360" cy="234648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Т.е. ако имаме: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~MyClass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{ Console::WriteLine(S”Finalizing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process ..”);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То компилаторът  автоматично го е разширил към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MyClass::Finalize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{Console::WriteLine(S”Finalizing process ..”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MyBaseClase::Finalize();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virtual ~MyClass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{System::GC::SuppressFinalize(this); A::Finalize();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//</a:t>
            </a:r>
            <a:r>
              <a:rPr b="1" i="1" lang="bg-BG" sz="1200" spc="-1" strike="noStrike">
                <a:solidFill>
                  <a:srgbClr val="000000"/>
                </a:solidFill>
                <a:latin typeface="Tahoma"/>
              </a:rPr>
              <a:t>”А” обединява всички обръщения към обекти, реферирани в конструктора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ahoma"/>
              </a:rPr>
              <a:t>, вкл и горния за д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200" spc="-1" strike="noStrike">
                <a:solidFill>
                  <a:srgbClr val="000000"/>
                </a:solidFill>
                <a:latin typeface="Tahoma"/>
              </a:rPr>
              <a:t>// може да извиква и техните финал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1" i="1" lang="bg-BG" sz="1200" spc="-1" strike="noStrike">
                <a:solidFill>
                  <a:srgbClr val="000000"/>
                </a:solidFill>
                <a:latin typeface="Tahoma"/>
              </a:rPr>
              <a:t>финализацията е отложен процес. Т.е. за даден период от време обектът остава в памет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395280" y="2550960"/>
            <a:ext cx="83520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Недостатъци на 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Finalize(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финализацията е по-бавен процес от деструкцията преди</a:t>
            </a:r>
            <a:r>
              <a:rPr b="1" i="1" lang="bg-BG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200" spc="-1" strike="noStrike">
                <a:solidFill>
                  <a:srgbClr val="000000"/>
                </a:solidFill>
                <a:latin typeface="Tahoma"/>
              </a:rPr>
              <a:t>(формира се списък на финализиране, а самото унищожаване става при последващ почистващ пас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финализирането за някои обекти се отлага във времето, поради системата за повишаване в поколе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ътрешни референции могат да объркат процеса на финализирането им. няма гаранция за реда на изпълнения н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inalize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().  Следователно, да се избягва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вграждане на обекти, когато за тях и за обграждащия ги е предвиден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inalize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()  (те може да са вече финализирани)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няма контрол кога се изпълняв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inalize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643680" y="5298840"/>
            <a:ext cx="76759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Кога се вика 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Finalize(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1. поколение 0 се е запълнило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2. явно обръщение към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GC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ollect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3. процес завършва – вика се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inalize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() за всички обекти в него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bg-BG" sz="1400" spc="-1" strike="noStrike">
                <a:solidFill>
                  <a:srgbClr val="ff0066"/>
                </a:solidFill>
                <a:latin typeface="Tahoma"/>
              </a:rPr>
              <a:t>. </a:t>
            </a:r>
            <a:r>
              <a:rPr b="1" lang="bg-BG" sz="1400" spc="-1" strike="noStrike" u="sng">
                <a:solidFill>
                  <a:srgbClr val="000066"/>
                </a:solidFill>
                <a:uFillTx/>
                <a:latin typeface="Tahoma"/>
              </a:rPr>
              <a:t>Не се вика по подразбиране, ако обект излезе от обхват, или завърши мет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07"/>
          <p:cNvGrpSpPr/>
          <p:nvPr/>
        </p:nvGrpSpPr>
        <p:grpSpPr>
          <a:xfrm>
            <a:off x="971640" y="765000"/>
            <a:ext cx="6769080" cy="2230200"/>
            <a:chOff x="971640" y="765000"/>
            <a:chExt cx="6769080" cy="2230200"/>
          </a:xfrm>
        </p:grpSpPr>
        <p:sp>
          <p:nvSpPr>
            <p:cNvPr id="182" name="Rectangle 8"/>
            <p:cNvSpPr/>
            <p:nvPr/>
          </p:nvSpPr>
          <p:spPr>
            <a:xfrm>
              <a:off x="4127400" y="1058760"/>
              <a:ext cx="2638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4391280" y="1058760"/>
              <a:ext cx="3349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3863160" y="1058760"/>
              <a:ext cx="2638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3599280" y="1058760"/>
              <a:ext cx="2638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3337200" y="1058760"/>
              <a:ext cx="262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3"/>
            <p:cNvSpPr/>
            <p:nvPr/>
          </p:nvSpPr>
          <p:spPr>
            <a:xfrm>
              <a:off x="3073320" y="1058760"/>
              <a:ext cx="263880" cy="2923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14"/>
            <p:cNvSpPr/>
            <p:nvPr/>
          </p:nvSpPr>
          <p:spPr>
            <a:xfrm>
              <a:off x="2809080" y="1058760"/>
              <a:ext cx="2638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2545560" y="1058760"/>
              <a:ext cx="263520" cy="2923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2283120" y="1058760"/>
              <a:ext cx="262440" cy="2923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2019240" y="1058760"/>
              <a:ext cx="2638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1755000" y="1058760"/>
              <a:ext cx="263880" cy="2923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>
              <a:off x="1755000" y="1058760"/>
              <a:ext cx="5985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1755000" y="1351080"/>
              <a:ext cx="5985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Line 21"/>
            <p:cNvSpPr/>
            <p:nvPr/>
          </p:nvSpPr>
          <p:spPr>
            <a:xfrm>
              <a:off x="1755000" y="1058760"/>
              <a:ext cx="0" cy="292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22"/>
            <p:cNvSpPr/>
            <p:nvPr/>
          </p:nvSpPr>
          <p:spPr>
            <a:xfrm>
              <a:off x="201924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23"/>
            <p:cNvSpPr/>
            <p:nvPr/>
          </p:nvSpPr>
          <p:spPr>
            <a:xfrm>
              <a:off x="228312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>
              <a:off x="254556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>
              <a:off x="280908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26"/>
            <p:cNvSpPr/>
            <p:nvPr/>
          </p:nvSpPr>
          <p:spPr>
            <a:xfrm>
              <a:off x="307332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333720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28"/>
            <p:cNvSpPr/>
            <p:nvPr/>
          </p:nvSpPr>
          <p:spPr>
            <a:xfrm>
              <a:off x="359928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29"/>
            <p:cNvSpPr/>
            <p:nvPr/>
          </p:nvSpPr>
          <p:spPr>
            <a:xfrm>
              <a:off x="386316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12740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31"/>
            <p:cNvSpPr/>
            <p:nvPr/>
          </p:nvSpPr>
          <p:spPr>
            <a:xfrm>
              <a:off x="7740720" y="1058760"/>
              <a:ext cx="0" cy="292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32"/>
            <p:cNvSpPr/>
            <p:nvPr/>
          </p:nvSpPr>
          <p:spPr>
            <a:xfrm>
              <a:off x="4391280" y="10587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2773440" y="765000"/>
              <a:ext cx="14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anaged hea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AutoShape 34"/>
            <p:cNvSpPr/>
            <p:nvPr/>
          </p:nvSpPr>
          <p:spPr>
            <a:xfrm>
              <a:off x="971640" y="1880640"/>
              <a:ext cx="2351160" cy="1114560"/>
            </a:xfrm>
            <a:prstGeom prst="cloudCallout">
              <a:avLst>
                <a:gd name="adj1" fmla="val -40379"/>
                <a:gd name="adj2" fmla="val -4163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(strong references)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lob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tic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PU register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35"/>
            <p:cNvSpPr/>
            <p:nvPr/>
          </p:nvSpPr>
          <p:spPr>
            <a:xfrm>
              <a:off x="1825920" y="1351080"/>
              <a:ext cx="758520" cy="587520"/>
            </a:xfrm>
            <a:custGeom>
              <a:avLst/>
              <a:gdLst/>
              <a:ahLst/>
              <a:rect l="l" t="t" r="r" b="b"/>
              <a:pathLst>
                <a:path w="483" h="454">
                  <a:moveTo>
                    <a:pt x="453" y="454"/>
                  </a:moveTo>
                  <a:cubicBezTo>
                    <a:pt x="468" y="401"/>
                    <a:pt x="483" y="349"/>
                    <a:pt x="408" y="273"/>
                  </a:cubicBezTo>
                  <a:cubicBezTo>
                    <a:pt x="333" y="197"/>
                    <a:pt x="68" y="4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36"/>
            <p:cNvSpPr/>
            <p:nvPr/>
          </p:nvSpPr>
          <p:spPr>
            <a:xfrm>
              <a:off x="2539080" y="1351080"/>
              <a:ext cx="452160" cy="587520"/>
            </a:xfrm>
            <a:custGeom>
              <a:avLst/>
              <a:gdLst/>
              <a:ahLst/>
              <a:rect l="l" t="t" r="r" b="b"/>
              <a:pathLst>
                <a:path w="288" h="454">
                  <a:moveTo>
                    <a:pt x="0" y="454"/>
                  </a:moveTo>
                  <a:cubicBezTo>
                    <a:pt x="129" y="356"/>
                    <a:pt x="258" y="258"/>
                    <a:pt x="273" y="182"/>
                  </a:cubicBezTo>
                  <a:cubicBezTo>
                    <a:pt x="288" y="106"/>
                    <a:pt x="121" y="30"/>
                    <a:pt x="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37"/>
            <p:cNvSpPr/>
            <p:nvPr/>
          </p:nvSpPr>
          <p:spPr>
            <a:xfrm>
              <a:off x="2396520" y="1351080"/>
              <a:ext cx="379800" cy="587520"/>
            </a:xfrm>
            <a:custGeom>
              <a:avLst/>
              <a:gdLst/>
              <a:ahLst/>
              <a:rect l="l" t="t" r="r" b="b"/>
              <a:pathLst>
                <a:path w="242" h="454">
                  <a:moveTo>
                    <a:pt x="90" y="454"/>
                  </a:moveTo>
                  <a:cubicBezTo>
                    <a:pt x="166" y="355"/>
                    <a:pt x="242" y="257"/>
                    <a:pt x="227" y="182"/>
                  </a:cubicBezTo>
                  <a:cubicBezTo>
                    <a:pt x="212" y="107"/>
                    <a:pt x="38" y="3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Freeform 38"/>
            <p:cNvSpPr/>
            <p:nvPr/>
          </p:nvSpPr>
          <p:spPr>
            <a:xfrm>
              <a:off x="2539080" y="1351080"/>
              <a:ext cx="903240" cy="587520"/>
            </a:xfrm>
            <a:custGeom>
              <a:avLst/>
              <a:gdLst/>
              <a:ahLst/>
              <a:rect l="l" t="t" r="r" b="b"/>
              <a:pathLst>
                <a:path w="575" h="454">
                  <a:moveTo>
                    <a:pt x="0" y="454"/>
                  </a:moveTo>
                  <a:cubicBezTo>
                    <a:pt x="211" y="356"/>
                    <a:pt x="423" y="258"/>
                    <a:pt x="499" y="182"/>
                  </a:cubicBezTo>
                  <a:cubicBezTo>
                    <a:pt x="575" y="106"/>
                    <a:pt x="514" y="53"/>
                    <a:pt x="45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7"/>
            <p:cNvSpPr/>
            <p:nvPr/>
          </p:nvSpPr>
          <p:spPr>
            <a:xfrm>
              <a:off x="5860080" y="1997280"/>
              <a:ext cx="15188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46"/>
            <p:cNvSpPr/>
            <p:nvPr/>
          </p:nvSpPr>
          <p:spPr>
            <a:xfrm>
              <a:off x="5565960" y="199728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45"/>
            <p:cNvSpPr/>
            <p:nvPr/>
          </p:nvSpPr>
          <p:spPr>
            <a:xfrm>
              <a:off x="5272560" y="1997280"/>
              <a:ext cx="293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4978800" y="1997280"/>
              <a:ext cx="293760" cy="29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43"/>
            <p:cNvSpPr/>
            <p:nvPr/>
          </p:nvSpPr>
          <p:spPr>
            <a:xfrm>
              <a:off x="4685040" y="1997280"/>
              <a:ext cx="293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42"/>
            <p:cNvSpPr/>
            <p:nvPr/>
          </p:nvSpPr>
          <p:spPr>
            <a:xfrm>
              <a:off x="4391280" y="1997280"/>
              <a:ext cx="293760" cy="29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Line 48"/>
            <p:cNvSpPr/>
            <p:nvPr/>
          </p:nvSpPr>
          <p:spPr>
            <a:xfrm>
              <a:off x="4391280" y="1997280"/>
              <a:ext cx="29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Line 49"/>
            <p:cNvSpPr/>
            <p:nvPr/>
          </p:nvSpPr>
          <p:spPr>
            <a:xfrm>
              <a:off x="4391280" y="2291040"/>
              <a:ext cx="29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Line 50"/>
            <p:cNvSpPr/>
            <p:nvPr/>
          </p:nvSpPr>
          <p:spPr>
            <a:xfrm>
              <a:off x="4391280" y="1997280"/>
              <a:ext cx="0" cy="293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51"/>
            <p:cNvSpPr/>
            <p:nvPr/>
          </p:nvSpPr>
          <p:spPr>
            <a:xfrm>
              <a:off x="4685040" y="19972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52"/>
            <p:cNvSpPr/>
            <p:nvPr/>
          </p:nvSpPr>
          <p:spPr>
            <a:xfrm>
              <a:off x="4978800" y="19972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Line 53"/>
            <p:cNvSpPr/>
            <p:nvPr/>
          </p:nvSpPr>
          <p:spPr>
            <a:xfrm>
              <a:off x="5272560" y="19972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Line 54"/>
            <p:cNvSpPr/>
            <p:nvPr/>
          </p:nvSpPr>
          <p:spPr>
            <a:xfrm>
              <a:off x="5565960" y="19972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Line 55"/>
            <p:cNvSpPr/>
            <p:nvPr/>
          </p:nvSpPr>
          <p:spPr>
            <a:xfrm>
              <a:off x="5860080" y="19972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Line 56"/>
            <p:cNvSpPr/>
            <p:nvPr/>
          </p:nvSpPr>
          <p:spPr>
            <a:xfrm>
              <a:off x="7378920" y="1997280"/>
              <a:ext cx="0" cy="293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68"/>
            <p:cNvSpPr/>
            <p:nvPr/>
          </p:nvSpPr>
          <p:spPr>
            <a:xfrm>
              <a:off x="4992120" y="1703520"/>
              <a:ext cx="14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nalization li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75"/>
            <p:cNvSpPr/>
            <p:nvPr/>
          </p:nvSpPr>
          <p:spPr>
            <a:xfrm>
              <a:off x="3750480" y="2643120"/>
              <a:ext cx="29876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76"/>
            <p:cNvSpPr/>
            <p:nvPr/>
          </p:nvSpPr>
          <p:spPr>
            <a:xfrm>
              <a:off x="3750480" y="2643120"/>
              <a:ext cx="29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77"/>
            <p:cNvSpPr/>
            <p:nvPr/>
          </p:nvSpPr>
          <p:spPr>
            <a:xfrm>
              <a:off x="3750480" y="2936880"/>
              <a:ext cx="29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Line 78"/>
            <p:cNvSpPr/>
            <p:nvPr/>
          </p:nvSpPr>
          <p:spPr>
            <a:xfrm>
              <a:off x="3750480" y="2643120"/>
              <a:ext cx="0" cy="293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Line 84"/>
            <p:cNvSpPr/>
            <p:nvPr/>
          </p:nvSpPr>
          <p:spPr>
            <a:xfrm>
              <a:off x="6738120" y="2643120"/>
              <a:ext cx="0" cy="293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Text Box 87"/>
            <p:cNvSpPr/>
            <p:nvPr/>
          </p:nvSpPr>
          <p:spPr>
            <a:xfrm>
              <a:off x="4350600" y="2349360"/>
              <a:ext cx="167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reachable queu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Group 208"/>
          <p:cNvGrpSpPr/>
          <p:nvPr/>
        </p:nvGrpSpPr>
        <p:grpSpPr>
          <a:xfrm>
            <a:off x="1042920" y="3573360"/>
            <a:ext cx="6553440" cy="2446200"/>
            <a:chOff x="1042920" y="3573360"/>
            <a:chExt cx="6553440" cy="2446200"/>
          </a:xfrm>
        </p:grpSpPr>
        <p:sp>
          <p:nvSpPr>
            <p:cNvPr id="236" name="Text Box 114"/>
            <p:cNvSpPr/>
            <p:nvPr/>
          </p:nvSpPr>
          <p:spPr>
            <a:xfrm>
              <a:off x="2812320" y="3573360"/>
              <a:ext cx="14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anaged hea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AutoShape 115"/>
            <p:cNvSpPr/>
            <p:nvPr/>
          </p:nvSpPr>
          <p:spPr>
            <a:xfrm>
              <a:off x="1042920" y="4797000"/>
              <a:ext cx="2310840" cy="1222560"/>
            </a:xfrm>
            <a:prstGeom prst="cloudCallout">
              <a:avLst>
                <a:gd name="adj1" fmla="val -40379"/>
                <a:gd name="adj2" fmla="val -4163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(strong reference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lob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tic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PU register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Freeform 116"/>
            <p:cNvSpPr/>
            <p:nvPr/>
          </p:nvSpPr>
          <p:spPr>
            <a:xfrm>
              <a:off x="1882800" y="4216320"/>
              <a:ext cx="745560" cy="644400"/>
            </a:xfrm>
            <a:custGeom>
              <a:avLst/>
              <a:gdLst/>
              <a:ahLst/>
              <a:rect l="l" t="t" r="r" b="b"/>
              <a:pathLst>
                <a:path w="483" h="454">
                  <a:moveTo>
                    <a:pt x="453" y="454"/>
                  </a:moveTo>
                  <a:cubicBezTo>
                    <a:pt x="468" y="401"/>
                    <a:pt x="483" y="349"/>
                    <a:pt x="408" y="273"/>
                  </a:cubicBezTo>
                  <a:cubicBezTo>
                    <a:pt x="333" y="197"/>
                    <a:pt x="68" y="4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Freeform 118"/>
            <p:cNvSpPr/>
            <p:nvPr/>
          </p:nvSpPr>
          <p:spPr>
            <a:xfrm>
              <a:off x="2442960" y="4216320"/>
              <a:ext cx="373320" cy="644400"/>
            </a:xfrm>
            <a:custGeom>
              <a:avLst/>
              <a:gdLst/>
              <a:ahLst/>
              <a:rect l="l" t="t" r="r" b="b"/>
              <a:pathLst>
                <a:path w="242" h="454">
                  <a:moveTo>
                    <a:pt x="90" y="454"/>
                  </a:moveTo>
                  <a:cubicBezTo>
                    <a:pt x="166" y="355"/>
                    <a:pt x="242" y="257"/>
                    <a:pt x="227" y="182"/>
                  </a:cubicBezTo>
                  <a:cubicBezTo>
                    <a:pt x="212" y="107"/>
                    <a:pt x="38" y="3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Freeform 119"/>
            <p:cNvSpPr/>
            <p:nvPr/>
          </p:nvSpPr>
          <p:spPr>
            <a:xfrm>
              <a:off x="2583360" y="4216320"/>
              <a:ext cx="467640" cy="644400"/>
            </a:xfrm>
            <a:custGeom>
              <a:avLst/>
              <a:gdLst/>
              <a:ahLst/>
              <a:rect l="l" t="t" r="r" b="b"/>
              <a:pathLst>
                <a:path w="575" h="454">
                  <a:moveTo>
                    <a:pt x="0" y="454"/>
                  </a:moveTo>
                  <a:cubicBezTo>
                    <a:pt x="211" y="356"/>
                    <a:pt x="423" y="258"/>
                    <a:pt x="499" y="182"/>
                  </a:cubicBezTo>
                  <a:cubicBezTo>
                    <a:pt x="575" y="106"/>
                    <a:pt x="514" y="53"/>
                    <a:pt x="45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5269680" y="4924800"/>
              <a:ext cx="2070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124"/>
            <p:cNvSpPr/>
            <p:nvPr/>
          </p:nvSpPr>
          <p:spPr>
            <a:xfrm>
              <a:off x="4980960" y="4924800"/>
              <a:ext cx="288720" cy="322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4692600" y="4924800"/>
              <a:ext cx="288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26"/>
            <p:cNvSpPr/>
            <p:nvPr/>
          </p:nvSpPr>
          <p:spPr>
            <a:xfrm>
              <a:off x="4403520" y="4924800"/>
              <a:ext cx="288720" cy="322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27"/>
            <p:cNvSpPr/>
            <p:nvPr/>
          </p:nvSpPr>
          <p:spPr>
            <a:xfrm>
              <a:off x="4403520" y="4924800"/>
              <a:ext cx="2936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4403520" y="5247360"/>
              <a:ext cx="2936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4403520" y="4924800"/>
              <a:ext cx="0" cy="322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4692600" y="492480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4980960" y="492480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5269680" y="492480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Line 135"/>
            <p:cNvSpPr/>
            <p:nvPr/>
          </p:nvSpPr>
          <p:spPr>
            <a:xfrm>
              <a:off x="7340040" y="4924800"/>
              <a:ext cx="0" cy="322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Text Box 136"/>
            <p:cNvSpPr/>
            <p:nvPr/>
          </p:nvSpPr>
          <p:spPr>
            <a:xfrm>
              <a:off x="4993560" y="4602600"/>
              <a:ext cx="14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nalization li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196"/>
            <p:cNvSpPr/>
            <p:nvPr/>
          </p:nvSpPr>
          <p:spPr>
            <a:xfrm>
              <a:off x="4334400" y="5633280"/>
              <a:ext cx="279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193"/>
            <p:cNvSpPr/>
            <p:nvPr/>
          </p:nvSpPr>
          <p:spPr>
            <a:xfrm>
              <a:off x="4054680" y="5633280"/>
              <a:ext cx="279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188"/>
            <p:cNvSpPr/>
            <p:nvPr/>
          </p:nvSpPr>
          <p:spPr>
            <a:xfrm>
              <a:off x="3773880" y="5633280"/>
              <a:ext cx="280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4613760" y="5633280"/>
              <a:ext cx="1961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Line 139"/>
            <p:cNvSpPr/>
            <p:nvPr/>
          </p:nvSpPr>
          <p:spPr>
            <a:xfrm>
              <a:off x="3773880" y="5633280"/>
              <a:ext cx="2801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Line 140"/>
            <p:cNvSpPr/>
            <p:nvPr/>
          </p:nvSpPr>
          <p:spPr>
            <a:xfrm>
              <a:off x="3773880" y="5955840"/>
              <a:ext cx="2801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141"/>
            <p:cNvSpPr/>
            <p:nvPr/>
          </p:nvSpPr>
          <p:spPr>
            <a:xfrm>
              <a:off x="3773880" y="5633280"/>
              <a:ext cx="0" cy="322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142"/>
            <p:cNvSpPr/>
            <p:nvPr/>
          </p:nvSpPr>
          <p:spPr>
            <a:xfrm>
              <a:off x="6575760" y="5633280"/>
              <a:ext cx="0" cy="322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189"/>
            <p:cNvSpPr/>
            <p:nvPr/>
          </p:nvSpPr>
          <p:spPr>
            <a:xfrm>
              <a:off x="4054680" y="5633280"/>
              <a:ext cx="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Line 194"/>
            <p:cNvSpPr/>
            <p:nvPr/>
          </p:nvSpPr>
          <p:spPr>
            <a:xfrm>
              <a:off x="4334400" y="5633280"/>
              <a:ext cx="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Line 197"/>
            <p:cNvSpPr/>
            <p:nvPr/>
          </p:nvSpPr>
          <p:spPr>
            <a:xfrm>
              <a:off x="4613760" y="5633280"/>
              <a:ext cx="0" cy="32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Text Box 143"/>
            <p:cNvSpPr/>
            <p:nvPr/>
          </p:nvSpPr>
          <p:spPr>
            <a:xfrm>
              <a:off x="4363200" y="5311080"/>
              <a:ext cx="167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reachable queu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52"/>
            <p:cNvSpPr/>
            <p:nvPr/>
          </p:nvSpPr>
          <p:spPr>
            <a:xfrm>
              <a:off x="3628440" y="3893760"/>
              <a:ext cx="3967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51"/>
            <p:cNvSpPr/>
            <p:nvPr/>
          </p:nvSpPr>
          <p:spPr>
            <a:xfrm>
              <a:off x="3349080" y="3893760"/>
              <a:ext cx="279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50"/>
            <p:cNvSpPr/>
            <p:nvPr/>
          </p:nvSpPr>
          <p:spPr>
            <a:xfrm>
              <a:off x="3069720" y="3893760"/>
              <a:ext cx="279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149"/>
            <p:cNvSpPr/>
            <p:nvPr/>
          </p:nvSpPr>
          <p:spPr>
            <a:xfrm>
              <a:off x="2790360" y="3893760"/>
              <a:ext cx="279360" cy="322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Rectangle 148"/>
            <p:cNvSpPr/>
            <p:nvPr/>
          </p:nvSpPr>
          <p:spPr>
            <a:xfrm>
              <a:off x="2511000" y="3893760"/>
              <a:ext cx="279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147"/>
            <p:cNvSpPr/>
            <p:nvPr/>
          </p:nvSpPr>
          <p:spPr>
            <a:xfrm>
              <a:off x="2231640" y="3893760"/>
              <a:ext cx="279360" cy="322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146"/>
            <p:cNvSpPr/>
            <p:nvPr/>
          </p:nvSpPr>
          <p:spPr>
            <a:xfrm>
              <a:off x="1951920" y="3893760"/>
              <a:ext cx="279720" cy="322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145"/>
            <p:cNvSpPr/>
            <p:nvPr/>
          </p:nvSpPr>
          <p:spPr>
            <a:xfrm>
              <a:off x="1672560" y="3893760"/>
              <a:ext cx="279360" cy="322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153"/>
            <p:cNvSpPr/>
            <p:nvPr/>
          </p:nvSpPr>
          <p:spPr>
            <a:xfrm>
              <a:off x="1672560" y="3893760"/>
              <a:ext cx="5923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Line 154"/>
            <p:cNvSpPr/>
            <p:nvPr/>
          </p:nvSpPr>
          <p:spPr>
            <a:xfrm>
              <a:off x="1672560" y="4216320"/>
              <a:ext cx="5923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55"/>
            <p:cNvSpPr/>
            <p:nvPr/>
          </p:nvSpPr>
          <p:spPr>
            <a:xfrm>
              <a:off x="1672560" y="3893760"/>
              <a:ext cx="0" cy="322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56"/>
            <p:cNvSpPr/>
            <p:nvPr/>
          </p:nvSpPr>
          <p:spPr>
            <a:xfrm>
              <a:off x="1951920" y="389376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7"/>
            <p:cNvSpPr/>
            <p:nvPr/>
          </p:nvSpPr>
          <p:spPr>
            <a:xfrm>
              <a:off x="2231640" y="389376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Line 158"/>
            <p:cNvSpPr/>
            <p:nvPr/>
          </p:nvSpPr>
          <p:spPr>
            <a:xfrm>
              <a:off x="2511000" y="389376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Line 159"/>
            <p:cNvSpPr/>
            <p:nvPr/>
          </p:nvSpPr>
          <p:spPr>
            <a:xfrm>
              <a:off x="2790360" y="389376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Line 160"/>
            <p:cNvSpPr/>
            <p:nvPr/>
          </p:nvSpPr>
          <p:spPr>
            <a:xfrm>
              <a:off x="3069720" y="389376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161"/>
            <p:cNvSpPr/>
            <p:nvPr/>
          </p:nvSpPr>
          <p:spPr>
            <a:xfrm>
              <a:off x="3349080" y="389376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Line 162"/>
            <p:cNvSpPr/>
            <p:nvPr/>
          </p:nvSpPr>
          <p:spPr>
            <a:xfrm>
              <a:off x="3628440" y="389376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Line 163"/>
            <p:cNvSpPr/>
            <p:nvPr/>
          </p:nvSpPr>
          <p:spPr>
            <a:xfrm>
              <a:off x="7596360" y="3893760"/>
              <a:ext cx="0" cy="322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Freeform 182"/>
            <p:cNvSpPr/>
            <p:nvPr/>
          </p:nvSpPr>
          <p:spPr>
            <a:xfrm>
              <a:off x="2094120" y="4216320"/>
              <a:ext cx="640440" cy="644400"/>
            </a:xfrm>
            <a:custGeom>
              <a:avLst/>
              <a:gdLst/>
              <a:ahLst/>
              <a:rect l="l" t="t" r="r" b="b"/>
              <a:pathLst>
                <a:path w="415" h="454">
                  <a:moveTo>
                    <a:pt x="317" y="454"/>
                  </a:moveTo>
                  <a:cubicBezTo>
                    <a:pt x="366" y="356"/>
                    <a:pt x="415" y="258"/>
                    <a:pt x="362" y="182"/>
                  </a:cubicBezTo>
                  <a:cubicBezTo>
                    <a:pt x="309" y="106"/>
                    <a:pt x="154" y="5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04"/>
            <p:cNvSpPr/>
            <p:nvPr/>
          </p:nvSpPr>
          <p:spPr>
            <a:xfrm flipH="1" flipV="1">
              <a:off x="2652480" y="4216320"/>
              <a:ext cx="1261080" cy="14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05"/>
            <p:cNvSpPr/>
            <p:nvPr/>
          </p:nvSpPr>
          <p:spPr>
            <a:xfrm flipH="1" flipV="1">
              <a:off x="3213360" y="4216320"/>
              <a:ext cx="979920" cy="14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06"/>
            <p:cNvSpPr/>
            <p:nvPr/>
          </p:nvSpPr>
          <p:spPr>
            <a:xfrm flipH="1" flipV="1">
              <a:off x="3494520" y="4216320"/>
              <a:ext cx="979920" cy="14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8" name="Text Box 209"/>
          <p:cNvSpPr/>
          <p:nvPr/>
        </p:nvSpPr>
        <p:spPr>
          <a:xfrm>
            <a:off x="2524680" y="1890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Как работи финализиранет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10"/>
          <p:cNvSpPr/>
          <p:nvPr/>
        </p:nvSpPr>
        <p:spPr>
          <a:xfrm>
            <a:off x="4417200" y="4876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11"/>
          <p:cNvSpPr/>
          <p:nvPr/>
        </p:nvSpPr>
        <p:spPr>
          <a:xfrm>
            <a:off x="4952880" y="487692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64"/>
          <p:cNvGrpSpPr/>
          <p:nvPr/>
        </p:nvGrpSpPr>
        <p:grpSpPr>
          <a:xfrm>
            <a:off x="1120680" y="333360"/>
            <a:ext cx="6475320" cy="2735280"/>
            <a:chOff x="1120680" y="333360"/>
            <a:chExt cx="6475320" cy="2735280"/>
          </a:xfrm>
        </p:grpSpPr>
        <p:sp>
          <p:nvSpPr>
            <p:cNvPr id="292" name="Text Box 4"/>
            <p:cNvSpPr/>
            <p:nvPr/>
          </p:nvSpPr>
          <p:spPr>
            <a:xfrm>
              <a:off x="2942280" y="333360"/>
              <a:ext cx="14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anaged hea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20680" y="1701720"/>
              <a:ext cx="2376360" cy="1366920"/>
            </a:xfrm>
            <a:prstGeom prst="cloudCallout">
              <a:avLst>
                <a:gd name="adj1" fmla="val -36106"/>
                <a:gd name="adj2" fmla="val -3699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(strong reference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lob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tic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PU register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1984320" y="1052640"/>
              <a:ext cx="766800" cy="720720"/>
            </a:xfrm>
            <a:custGeom>
              <a:avLst/>
              <a:gdLst/>
              <a:ahLst/>
              <a:rect l="l" t="t" r="r" b="b"/>
              <a:pathLst>
                <a:path w="483" h="454">
                  <a:moveTo>
                    <a:pt x="453" y="454"/>
                  </a:moveTo>
                  <a:cubicBezTo>
                    <a:pt x="468" y="401"/>
                    <a:pt x="483" y="349"/>
                    <a:pt x="408" y="273"/>
                  </a:cubicBezTo>
                  <a:cubicBezTo>
                    <a:pt x="333" y="197"/>
                    <a:pt x="68" y="4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2560320" y="1052640"/>
              <a:ext cx="384480" cy="720720"/>
            </a:xfrm>
            <a:custGeom>
              <a:avLst/>
              <a:gdLst/>
              <a:ahLst/>
              <a:rect l="l" t="t" r="r" b="b"/>
              <a:pathLst>
                <a:path w="242" h="454">
                  <a:moveTo>
                    <a:pt x="90" y="454"/>
                  </a:moveTo>
                  <a:cubicBezTo>
                    <a:pt x="166" y="355"/>
                    <a:pt x="242" y="257"/>
                    <a:pt x="227" y="182"/>
                  </a:cubicBezTo>
                  <a:cubicBezTo>
                    <a:pt x="212" y="107"/>
                    <a:pt x="38" y="3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5467320" y="1844640"/>
              <a:ext cx="2128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5170320" y="1844640"/>
              <a:ext cx="29700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4873320" y="1844640"/>
              <a:ext cx="297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4576680" y="1844640"/>
              <a:ext cx="29664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4576680" y="1844640"/>
              <a:ext cx="3019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4576680" y="2205000"/>
              <a:ext cx="3019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>
              <a:off x="4576680" y="1844640"/>
              <a:ext cx="0" cy="36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4873320" y="184464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5170320" y="184464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19"/>
            <p:cNvSpPr/>
            <p:nvPr/>
          </p:nvSpPr>
          <p:spPr>
            <a:xfrm>
              <a:off x="5467320" y="184464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7596000" y="1844640"/>
              <a:ext cx="0" cy="36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5184360" y="1484280"/>
              <a:ext cx="14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nalization li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26"/>
            <p:cNvSpPr/>
            <p:nvPr/>
          </p:nvSpPr>
          <p:spPr>
            <a:xfrm>
              <a:off x="3929040" y="2637000"/>
              <a:ext cx="2663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27"/>
            <p:cNvSpPr/>
            <p:nvPr/>
          </p:nvSpPr>
          <p:spPr>
            <a:xfrm>
              <a:off x="3929040" y="2637000"/>
              <a:ext cx="266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28"/>
            <p:cNvSpPr/>
            <p:nvPr/>
          </p:nvSpPr>
          <p:spPr>
            <a:xfrm>
              <a:off x="3929040" y="2997360"/>
              <a:ext cx="266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Line 29"/>
            <p:cNvSpPr/>
            <p:nvPr/>
          </p:nvSpPr>
          <p:spPr>
            <a:xfrm>
              <a:off x="3929040" y="2637000"/>
              <a:ext cx="0" cy="36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30"/>
            <p:cNvSpPr/>
            <p:nvPr/>
          </p:nvSpPr>
          <p:spPr>
            <a:xfrm>
              <a:off x="6592680" y="2637000"/>
              <a:ext cx="0" cy="36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4"/>
            <p:cNvSpPr/>
            <p:nvPr/>
          </p:nvSpPr>
          <p:spPr>
            <a:xfrm>
              <a:off x="4536720" y="2276640"/>
              <a:ext cx="167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reachable queu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36"/>
            <p:cNvSpPr/>
            <p:nvPr/>
          </p:nvSpPr>
          <p:spPr>
            <a:xfrm>
              <a:off x="2917800" y="692280"/>
              <a:ext cx="4079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39"/>
            <p:cNvSpPr/>
            <p:nvPr/>
          </p:nvSpPr>
          <p:spPr>
            <a:xfrm>
              <a:off x="2630520" y="692280"/>
              <a:ext cx="28728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41"/>
            <p:cNvSpPr/>
            <p:nvPr/>
          </p:nvSpPr>
          <p:spPr>
            <a:xfrm>
              <a:off x="2342880" y="692280"/>
              <a:ext cx="28764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42"/>
            <p:cNvSpPr/>
            <p:nvPr/>
          </p:nvSpPr>
          <p:spPr>
            <a:xfrm>
              <a:off x="2055600" y="692280"/>
              <a:ext cx="28728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43"/>
            <p:cNvSpPr/>
            <p:nvPr/>
          </p:nvSpPr>
          <p:spPr>
            <a:xfrm>
              <a:off x="1768320" y="692280"/>
              <a:ext cx="28728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Line 44"/>
            <p:cNvSpPr/>
            <p:nvPr/>
          </p:nvSpPr>
          <p:spPr>
            <a:xfrm>
              <a:off x="1768320" y="692280"/>
              <a:ext cx="5229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1768320" y="1052640"/>
              <a:ext cx="5229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1768320" y="692280"/>
              <a:ext cx="0" cy="36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2055600" y="6922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2342880" y="6922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Line 49"/>
            <p:cNvSpPr/>
            <p:nvPr/>
          </p:nvSpPr>
          <p:spPr>
            <a:xfrm>
              <a:off x="2630520" y="6922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51"/>
            <p:cNvSpPr/>
            <p:nvPr/>
          </p:nvSpPr>
          <p:spPr>
            <a:xfrm>
              <a:off x="2917800" y="6922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54"/>
            <p:cNvSpPr/>
            <p:nvPr/>
          </p:nvSpPr>
          <p:spPr>
            <a:xfrm>
              <a:off x="6997680" y="692280"/>
              <a:ext cx="0" cy="36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Freeform 55"/>
            <p:cNvSpPr/>
            <p:nvPr/>
          </p:nvSpPr>
          <p:spPr>
            <a:xfrm>
              <a:off x="2201760" y="1052640"/>
              <a:ext cx="658800" cy="720720"/>
            </a:xfrm>
            <a:custGeom>
              <a:avLst/>
              <a:gdLst/>
              <a:ahLst/>
              <a:rect l="l" t="t" r="r" b="b"/>
              <a:pathLst>
                <a:path w="415" h="454">
                  <a:moveTo>
                    <a:pt x="317" y="454"/>
                  </a:moveTo>
                  <a:cubicBezTo>
                    <a:pt x="366" y="356"/>
                    <a:pt x="415" y="258"/>
                    <a:pt x="362" y="182"/>
                  </a:cubicBezTo>
                  <a:cubicBezTo>
                    <a:pt x="309" y="106"/>
                    <a:pt x="154" y="5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63"/>
            <p:cNvSpPr/>
            <p:nvPr/>
          </p:nvSpPr>
          <p:spPr>
            <a:xfrm>
              <a:off x="2703240" y="1052640"/>
              <a:ext cx="373320" cy="720720"/>
            </a:xfrm>
            <a:custGeom>
              <a:avLst/>
              <a:gdLst/>
              <a:ahLst/>
              <a:rect l="l" t="t" r="r" b="b"/>
              <a:pathLst>
                <a:path w="235" h="454">
                  <a:moveTo>
                    <a:pt x="0" y="454"/>
                  </a:moveTo>
                  <a:cubicBezTo>
                    <a:pt x="109" y="356"/>
                    <a:pt x="219" y="258"/>
                    <a:pt x="227" y="182"/>
                  </a:cubicBezTo>
                  <a:cubicBezTo>
                    <a:pt x="235" y="106"/>
                    <a:pt x="76" y="30"/>
                    <a:pt x="4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9" name="Text Box 65"/>
          <p:cNvSpPr/>
          <p:nvPr/>
        </p:nvSpPr>
        <p:spPr>
          <a:xfrm>
            <a:off x="347400" y="3789360"/>
            <a:ext cx="8722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Високоприоритетна нишка изпълняв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ize()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о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eachable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achable with finalize() )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опашката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когато в нея има обекти за всеки от тях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Викането н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ize()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е от отделна нишка, следователно методът не трябва да е зависим от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викащата го нишка (например да съдържа код, които пипа в локалното пространство 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викащата го нишка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докато обект е в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eachable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, той е достижим и не е боклук и паметта му не се възстановяв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т.е. той е предвиден за унищожение, но все още не е. Значи програмиста го счита з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недостижим, но той реално е рефериран и указатели към него ‘неволно’ могат да се ползва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За даден интервал може да се счита, че обектът е “съживен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След изпълняване н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ize(), freachable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опашката се изпразва. Вече нищо не реферир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тези обек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400" spc="-1" strike="noStrike" u="sng">
                <a:solidFill>
                  <a:srgbClr val="000066"/>
                </a:solidFill>
                <a:uFillTx/>
                <a:latin typeface="Tahoma"/>
              </a:rPr>
              <a:t>при следващото събиране на боклука</a:t>
            </a:r>
            <a:r>
              <a:rPr b="0" lang="bg-BG" sz="1400" spc="-1" strike="noStrike">
                <a:solidFill>
                  <a:srgbClr val="000000"/>
                </a:solidFill>
                <a:latin typeface="Tahoma"/>
              </a:rPr>
              <a:t>, паметта за тези обекти се освобожда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6"/>
          <p:cNvSpPr/>
          <p:nvPr/>
        </p:nvSpPr>
        <p:spPr>
          <a:xfrm>
            <a:off x="3132000" y="549360"/>
            <a:ext cx="3024360" cy="21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Oval 15"/>
          <p:cNvSpPr/>
          <p:nvPr/>
        </p:nvSpPr>
        <p:spPr>
          <a:xfrm>
            <a:off x="684360" y="3213000"/>
            <a:ext cx="71892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5076720" y="1341360"/>
            <a:ext cx="3888000" cy="647640"/>
          </a:xfrm>
          <a:prstGeom prst="rect">
            <a:avLst/>
          </a:pr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84360" y="2708280"/>
            <a:ext cx="64764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6000" y="1183680"/>
            <a:ext cx="892800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__gc class sealed Tester : public IDispo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{    bool bDisposed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ster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{   Console::WriteLine(S"Tester constructor");   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~Tester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{  Console::WriteLine(S"Tester finalizer");  Dispose(false);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ublic void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Dispose()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{GC.SuppressFinalize(this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pose(true);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ublic void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Close()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{Dispose(true);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ivate 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void Dispose(bool bDisposed) {if(bDisposed)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{/*</a:t>
            </a:r>
            <a:r>
              <a:rPr b="1" lang="bg-BG" sz="1200" spc="-1" strike="noStrike">
                <a:solidFill>
                  <a:srgbClr val="000066"/>
                </a:solidFill>
                <a:latin typeface="Tahoma"/>
              </a:rPr>
              <a:t>явно финализиране/затваряне*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bg-BG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Console::WriteLine(S"Tester dispose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bg-BG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bg-BG" sz="1200" spc="-1" strike="noStrike">
                <a:solidFill>
                  <a:srgbClr val="000066"/>
                </a:solidFill>
                <a:latin typeface="Tahoma"/>
              </a:rPr>
              <a:t>/* код за освобождаване на ангажираните ресурси в обекта*/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lse{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*/</a:t>
            </a:r>
            <a:r>
              <a:rPr b="1" lang="bg-BG" sz="1200" spc="-1" strike="noStrike">
                <a:solidFill>
                  <a:srgbClr val="000000"/>
                </a:solidFill>
                <a:latin typeface="Tahoma"/>
              </a:rPr>
              <a:t>неявна финализация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Finalize()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*/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// This is the entry point for this examp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nt _tmain(voi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{Console::WriteLine(S"Finalization Test");    Tester* pt = new Tester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/* Call Dispose */ pt-&gt;Dispo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/* Try calling a method on the object: */ pt-&gt;a.Finalize();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//System.ObjectDisposedExce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Console::WriteLine(S"End of Test");    return 0;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ресурс трябва да бъде освободен 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pose)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и след това изтрит (напр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// File.Delete(..))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. Иначе се счита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че той е използван (напр. от друг проце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// Почистване с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pose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 форсира финализацията, но не унищожава обекта от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//паметта – това прави събирането на боклука.   Т.е. могат 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рисковано) да се викат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1" lang="bg-BG" sz="1400" spc="-1" strike="noStrike">
                <a:solidFill>
                  <a:srgbClr val="000000"/>
                </a:solidFill>
                <a:latin typeface="Tahoma"/>
              </a:rPr>
              <a:t>методи на обекта – до определен момент те ползват валидни указатели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9280" y="76320"/>
            <a:ext cx="87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 u="sng">
                <a:solidFill>
                  <a:srgbClr val="800000"/>
                </a:solidFill>
                <a:uFillTx/>
                <a:latin typeface="Tahoma"/>
              </a:rPr>
              <a:t>Унищожение с </a:t>
            </a:r>
            <a:r>
              <a:rPr b="1" i="1" lang="en-US" sz="1400" spc="-1" strike="noStrike" u="sng">
                <a:solidFill>
                  <a:srgbClr val="800000"/>
                </a:solidFill>
                <a:uFillTx/>
                <a:latin typeface="Tahoma"/>
              </a:rPr>
              <a:t>Finalize()</a:t>
            </a:r>
            <a:r>
              <a:rPr b="1" i="1" lang="bg-BG" sz="1400" spc="-1" strike="noStrike" u="sng">
                <a:solidFill>
                  <a:srgbClr val="800000"/>
                </a:solidFill>
                <a:uFillTx/>
                <a:latin typeface="Tahoma"/>
              </a:rPr>
              <a:t>– не се знае КОГА. </a:t>
            </a:r>
            <a:r>
              <a:rPr b="1" i="1" lang="en-US" sz="1400" spc="-1" strike="noStrike" u="sng">
                <a:solidFill>
                  <a:srgbClr val="800000"/>
                </a:solidFill>
                <a:uFillTx/>
                <a:latin typeface="Tahoma"/>
              </a:rPr>
              <a:t>Finalize </a:t>
            </a:r>
            <a:r>
              <a:rPr b="1" i="1" lang="bg-BG" sz="1400" spc="-1" strike="noStrike" u="sng">
                <a:solidFill>
                  <a:srgbClr val="800000"/>
                </a:solidFill>
                <a:uFillTx/>
                <a:latin typeface="Tahoma"/>
              </a:rPr>
              <a:t>не е </a:t>
            </a:r>
            <a:r>
              <a:rPr b="1" i="1" lang="en-US" sz="1400" spc="-1" strike="noStrike" u="sng">
                <a:solidFill>
                  <a:srgbClr val="800000"/>
                </a:solidFill>
                <a:uFillTx/>
                <a:latin typeface="Tahoma"/>
              </a:rPr>
              <a:t>public </a:t>
            </a:r>
            <a:r>
              <a:rPr b="1" i="1" lang="bg-BG" sz="1400" spc="-1" strike="noStrike" u="sng">
                <a:solidFill>
                  <a:srgbClr val="800000"/>
                </a:solidFill>
                <a:uFillTx/>
                <a:latin typeface="Tahoma"/>
              </a:rPr>
              <a:t> и не може да се ви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r>
              <a:rPr b="1" i="1" lang="bg-BG" sz="1400" spc="-1" strike="noStrike" u="sng">
                <a:solidFill>
                  <a:srgbClr val="000066"/>
                </a:solidFill>
                <a:uFillTx/>
                <a:latin typeface="Tahoma"/>
              </a:rPr>
              <a:t>модел на ‘явно ликвидиране’</a:t>
            </a: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(всеки тип, дефиниращ 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Finalize</a:t>
            </a: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, следва да  имплементира този модел) </a:t>
            </a:r>
            <a:br>
              <a:rPr sz="1400"/>
            </a:br>
            <a:r>
              <a:rPr b="1" i="1" lang="bg-BG" sz="1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99cc"/>
                </a:solidFill>
                <a:latin typeface="Tahoma"/>
              </a:rPr>
              <a:t>	</a:t>
            </a:r>
            <a:r>
              <a:rPr b="1" i="1" lang="bg-BG" sz="1400" spc="-1" strike="noStrike" u="sng">
                <a:solidFill>
                  <a:srgbClr val="800000"/>
                </a:solidFill>
                <a:uFillTx/>
                <a:latin typeface="Tahoma"/>
              </a:rPr>
              <a:t>Интегриране на </a:t>
            </a:r>
            <a:r>
              <a:rPr b="1" i="1" lang="en-US" sz="1400" spc="-1" strike="noStrike" u="sng">
                <a:solidFill>
                  <a:srgbClr val="800000"/>
                </a:solidFill>
                <a:uFillTx/>
                <a:latin typeface="Tahoma"/>
              </a:rPr>
              <a:t>Finalize</a:t>
            </a:r>
            <a:r>
              <a:rPr b="1" i="1" lang="bg-BG" sz="1400" spc="-1" strike="noStrike" u="sng">
                <a:solidFill>
                  <a:srgbClr val="800000"/>
                </a:solidFill>
                <a:uFillTx/>
                <a:latin typeface="Tahoma"/>
              </a:rPr>
              <a:t>() и </a:t>
            </a:r>
            <a:r>
              <a:rPr b="1" i="1" lang="en-US" sz="1400" spc="-1" strike="noStrike" u="sng">
                <a:solidFill>
                  <a:srgbClr val="800000"/>
                </a:solidFill>
                <a:uFillTx/>
                <a:latin typeface="Tahoma"/>
              </a:rPr>
              <a:t>Dispose</a:t>
            </a:r>
            <a:r>
              <a:rPr b="1" i="1" lang="bg-BG" sz="1400" spc="-1" strike="noStrike" u="sng">
                <a:solidFill>
                  <a:srgbClr val="800000"/>
                </a:solidFill>
                <a:uFillTx/>
                <a:latin typeface="Tahoma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539640" y="4149720"/>
            <a:ext cx="777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27400" y="1341360"/>
            <a:ext cx="398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Tahoma"/>
              </a:rPr>
              <a:t>Dispose(</a:t>
            </a:r>
            <a:r>
              <a:rPr b="1" lang="bg-BG" sz="1000" spc="-1" strike="noStrike">
                <a:solidFill>
                  <a:srgbClr val="800000"/>
                </a:solidFill>
                <a:latin typeface="Tahoma"/>
              </a:rPr>
              <a:t>) и </a:t>
            </a:r>
            <a:r>
              <a:rPr b="1" lang="en-US" sz="1000" spc="-1" strike="noStrike">
                <a:solidFill>
                  <a:srgbClr val="800000"/>
                </a:solidFill>
                <a:latin typeface="Tahoma"/>
              </a:rPr>
              <a:t>Close()</a:t>
            </a:r>
            <a:r>
              <a:rPr b="1" lang="bg-BG" sz="1000" spc="-1" strike="noStrike">
                <a:solidFill>
                  <a:srgbClr val="800000"/>
                </a:solidFill>
                <a:latin typeface="Tahoma"/>
              </a:rPr>
              <a:t> трябва да са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800000"/>
                </a:solidFill>
                <a:latin typeface="Tahoma"/>
              </a:rPr>
              <a:t>public </a:t>
            </a:r>
            <a:r>
              <a:rPr b="1" lang="bg-BG" sz="1000" spc="-1" strike="noStrike">
                <a:solidFill>
                  <a:srgbClr val="800000"/>
                </a:solidFill>
                <a:latin typeface="Tahoma"/>
              </a:rPr>
              <a:t>и невиртуални – за да не се предефинират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800000"/>
                </a:solidFill>
                <a:latin typeface="Tahoma"/>
              </a:rPr>
              <a:t>Но </a:t>
            </a:r>
            <a:r>
              <a:rPr b="1" lang="en-US" sz="1000" spc="-1" strike="noStrike">
                <a:solidFill>
                  <a:srgbClr val="800000"/>
                </a:solidFill>
                <a:latin typeface="Tahoma"/>
              </a:rPr>
              <a:t>Dispose()</a:t>
            </a:r>
            <a:r>
              <a:rPr b="1" lang="bg-BG" sz="1000" spc="-1" strike="noStrike">
                <a:solidFill>
                  <a:srgbClr val="800000"/>
                </a:solidFill>
                <a:latin typeface="Tahoma"/>
              </a:rPr>
              <a:t> е интерфейсен метод и следователно е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bg-BG" sz="1000" spc="-1" strike="noStrike">
                <a:solidFill>
                  <a:srgbClr val="800000"/>
                </a:solidFill>
                <a:latin typeface="Tahoma"/>
              </a:rPr>
              <a:t>виртуален. Затова </a:t>
            </a:r>
            <a:r>
              <a:rPr b="1" lang="en-US" sz="1000" spc="-1" strike="noStrike">
                <a:solidFill>
                  <a:srgbClr val="800000"/>
                </a:solidFill>
                <a:latin typeface="Tahoma"/>
              </a:rPr>
              <a:t>‘sealed’ </a:t>
            </a:r>
            <a:r>
              <a:rPr b="1" lang="bg-BG" sz="1000" spc="-1" strike="noStrike">
                <a:solidFill>
                  <a:srgbClr val="800000"/>
                </a:solidFill>
                <a:latin typeface="Tahoma"/>
              </a:rPr>
              <a:t>за класа или поне за </a:t>
            </a:r>
            <a:r>
              <a:rPr b="1" lang="en-US" sz="1000" spc="-1" strike="noStrike">
                <a:solidFill>
                  <a:srgbClr val="800000"/>
                </a:solidFill>
                <a:latin typeface="Tahoma"/>
              </a:rPr>
              <a:t>Dispose(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1"/>
          <p:cNvSpPr/>
          <p:nvPr/>
        </p:nvSpPr>
        <p:spPr>
          <a:xfrm flipH="1" flipV="1">
            <a:off x="2050920" y="1484280"/>
            <a:ext cx="432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Freeform 14"/>
          <p:cNvSpPr/>
          <p:nvPr/>
        </p:nvSpPr>
        <p:spPr>
          <a:xfrm>
            <a:off x="5527800" y="914400"/>
            <a:ext cx="1326960" cy="471600"/>
          </a:xfrm>
          <a:custGeom>
            <a:avLst/>
            <a:gdLst/>
            <a:ahLst/>
            <a:rect l="l" t="t" r="r" b="b"/>
            <a:pathLst>
              <a:path w="836" h="297">
                <a:moveTo>
                  <a:pt x="793" y="102"/>
                </a:moveTo>
                <a:cubicBezTo>
                  <a:pt x="777" y="85"/>
                  <a:pt x="771" y="79"/>
                  <a:pt x="748" y="73"/>
                </a:cubicBezTo>
                <a:cubicBezTo>
                  <a:pt x="677" y="27"/>
                  <a:pt x="582" y="9"/>
                  <a:pt x="499" y="0"/>
                </a:cubicBezTo>
                <a:cubicBezTo>
                  <a:pt x="333" y="3"/>
                  <a:pt x="260" y="3"/>
                  <a:pt x="126" y="17"/>
                </a:cubicBezTo>
                <a:cubicBezTo>
                  <a:pt x="112" y="22"/>
                  <a:pt x="94" y="20"/>
                  <a:pt x="81" y="28"/>
                </a:cubicBezTo>
                <a:cubicBezTo>
                  <a:pt x="70" y="35"/>
                  <a:pt x="49" y="66"/>
                  <a:pt x="30" y="79"/>
                </a:cubicBezTo>
                <a:cubicBezTo>
                  <a:pt x="3" y="120"/>
                  <a:pt x="0" y="108"/>
                  <a:pt x="25" y="147"/>
                </a:cubicBezTo>
                <a:cubicBezTo>
                  <a:pt x="30" y="164"/>
                  <a:pt x="28" y="183"/>
                  <a:pt x="36" y="198"/>
                </a:cubicBezTo>
                <a:cubicBezTo>
                  <a:pt x="44" y="214"/>
                  <a:pt x="94" y="215"/>
                  <a:pt x="98" y="215"/>
                </a:cubicBezTo>
                <a:cubicBezTo>
                  <a:pt x="139" y="219"/>
                  <a:pt x="255" y="224"/>
                  <a:pt x="285" y="226"/>
                </a:cubicBezTo>
                <a:cubicBezTo>
                  <a:pt x="323" y="251"/>
                  <a:pt x="280" y="226"/>
                  <a:pt x="358" y="243"/>
                </a:cubicBezTo>
                <a:cubicBezTo>
                  <a:pt x="443" y="261"/>
                  <a:pt x="509" y="280"/>
                  <a:pt x="595" y="288"/>
                </a:cubicBezTo>
                <a:cubicBezTo>
                  <a:pt x="708" y="284"/>
                  <a:pt x="730" y="297"/>
                  <a:pt x="804" y="271"/>
                </a:cubicBezTo>
                <a:cubicBezTo>
                  <a:pt x="836" y="223"/>
                  <a:pt x="832" y="246"/>
                  <a:pt x="821" y="175"/>
                </a:cubicBezTo>
                <a:cubicBezTo>
                  <a:pt x="819" y="163"/>
                  <a:pt x="798" y="147"/>
                  <a:pt x="798" y="147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179280" y="404640"/>
            <a:ext cx="66978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07640" y="304560"/>
            <a:ext cx="8883720" cy="64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66"/>
                </a:solidFill>
                <a:latin typeface="Tahoma"/>
              </a:rPr>
              <a:t>Коментари относно реализацията на модела на ‘явна финализация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същност сме имплементирали интерфейс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public interface IDisposable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void Dispose(bool)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i="1" lang="bg-BG" sz="1400" spc="-1" strike="noStrike" u="sng">
                <a:solidFill>
                  <a:srgbClr val="000000"/>
                </a:solidFill>
                <a:uFillTx/>
                <a:latin typeface="Tahoma"/>
              </a:rPr>
              <a:t>методите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Dispose() </a:t>
            </a:r>
            <a:r>
              <a:rPr b="1" i="1" lang="bg-BG" sz="1400" spc="-1" strike="noStrike" u="sng">
                <a:solidFill>
                  <a:srgbClr val="000000"/>
                </a:solidFill>
                <a:uFillTx/>
                <a:latin typeface="Tahoma"/>
              </a:rPr>
              <a:t>и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Close()</a:t>
            </a:r>
            <a:r>
              <a:rPr b="1" i="1" lang="bg-BG" sz="1400" spc="-1" strike="noStrike" u="sng">
                <a:solidFill>
                  <a:srgbClr val="000000"/>
                </a:solidFill>
                <a:uFillTx/>
                <a:latin typeface="Tahoma"/>
              </a:rPr>
              <a:t>  нормално са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Що се отнася до </a:t>
            </a:r>
            <a:r>
              <a:rPr b="1" i="1" lang="bg-BG" sz="1400" spc="-1" strike="noStrike" u="sng">
                <a:solidFill>
                  <a:srgbClr val="000000"/>
                </a:solidFill>
                <a:uFillTx/>
                <a:latin typeface="Tahoma"/>
              </a:rPr>
              <a:t>интерфейсния метод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Dispose(bool),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#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имплеметацията на интерфейсен метод е по подразбиране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public, sealed.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Така че тук следва да внимаваме за модификатора на достъп н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Dispose(bool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private (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ако класът е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sealed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ил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protected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(ако не е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Sealed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. Тогава наследниците на класа ще могат да предефинират само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Dispose(bool)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и да използват наготово реализациите н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inalize(), Close(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Dispose(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Целият почистващ код е в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Dispose(boo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Dispose(bool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следва да предвидим проверка, изключваща възможност от повтарящи се действия( напр. 2 пъти да се затвори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handle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– при явна и неявна финализация, както и от многократни викане н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lose(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Dispose(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от различни нишки( в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#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с констр. напр.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loc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Трябва да се предвиди проверка и дали викането е от явно финализиране или от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GC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системат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това става с флаг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bool ,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подаван н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Dispose(bool)).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G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-финализиране – да се изключи код в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Dispose(bool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, рефериращ други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managed (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вградени) обекти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докато при явна финализация – такива референции са допустими (и дори нужни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SupressFinalize(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блокира стандартното викане н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inalize()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 за да няма повторение. Тогава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GC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системата просто ще унищожи обекта, без да го слага в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freachable </a:t>
            </a:r>
            <a:r>
              <a:rPr b="1" i="1" lang="bg-BG" sz="1400" spc="-1" strike="noStrike">
                <a:solidFill>
                  <a:srgbClr val="000000"/>
                </a:solidFill>
                <a:latin typeface="Tahoma"/>
              </a:rPr>
              <a:t>опашка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5:04:49Z</dcterms:created>
  <dc:creator>nakov</dc:creator>
  <dc:description/>
  <dc:language>en-US</dc:language>
  <cp:lastModifiedBy>ADMIN</cp:lastModifiedBy>
  <dcterms:modified xsi:type="dcterms:W3CDTF">2012-04-23T06:55:34Z</dcterms:modified>
  <cp:revision>91</cp:revision>
  <dc:subject/>
  <dc:title>Стратегии на управление на памет и събиране на боклук в .net платформа</dc:title>
</cp:coreProperties>
</file>