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5960" y="3963240"/>
            <a:ext cx="84852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04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5960" y="396324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4040" y="396324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12212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4000" y="112212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5960" y="396324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96324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4000" y="3963240"/>
            <a:ext cx="27320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4140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4040" y="1122120"/>
            <a:ext cx="4140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5600" y="228240"/>
            <a:ext cx="849636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040" y="1122120"/>
            <a:ext cx="4140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5960" y="396324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4140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4040" y="396324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122120"/>
            <a:ext cx="414072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5960" y="3963240"/>
            <a:ext cx="84852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004840" indent="-4014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44760" indent="-3254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444760" indent="-3254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444760" indent="-3254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cademy.devbg.org/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g.monstuff.com/archives/000040.html" TargetMode="External"/><Relationship Id="rId3" Type="http://schemas.openxmlformats.org/officeDocument/2006/relationships/hyperlink" Target="http://msdn.microsoft.com/" TargetMode="External"/><Relationship Id="rId4" Type="http://schemas.openxmlformats.org/officeDocument/2006/relationships/hyperlink" Target="http://www.devbg.org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academy.devbg.org/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ulticast 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легати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1125360"/>
            <a:ext cx="8218800" cy="541368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delegate void StringDelegate(string aValue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TestDelegate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void PrintString(string aVal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aValu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void PrintStringLength(string aVal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Length = {0}", aValue.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atic void PrintStringWithDate(string aVal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{0}: {1}"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ateTime.Now, aValu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ulticast 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легати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560" y="1100160"/>
            <a:ext cx="8218800" cy="569268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static void PrintInvocationList(Delegate aDelegat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onsole.Write("(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Delegate[] list = aDelegate.GetInvocationLis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foreach (Delegate d in li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onsole.Write(" {0}", d.Method.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Console.WriteLine(" )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estDelegateClass tdc = new TestDelegateClass();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Delegate printDelegate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tringDelegate(tdc.PrintString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Delegate printLengthDelegate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tringDelegate(tdc.PrintString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Delegate printWithDateDelegate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tringDelegate(PrintStringWithD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ulticast 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легати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560" y="1112760"/>
            <a:ext cx="8218800" cy="572796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ntInvocationList(printDeleg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Prints: ( PrintString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tringDelegate combinedDelegate = (StringDelega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elegate.Combine(printDeleg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ntLengthDeleg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ntInvocationList(combinedDeleg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Prints: ( PrintString PrintStringLength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mbinedDelegate = (StringDelega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Delegate.Combine(combinedDeleg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ntWithDateDeleg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ntInvocationList(combinedDelega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Prints: ( PrintString PrintString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//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bg-BG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PrintStringWithDate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Invoke the deleg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mbinedDelegate("tes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монстрация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#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Проследяване на извикването н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69960" y="2170080"/>
            <a:ext cx="5934240" cy="43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монстрация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#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зползване на инструмента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.NET Reflector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за разглеждане на кода, генериран от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компилатора при декларирането на делег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04920" y="3097080"/>
            <a:ext cx="501660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(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vents)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 компонентно-ориентираното програмиране компонентите изпращат събития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s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ъм своя притежател за да го уведомят при настъпване на интересна за него ситуац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Обектът, който предизвиква дадено събитие, се нарича изпращач на събития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sender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Обектът, който получава дадено събитие, се нарича получател на събитието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receiver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 да получават дадено събитие получателите му предварително се абонират за него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cribe for event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в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.NE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 компонентния модел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Framework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бонирането, изпращането и получаването на събитият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е поддържа чрез делегати и съби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ъбитията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са специални инстанции на делегати, декларирани с ключовата дума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v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 променливите от тип събит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омпилаторът автоматично дефинира операторите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-=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съответно за абониране за събитието и за премахване на абонамен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ъбитията могат да предефинират кода за абониране и премахваме на абонамен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cc00"/>
                </a:solidFill>
                <a:latin typeface="Arial"/>
              </a:rPr>
              <a:t>Разлика между събитие и делегат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4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ъбитията, декларирани с ключовата дума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не са еквивалентни на член-променливите от тип делег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84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4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Събитията могат да бъдат членове на интерфейс, а делегатите не мог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4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звикването на събитие може да става само от класа, в който е дефиниран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4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Достъпът до събитията по подразбиране е синхронизира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2120" y="2535120"/>
            <a:ext cx="3359160" cy="5065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ublic MyDelegate 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6480" y="2544840"/>
            <a:ext cx="4260960" cy="5065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ublic event MyDelegate 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35520" y="25052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Конвенция за събитията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7000"/>
              </a:lnSpc>
              <a:spcBef>
                <a:spcPts val="938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ffffff"/>
                </a:solidFill>
                <a:latin typeface="Arial"/>
              </a:rPr>
              <a:t>В .NET Framework 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се използва</a:t>
            </a:r>
            <a:r>
              <a:rPr b="1" sz="3000" spc="-1" strike="noStrike">
                <a:solidFill>
                  <a:srgbClr val="ffffff"/>
                </a:solidFill>
                <a:latin typeface="Arial"/>
              </a:rPr>
              <a:t> утвърдена конвенция за 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събитията</a:t>
            </a:r>
            <a:r>
              <a:rPr b="1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87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Делегатите, които се използват за събит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87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имат имена 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образувани от глагол + </a:t>
            </a:r>
            <a:r>
              <a:rPr b="1" sz="2600" spc="-1" strike="noStrike">
                <a:solidFill>
                  <a:srgbClr val="ffffff"/>
                </a:solidFill>
                <a:latin typeface="Courier New"/>
              </a:rPr>
              <a:t>EventHandle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sz="2600" spc="-1" strike="noStrike">
                <a:solidFill>
                  <a:srgbClr val="ffffff"/>
                </a:solidFill>
                <a:latin typeface="Courier New"/>
              </a:rPr>
              <a:t>SomeVerb</a:t>
            </a:r>
            <a:r>
              <a:rPr b="1" i="1" sz="2600" spc="-1" strike="noStrike">
                <a:solidFill>
                  <a:srgbClr val="ffffff"/>
                </a:solidFill>
                <a:latin typeface="Courier New"/>
              </a:rPr>
              <a:t>EventHandler</a:t>
            </a:r>
            <a:r>
              <a:rPr b="1" i="1" lang="en-US" sz="26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87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връщат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и приемат два параметъра – обект-изпращач от тип </a:t>
            </a:r>
            <a:r>
              <a:rPr b="1" sz="2600" spc="-1" strike="noStrike">
                <a:solidFill>
                  <a:srgbClr val="ffffff"/>
                </a:solidFill>
                <a:latin typeface="Courier New"/>
              </a:rPr>
              <a:t>System.Objec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и обект, съдържащ данни за събитието от тип, наследник на </a:t>
            </a:r>
            <a:r>
              <a:rPr b="1" sz="2600" spc="-1" strike="noStrike">
                <a:solidFill>
                  <a:srgbClr val="ffffff"/>
                </a:solidFill>
                <a:latin typeface="Courier New"/>
              </a:rPr>
              <a:t>System.EventAr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87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360" y="5737320"/>
            <a:ext cx="8388360" cy="81144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ublic delegate ItemChangedEventHandler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object aSender, ItemChangedEventArgs aEventArg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6044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ъбитията се обявяват като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почват с главна буква и завършват с глаго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наприме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 предизвикване на събитие се създава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vo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етод с име в стил </a:t>
            </a:r>
            <a:r>
              <a:rPr b="1" sz="2800" spc="-1" strike="noStrike">
                <a:solidFill>
                  <a:srgbClr val="ffffff"/>
                </a:solidFill>
                <a:latin typeface="Courier New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2100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етодът-получател (обработчик) на събитието има име </a:t>
            </a:r>
            <a:r>
              <a:rPr b="1" lang="bg-BG" sz="2800" spc="-1" strike="noStrike">
                <a:solidFill>
                  <a:srgbClr val="ffffff"/>
                </a:solidFill>
                <a:latin typeface="Courier New"/>
              </a:rPr>
              <a:t>Обект_Събитие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Конвенция за събитията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00280" y="4402080"/>
            <a:ext cx="5789520" cy="5065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otected void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n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ItemChanged(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6960" y="2459160"/>
            <a:ext cx="7813800" cy="5065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ublic event ItemChangedEventHandler ItemChange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6240" y="6041880"/>
            <a:ext cx="6729480" cy="5065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rivate void OrderList_ItemChanged() { …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8200" y="2290320"/>
            <a:ext cx="825192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</a:rPr>
              <a:t>Делегати и събит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455760"/>
            <a:ext cx="9144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Програмиране за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NET Framewo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97956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http://</a:t>
            </a:r>
            <a:r>
              <a:rPr b="1" sz="2000" spc="-1" strike="noStrike">
                <a:solidFill>
                  <a:srgbClr val="ccecff"/>
                </a:solidFill>
                <a:latin typeface="Arial"/>
              </a:rPr>
              <a:t>www.nakov.com</a:t>
            </a:r>
            <a:r>
              <a:rPr b="1" lang="bg-BG" sz="2000" spc="-1" strike="noStrike">
                <a:solidFill>
                  <a:srgbClr val="ccecff"/>
                </a:solidFill>
                <a:latin typeface="Arial"/>
              </a:rPr>
              <a:t>/</a:t>
            </a:r>
            <a:r>
              <a:rPr b="1" sz="2000" spc="-1" strike="noStrike">
                <a:solidFill>
                  <a:srgbClr val="ccecff"/>
                </a:solidFill>
                <a:latin typeface="Arial"/>
              </a:rPr>
              <a:t>dotnet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69800" y="5178600"/>
            <a:ext cx="3443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Светлин Нак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5680080"/>
            <a:ext cx="3176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ционална академия по разработка на софту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87440" y="6261120"/>
            <a:ext cx="3176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ecff"/>
                </a:solidFill>
                <a:latin typeface="Arial"/>
              </a:rPr>
              <a:t>academy.devbg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1100160"/>
            <a:ext cx="8218800" cy="54493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delegate void TimeChangedEventHandler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bject aSender, TimeChangedEventArgs aEventArg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TimeChangedEventArgs : EventAr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int mTicksLef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TimeChangedEventArgs(int aTicksLef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TicksLeft = aTicksLef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int TicksLef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g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turn mTicksLef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6560" y="1062000"/>
            <a:ext cx="8218800" cy="549648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Ti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int mTickCou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int mInterv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event TimeChangedEventHandler TimeChang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Timer(int aTickCount, int aInterva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TickCount = aTickCou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Interval = aInterv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int TickCou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get {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turn mTickCount;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int Interv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turn mInterval;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6560" y="1062000"/>
            <a:ext cx="8218800" cy="547236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otected void OnTimeChanged(int aTick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TimeChanged != nul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ChangedEventArgs args 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TimeChangedEventArgs(aTick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Changed(this, arg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void run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nt tick = mTickCou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while (tick &gt;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ystem.Threading.Thread.Sleep(mInterva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ck--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nTimeChanged(tick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– пример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" y="1125360"/>
            <a:ext cx="8440560" cy="541368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TimerDem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Т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mer_TimeChanged(object aSende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ChangedEventArgs aEvent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Timer! Ticks left = {0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EventArgs.TicksLef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Main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r timer = new Timer(10, 10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r.TimeChanged +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TimeChangedEventHandler(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Т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mer_TimeChange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Timer started for 10 ticks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"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at interval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f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1000 ms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timer.ru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монстрация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#3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Проследяване на изпращането и обработването на събит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77880" y="2205000"/>
            <a:ext cx="5527800" cy="43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cc00"/>
                </a:solidFill>
                <a:latin typeface="Arial"/>
              </a:rPr>
              <a:t>Делегатът </a:t>
            </a:r>
            <a:r>
              <a:rPr b="1" lang="bg-BG" sz="3800" spc="-1" strike="noStrike">
                <a:solidFill>
                  <a:srgbClr val="ffcc00"/>
                </a:solidFill>
                <a:latin typeface="Courier New"/>
              </a:rPr>
              <a:t>System.EventHandler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5000"/>
              </a:lnSpc>
              <a:spcBef>
                <a:spcPts val="938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Делегатът </a:t>
            </a:r>
            <a:r>
              <a:rPr b="1" lang="bg-BG" sz="3000" spc="-1" strike="noStrike">
                <a:solidFill>
                  <a:srgbClr val="ffffff"/>
                </a:solidFill>
                <a:latin typeface="Courier New"/>
              </a:rPr>
              <a:t>System.EventHand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9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дефинира референция към callback метод, който обработва събития, за които не се изпраща допълнителна информац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95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на много места се използва вътрешно от .NET Framewor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5000"/>
              </a:lnSpc>
              <a:spcBef>
                <a:spcPts val="938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1" lang="bg-BG" sz="3000" spc="-1" strike="noStrike">
                <a:solidFill>
                  <a:srgbClr val="ffffff"/>
                </a:solidFill>
                <a:latin typeface="Courier New"/>
              </a:rPr>
              <a:t>EventArgs</a:t>
            </a: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 не съдържа никаква информация за събитието – той е базов клас. Неговите наследници съдържат информация за настъпили събития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9920" y="1730520"/>
            <a:ext cx="6507000" cy="8719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Courier New"/>
              </a:rPr>
              <a:t>public delegate void EventHandler(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bg-BG" sz="2200" spc="-1" strike="noStrike">
                <a:solidFill>
                  <a:srgbClr val="ffffff"/>
                </a:solidFill>
                <a:latin typeface="Courier New"/>
              </a:rPr>
              <a:t>Object sender, EventArgs e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cc00"/>
                </a:solidFill>
                <a:latin typeface="Courier New"/>
              </a:rPr>
              <a:t>System.EventHandler</a:t>
            </a:r>
            <a:r>
              <a:rPr b="1" lang="bg-BG" sz="4000" spc="-1" strike="noStrike">
                <a:solidFill>
                  <a:srgbClr val="ffcc00"/>
                </a:solidFill>
                <a:latin typeface="Arial"/>
              </a:rPr>
              <a:t> – пример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934920"/>
            <a:ext cx="8231040" cy="583560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But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nt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Handler Clic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nt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Handler GotFocu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vent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Handler TextChang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ButtonTe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Button_Click(object aSend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Args aEvent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Button_Click() event called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 button = new Butto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Click += new EventHandler(Button_Click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DoClick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бития и интерфейси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5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ъбитият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vents)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могат да бъдат членове на интерфейс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5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ри имплементацията на събитие от интерфейс за него могат да се реализират специфични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ето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5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 разлика от свойствата, при събитията имплементацията на методите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не е задължител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38240" y="2192400"/>
            <a:ext cx="7512120" cy="129888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public interface IClick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event ClickEventHandler Clic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cc00"/>
                </a:solidFill>
                <a:latin typeface="Arial"/>
              </a:rPr>
              <a:t>Събития и интерфейси – пример</a:t>
            </a:r>
            <a:r>
              <a:rPr b="1" lang="bg-BG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1062000"/>
            <a:ext cx="8165880" cy="548280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delegate void ClickEventHandler(object aSend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Args aEventArg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interface IClick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 ClickEventHandler Clic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Button : IClick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ClickEventHandler mClic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Implement the event from the interface IClick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event ClickEventHandler Cli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Click += 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Subscribe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o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Clicked event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cc00"/>
                </a:solidFill>
                <a:latin typeface="Arial"/>
              </a:rPr>
              <a:t>Събития и интерфейси – пример</a:t>
            </a:r>
            <a:r>
              <a:rPr b="1" lang="bg-BG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4720" y="1025640"/>
            <a:ext cx="8166240" cy="55339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Click -= val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"Unsubscribed to Button.Clicked event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otected void OnClick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if (mClick != nu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mClick(this, EventArgs.Emp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re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ick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Button.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re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ick() called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OnClick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ffffff"/>
                </a:solidFill>
                <a:latin typeface="Arial"/>
              </a:rPr>
              <a:t>примерът продължав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Необходими знания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азови познания за архитектурат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азови познания за общата система от типове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(Common Type Syst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азови познания за език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ознания за обектно-ориентираното програмиране 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Framework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cc00"/>
                </a:solidFill>
                <a:latin typeface="Arial"/>
              </a:rPr>
              <a:t>Събития и интерфейси – пример</a:t>
            </a:r>
            <a:r>
              <a:rPr b="1" lang="bg-BG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1063800"/>
            <a:ext cx="8258400" cy="548280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class ButtonTe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rivate static void Button_Click(object aSend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EventArgs aEvent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Button_Click() event called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 button = new Butto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Click +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ClickEventHandler(Button_Click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re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ick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button.Click -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ClickEventHandler(Button_Click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cc00"/>
                </a:solidFill>
                <a:latin typeface="Arial"/>
              </a:rPr>
              <a:t>Интерфейси, събития, делегати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оведението "обратно извикване"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back)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оже да се реализира чрез интерфейси, делегати или съби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ога да използваме интерфейси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гато даден обект предоставя съвкупност от мног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back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тод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ога да използваме събития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гато разработваме компонен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ито  трябва да известяват своя притежател за нещ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гато търсим съвместимост с компонентния модел 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ога да използваме делегати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гато имаме единиче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back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тод, който не е свързан с компонентния модел 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7880" y="611280"/>
            <a:ext cx="83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"/>
              </a:rPr>
              <a:t>Делегати и събити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3720" y="2970360"/>
            <a:ext cx="82519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ffffff"/>
                </a:solidFill>
                <a:latin typeface="Arial"/>
              </a:rPr>
              <a:t>Въпроси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Упражнения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бяснете какво представляват делегатите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Framework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бяснете какво представляват събитията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s)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в 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 Framework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акво се препоръчва от утвърдената конвенция за събитията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Framework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Чрез средствата на делегатите реализирайте универсален статичен метод за изчисляване с някаква точност на безкрайни сходящи редове по зададена функция за общия им член. Чрез подходящи функции за общия член изчислете с точност два десетични знака безкрайните редове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02040" indent="-52776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</a:rPr>
              <a:t>1 + 1/2 + 1/4 + 1/8 + 1/16 + </a:t>
            </a:r>
            <a:r>
              <a:rPr b="1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040" indent="-52776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1 + 1/4 + 1/9 + 1/16 + 1/25 +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02040" indent="-52776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ourier New"/>
                <a:ea typeface="Arial"/>
              </a:rPr>
              <a:t>1 + 1/2! + 1/3! + 1/4! + 1/5! +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Упражнения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пишете клас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erson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, който описва един човек и съдържа свойствата: име, презиме, фамилия, пол, рождена дата, ЕГН, адрес, e-mail и телефон. Добавете към класа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erson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за всяко от неговите свойства по едно събитие от системния делегат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System.EventHandler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, което се активира при промяна на съответното свойство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ъздайте клас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ropertyChangedEventArgs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, наследник на класа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System.EventArgs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и дефинирайте в него три свойства – име на променено свойство (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), стара стойност (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) и нова стойност (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) заедно с подходящ конструктор. Създайте делегат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ropertyChangedEventHandler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за обработка на събития, който да приема два параметъра – обект-изпращач и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ropertyChangedEventArgs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Упражнения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пишете нов вариант на класа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ers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йто има само едно събитие с име </a:t>
            </a:r>
            <a:r>
              <a:rPr b="1" sz="2400" spc="-1" strike="noStrike">
                <a:solidFill>
                  <a:srgbClr val="ffffff"/>
                </a:solidFill>
                <a:latin typeface="Courier New"/>
              </a:rPr>
              <a:t>PropertyChanged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от тип </a:t>
            </a:r>
            <a:r>
              <a:rPr b="1" lang="bg-BG" sz="2400" spc="-1" strike="noStrike">
                <a:solidFill>
                  <a:srgbClr val="ffffff"/>
                </a:solidFill>
                <a:latin typeface="Courier New"/>
              </a:rPr>
              <a:t>PropertyChangedEventHandler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, което се активира при промяна на някое от свойствата на класа (и съответно се извиква с подходящи параметри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знесете дефиницията на свойството </a:t>
            </a:r>
            <a:r>
              <a:rPr b="1" sz="2400" spc="-1" strike="noStrike">
                <a:solidFill>
                  <a:srgbClr val="ffffff"/>
                </a:solidFill>
                <a:latin typeface="Courier New"/>
              </a:rPr>
              <a:t>PropertyChanged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в отделен интерфейс и променете класа така, че да имплементира интерфейс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45960" y="1198440"/>
            <a:ext cx="848520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ffrey Richter, Applied Microsoft .NET Framework Programming, Microsoft Press, 2002, ISBN 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073561422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MSDN Training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ming with the Microsoft® .NET Framework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 (MOC 2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4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), Modu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egates and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Julien Couvreur, Curiosity is bliss – </a:t>
            </a:r>
            <a:r>
              <a:rPr b="1" lang="bg-BG" sz="2400" spc="-1" strike="noStrike" u="sng">
                <a:solidFill>
                  <a:srgbClr val="9cc0e4"/>
                </a:solidFill>
                <a:uFillTx/>
                <a:latin typeface="Arial"/>
                <a:hlinkClick r:id="rId2"/>
              </a:rPr>
              <a:t>http://blog.monstuff.com/archives/000040.htm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5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MSDN Library – </a:t>
            </a:r>
            <a:r>
              <a:rPr b="1" sz="2400" spc="-1" strike="noStrike" u="sng">
                <a:solidFill>
                  <a:srgbClr val="9cc0e4"/>
                </a:solidFill>
                <a:uFillTx/>
                <a:latin typeface="Arial"/>
                <a:hlinkClick r:id="rId3"/>
              </a:rPr>
              <a:t>http://msdn.microsoft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Използвана литература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6200" y="5486400"/>
            <a:ext cx="2079720" cy="1058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6360" y="5489640"/>
            <a:ext cx="233172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Съдържание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delegates)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финиране, инстанциране, извикван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-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ъбит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events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Разлика между събитие и инстанция на делега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Утвърдени конвенции при дефиниране и използване на събития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Кога да използваме интерфейси, събития и делегати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ffcc00"/>
                </a:solidFill>
                <a:latin typeface="Arial"/>
              </a:rPr>
              <a:t>Какво представляват делегатите</a:t>
            </a: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Делегатите представляват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типове, които описват сигнатурата на даден метод (броя, типа и последователността на параметрите му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и връщания от него тип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Делегатите приличат на указателите към функции в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++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– съдържат силно-типизиран указател (референция) към метод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Те са структури от данни, които приемат като стойност методи, отговарящи на описаната от делегата сигнатур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Чрез тях се осъществяват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обратни извиквания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llback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Могат да сочат както към статични методи, така и към методи на инстанц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Пример за делегат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6560" y="1112760"/>
            <a:ext cx="8218800" cy="5695920"/>
          </a:xfrm>
          <a:prstGeom prst="rect">
            <a:avLst/>
          </a:prstGeom>
          <a:solidFill>
            <a:srgbClr val="336699">
              <a:alpha val="40000"/>
            </a:srgbClr>
          </a:solidFill>
          <a:ln w="3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91440" bIns="109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Declaration of a deleg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delegate void SimpleDelegate(string aPara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lass TestDeleg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TestFunction(string aPar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I was called by a delegate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Console.WriteLine("I got parameter {0}.", aPara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Instantiation of а deleg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impleDelegate simpleDelegate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new SimpleDelegate(TestFunction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i="1" sz="1600" spc="-1" strike="noStrike">
                <a:solidFill>
                  <a:srgbClr val="ffffff"/>
                </a:solidFill>
                <a:latin typeface="Courier New"/>
              </a:rPr>
              <a:t>// Invocation of the method, pointed by a deleg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simpleDelegate("tes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Видове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легати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ите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Framework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а специални класове и могат да бъдат два вида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Единични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st) 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ъдържат референция към един единствен мето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следяват класа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Deleg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60440">
              <a:lnSpc>
                <a:spcPct val="90000"/>
              </a:lnSpc>
              <a:spcBef>
                <a:spcPts val="814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Множествени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lticast) 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делегат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ъдържат свързан списък от референции към метод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59080" indent="-4302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следяват класа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MulticastDeleg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могат да се декларират само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и (чрез запазената дума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leg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ulticast </a:t>
            </a:r>
            <a:r>
              <a:rPr b="1" lang="bg-BG" sz="4400" spc="-1" strike="noStrike">
                <a:solidFill>
                  <a:srgbClr val="ffcc00"/>
                </a:solidFill>
                <a:latin typeface="Arial"/>
              </a:rPr>
              <a:t>делегати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ри извикване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е изпълняват последователно един след друг всички методи от неговия списъ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 връща стойност или променя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параметър, резултатът е само от последния извикан метод от списъка с методи на делегат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ко при извикване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 някои от методите в неговия списък хвърли изключение, следващите методи от списъка не се извиква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На практик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-cast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 делегати почти не се използват и под делегат обикновено се има предвид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ast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делега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5960" y="1122120"/>
            <a:ext cx="84852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85000"/>
              </a:lnSpc>
              <a:spcBef>
                <a:spcPts val="112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ffff"/>
                </a:solidFill>
                <a:latin typeface="Arial"/>
              </a:rPr>
              <a:t>Класът </a:t>
            </a:r>
            <a:r>
              <a:rPr b="1" lang="bg-BG" sz="3000" spc="-1" strike="noStrike">
                <a:solidFill>
                  <a:srgbClr val="ffffff"/>
                </a:solidFill>
                <a:latin typeface="Courier New"/>
              </a:rPr>
              <a:t>System.MulticastDelega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е наследник на </a:t>
            </a:r>
            <a:r>
              <a:rPr b="1" lang="bg-BG" sz="2600" spc="-1" strike="noStrike">
                <a:solidFill>
                  <a:srgbClr val="ffffff"/>
                </a:solidFill>
                <a:latin typeface="Courier New"/>
              </a:rPr>
              <a:t>System.Delegate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и е базов клас за всички делегати в C#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съдържа метод </a:t>
            </a:r>
            <a:r>
              <a:rPr b="1" lang="bg-BG" sz="2600" spc="-1" strike="noStrike">
                <a:solidFill>
                  <a:srgbClr val="ffffff"/>
                </a:solidFill>
                <a:latin typeface="Courier New"/>
              </a:rPr>
              <a:t>Combine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за сливане на списъците от методи на няколко делегата от еднакъв тип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съдържа метод </a:t>
            </a:r>
            <a:r>
              <a:rPr b="1" lang="bg-BG" sz="26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 за премахване на метод от списъка за извикване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има метод </a:t>
            </a:r>
            <a:r>
              <a:rPr b="1" lang="bg-BG" sz="2600" spc="-1" strike="noStrike">
                <a:solidFill>
                  <a:srgbClr val="ffffff"/>
                </a:solidFill>
                <a:latin typeface="Courier New"/>
              </a:rPr>
              <a:t>GetInvocationList()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, който връща масив от делегати – по един за всеки от методите в списъка за извикване на делегат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55760">
              <a:lnSpc>
                <a:spcPct val="85000"/>
              </a:lnSpc>
              <a:spcBef>
                <a:spcPts val="975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има свойство </a:t>
            </a:r>
            <a:r>
              <a:rPr b="1" lang="bg-BG" sz="2600" spc="-1" strike="noStrike">
                <a:solidFill>
                  <a:srgbClr val="ffffff"/>
                </a:solidFill>
                <a:latin typeface="Courier New"/>
              </a:rPr>
              <a:t>Method</a:t>
            </a: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, което описва сигнатурата на методите в делегат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45600" y="228240"/>
            <a:ext cx="84963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urier New"/>
              </a:rPr>
              <a:t>System.MulticastDelegat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1:46:27Z</dcterms:created>
  <dc:creator>Svetlin Nakov</dc:creator>
  <dc:description>Programming for the .NET Framework
http://www.nakov.com/dotnet-project/
</dc:description>
  <dc:language>en-US</dc:language>
  <cp:lastModifiedBy>Svetlin Nakov</cp:lastModifiedBy>
  <dcterms:modified xsi:type="dcterms:W3CDTF">2005-10-07T08:57:27Z</dcterms:modified>
  <cp:revision>430</cp:revision>
  <dc:subject/>
  <dc:title>Delagates and Events in .NET</dc:title>
</cp:coreProperties>
</file>