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Click to move the slide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0F2-7E50-4856-AC1C-9F01C4287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D603-12C4-4C2E-BE57-A027BEA50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E1D9-1EFF-46A8-9D6E-AD12AAFB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C7C-95A7-4BB8-892F-6CF85ED5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919B-B937-4957-80DB-3BF67301E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A620-EDD7-4C9F-879C-7482385C7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D4D-4F9F-489F-AFD7-E635D7CA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76FE-6D88-4A70-93A4-200ECC8C8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529A-EE88-48AA-96AD-380E8FC9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785F-B516-419B-B168-073BC4CB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CD9-F607-4908-8F36-EEA39E1F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6D46-BAB6-40D9-B388-1CC3A0D5E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D838-AC23-4252-B982-23C9565F5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3A83-1260-44EE-ACFA-F762EBA8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5ED-44A2-4433-9312-CFA98061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DE53-CCD3-469A-998F-C3FDD43D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DAED-323E-472D-8DFD-346FF548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914-2E04-4A92-B014-AB7EF100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64320"/>
            <a:ext cx="80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416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1240" y="160020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2840" y="160020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6432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1240" y="396432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2840" y="396432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81C-4881-4E9F-B6ED-DF8AEDEB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374-55F9-4B54-B831-052C3E94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127-0F70-4C7E-A236-9B64ED3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EE0-B35D-4C90-ACDB-C658BB07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1CD-1BCA-4480-B5B0-C9F27D4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9640" y="285480"/>
            <a:ext cx="804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429-5552-4671-9BEB-6AC6F6C5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64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3F6-86A6-4230-9832-718D6F8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416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C66-4B9A-43E6-864F-9F40956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964320"/>
            <a:ext cx="80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272-7648-4B61-ABA0-6A42C208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640" y="3964320"/>
            <a:ext cx="80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B17-C4D4-4954-A318-098E817B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64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416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71E-FE00-4F06-BA2A-7A0FA4AC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1240" y="160020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2840" y="160020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640" y="396432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1240" y="396432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2840" y="3964320"/>
            <a:ext cx="259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9B4-6890-42BA-A5C0-3C1A9672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285480"/>
            <a:ext cx="804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4160" y="396432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392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64320"/>
            <a:ext cx="80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title-slide-lines-grey_BIG.png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2990880"/>
            <a:ext cx="3367080" cy="3867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3" marL="1600200" indent="-22860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4" marL="2057400" indent="-22860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title-slide-lines-grey_BIG.png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2990880"/>
            <a:ext cx="3367080" cy="38671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3" marL="1600200" indent="-22860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4" marL="2057400" indent="-22860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DCC3-6E66-4E99-A61F-57752BCE2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20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20.png"/><Relationship Id="rId12" Type="http://schemas.openxmlformats.org/officeDocument/2006/relationships/image" Target="../media/image14.png"/><Relationship Id="rId13" Type="http://schemas.openxmlformats.org/officeDocument/2006/relationships/image" Target="../media/image3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20.png"/><Relationship Id="rId12" Type="http://schemas.openxmlformats.org/officeDocument/2006/relationships/image" Target="../media/image40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Q – Language INtegrated Query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явки вградени в ез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Query Expressions</a:t>
            </a:r>
            <a:br>
              <a:rPr sz="4000"/>
            </a:b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Introduce SQL-Like Syntax to Languag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ompiled to Traditional C# (via Extension Methods)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113" name="TextBox 4"/>
          <p:cNvGrpSpPr/>
          <p:nvPr/>
        </p:nvGrpSpPr>
        <p:grpSpPr>
          <a:xfrm>
            <a:off x="858960" y="2755800"/>
            <a:ext cx="7377120" cy="2998800"/>
            <a:chOff x="858960" y="2755800"/>
            <a:chExt cx="7377120" cy="2998800"/>
          </a:xfrm>
        </p:grpSpPr>
        <p:pic>
          <p:nvPicPr>
            <p:cNvPr id="114" name="TextBox 4" descr=""/>
            <p:cNvPicPr/>
            <p:nvPr/>
          </p:nvPicPr>
          <p:blipFill>
            <a:blip r:embed="rId2"/>
            <a:stretch/>
          </p:blipFill>
          <p:spPr>
            <a:xfrm>
              <a:off x="858960" y="2755800"/>
              <a:ext cx="7377120" cy="29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83880" y="2819520"/>
              <a:ext cx="71758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rom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emName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i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rcExpr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joi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emNam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i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rcExpr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keyExpr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equals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keyExpr 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into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emNam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?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let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Name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xpr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wher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redExpr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orderby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keyExpr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ascendin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|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descendin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?)*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select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xpr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group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xpr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by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keyExpr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into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emName query-body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The LINQ Project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pSp>
        <p:nvGrpSpPr>
          <p:cNvPr id="117" name="Group 35"/>
          <p:cNvGrpSpPr/>
          <p:nvPr/>
        </p:nvGrpSpPr>
        <p:grpSpPr>
          <a:xfrm>
            <a:off x="1000080" y="1143000"/>
            <a:ext cx="2201760" cy="882720"/>
            <a:chOff x="1000080" y="1143000"/>
            <a:chExt cx="2201760" cy="882720"/>
          </a:xfrm>
        </p:grpSpPr>
        <p:pic>
          <p:nvPicPr>
            <p:cNvPr id="118" name="Rounded Rectangle 36" descr=""/>
            <p:cNvPicPr/>
            <p:nvPr/>
          </p:nvPicPr>
          <p:blipFill>
            <a:blip r:embed="rId2"/>
            <a:stretch/>
          </p:blipFill>
          <p:spPr>
            <a:xfrm>
              <a:off x="10000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Rounded Rectangle 37"/>
            <p:cNvGrpSpPr/>
            <p:nvPr/>
          </p:nvGrpSpPr>
          <p:grpSpPr>
            <a:xfrm>
              <a:off x="1342440" y="1292040"/>
              <a:ext cx="1525680" cy="272160"/>
              <a:chOff x="1342440" y="1292040"/>
              <a:chExt cx="1525680" cy="272160"/>
            </a:xfrm>
          </p:grpSpPr>
          <p:pic>
            <p:nvPicPr>
              <p:cNvPr id="120" name="Rounded Rectangle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2440" y="1292040"/>
                <a:ext cx="152568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13582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122" name="Rounded Rectangle 38"/>
            <p:cNvSpPr/>
            <p:nvPr/>
          </p:nvSpPr>
          <p:spPr>
            <a:xfrm>
              <a:off x="13284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C# 3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23" name="Group 43"/>
          <p:cNvGrpSpPr/>
          <p:nvPr/>
        </p:nvGrpSpPr>
        <p:grpSpPr>
          <a:xfrm>
            <a:off x="3381480" y="1143000"/>
            <a:ext cx="2201760" cy="882720"/>
            <a:chOff x="3381480" y="1143000"/>
            <a:chExt cx="2201760" cy="882720"/>
          </a:xfrm>
        </p:grpSpPr>
        <p:pic>
          <p:nvPicPr>
            <p:cNvPr id="124" name="Rounded Rectangle 44" descr=""/>
            <p:cNvPicPr/>
            <p:nvPr/>
          </p:nvPicPr>
          <p:blipFill>
            <a:blip r:embed="rId4"/>
            <a:stretch/>
          </p:blipFill>
          <p:spPr>
            <a:xfrm>
              <a:off x="33814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Rounded Rectangle 45"/>
            <p:cNvGrpSpPr/>
            <p:nvPr/>
          </p:nvGrpSpPr>
          <p:grpSpPr>
            <a:xfrm>
              <a:off x="3719520" y="1292040"/>
              <a:ext cx="1530000" cy="272160"/>
              <a:chOff x="3719520" y="1292040"/>
              <a:chExt cx="1530000" cy="272160"/>
            </a:xfrm>
          </p:grpSpPr>
          <p:pic>
            <p:nvPicPr>
              <p:cNvPr id="126" name="Rounded Rectangle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3719520" y="1292040"/>
                <a:ext cx="153000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7378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128" name="Rounded Rectangle 46"/>
            <p:cNvSpPr/>
            <p:nvPr/>
          </p:nvSpPr>
          <p:spPr>
            <a:xfrm>
              <a:off x="37080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Visual Basic 9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29" name="Group 47"/>
          <p:cNvGrpSpPr/>
          <p:nvPr/>
        </p:nvGrpSpPr>
        <p:grpSpPr>
          <a:xfrm>
            <a:off x="5762520" y="1143000"/>
            <a:ext cx="2202120" cy="882720"/>
            <a:chOff x="5762520" y="1143000"/>
            <a:chExt cx="2202120" cy="882720"/>
          </a:xfrm>
        </p:grpSpPr>
        <p:pic>
          <p:nvPicPr>
            <p:cNvPr id="130" name="Rounded Rectangle 48" descr=""/>
            <p:cNvPicPr/>
            <p:nvPr/>
          </p:nvPicPr>
          <p:blipFill>
            <a:blip r:embed="rId6"/>
            <a:stretch/>
          </p:blipFill>
          <p:spPr>
            <a:xfrm>
              <a:off x="5762520" y="1143000"/>
              <a:ext cx="220212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Rounded Rectangle 49"/>
            <p:cNvGrpSpPr/>
            <p:nvPr/>
          </p:nvGrpSpPr>
          <p:grpSpPr>
            <a:xfrm>
              <a:off x="6104880" y="1292040"/>
              <a:ext cx="1526040" cy="272160"/>
              <a:chOff x="6104880" y="1292040"/>
              <a:chExt cx="1526040" cy="272160"/>
            </a:xfrm>
          </p:grpSpPr>
          <p:pic>
            <p:nvPicPr>
              <p:cNvPr id="132" name="Rounded Rectangle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4880" y="1292040"/>
                <a:ext cx="152604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6121800" y="1299960"/>
                <a:ext cx="14918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134" name="Rounded Rectangle 50"/>
            <p:cNvSpPr/>
            <p:nvPr/>
          </p:nvSpPr>
          <p:spPr>
            <a:xfrm>
              <a:off x="609192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Others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35" name="Rounded Rectangle 53"/>
          <p:cNvGrpSpPr/>
          <p:nvPr/>
        </p:nvGrpSpPr>
        <p:grpSpPr>
          <a:xfrm>
            <a:off x="414360" y="2212920"/>
            <a:ext cx="8077320" cy="2498760"/>
            <a:chOff x="414360" y="2212920"/>
            <a:chExt cx="8077320" cy="2498760"/>
          </a:xfrm>
        </p:grpSpPr>
        <p:pic>
          <p:nvPicPr>
            <p:cNvPr id="136" name="Rounded Rectangle 53" descr=""/>
            <p:cNvPicPr/>
            <p:nvPr/>
          </p:nvPicPr>
          <p:blipFill>
            <a:blip r:embed="rId8"/>
            <a:stretch/>
          </p:blipFill>
          <p:spPr>
            <a:xfrm>
              <a:off x="414360" y="2212920"/>
              <a:ext cx="807732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68360" y="2262240"/>
              <a:ext cx="796932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egoe"/>
                </a:rPr>
                <a:t>.NET Language Integrated Query</a:t>
              </a:r>
              <a:endParaRPr b="0" lang="en-US" sz="22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pic>
        <p:nvPicPr>
          <p:cNvPr id="138" name="Group 55" descr=""/>
          <p:cNvPicPr/>
          <p:nvPr/>
        </p:nvPicPr>
        <p:blipFill>
          <a:blip r:embed="rId9"/>
          <a:stretch/>
        </p:blipFill>
        <p:spPr>
          <a:xfrm>
            <a:off x="17136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139" name="Group 63" descr=""/>
          <p:cNvPicPr/>
          <p:nvPr/>
        </p:nvPicPr>
        <p:blipFill>
          <a:blip r:embed="rId10"/>
          <a:stretch/>
        </p:blipFill>
        <p:spPr>
          <a:xfrm>
            <a:off x="17366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140" name="Group 67" descr=""/>
          <p:cNvPicPr/>
          <p:nvPr/>
        </p:nvPicPr>
        <p:blipFill>
          <a:blip r:embed="rId11"/>
          <a:stretch/>
        </p:blipFill>
        <p:spPr>
          <a:xfrm>
            <a:off x="33098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141" name="Group 71" descr=""/>
          <p:cNvPicPr/>
          <p:nvPr/>
        </p:nvPicPr>
        <p:blipFill>
          <a:blip r:embed="rId12"/>
          <a:stretch/>
        </p:blipFill>
        <p:spPr>
          <a:xfrm>
            <a:off x="488304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142" name="Group 75" descr=""/>
          <p:cNvPicPr/>
          <p:nvPr/>
        </p:nvPicPr>
        <p:blipFill>
          <a:blip r:embed="rId13"/>
          <a:stretch/>
        </p:blipFill>
        <p:spPr>
          <a:xfrm>
            <a:off x="6407280" y="2475000"/>
            <a:ext cx="2322360" cy="3998880"/>
          </a:xfrm>
          <a:prstGeom prst="rect">
            <a:avLst/>
          </a:prstGeom>
          <a:ln w="0">
            <a:noFill/>
          </a:ln>
        </p:spPr>
      </p:pic>
      <p:pic>
        <p:nvPicPr>
          <p:cNvPr id="143" name="Group 5" descr=""/>
          <p:cNvPicPr/>
          <p:nvPr/>
        </p:nvPicPr>
        <p:blipFill>
          <a:blip r:embed="rId14"/>
          <a:stretch/>
        </p:blipFill>
        <p:spPr>
          <a:xfrm>
            <a:off x="682560" y="5041800"/>
            <a:ext cx="1322280" cy="1517760"/>
          </a:xfrm>
          <a:prstGeom prst="rect">
            <a:avLst/>
          </a:prstGeom>
          <a:ln w="0">
            <a:noFill/>
          </a:ln>
        </p:spPr>
      </p:pic>
      <p:pic>
        <p:nvPicPr>
          <p:cNvPr id="144" name="Group 14" descr=""/>
          <p:cNvPicPr/>
          <p:nvPr/>
        </p:nvPicPr>
        <p:blipFill>
          <a:blip r:embed="rId15"/>
          <a:stretch/>
        </p:blipFill>
        <p:spPr>
          <a:xfrm>
            <a:off x="7175520" y="4919760"/>
            <a:ext cx="834840" cy="1657080"/>
          </a:xfrm>
          <a:prstGeom prst="rect">
            <a:avLst/>
          </a:prstGeom>
          <a:ln w="0">
            <a:noFill/>
          </a:ln>
        </p:spPr>
      </p:pic>
      <p:pic>
        <p:nvPicPr>
          <p:cNvPr id="145" name="Group 21" descr=""/>
          <p:cNvPicPr/>
          <p:nvPr/>
        </p:nvPicPr>
        <p:blipFill>
          <a:blip r:embed="rId16"/>
          <a:stretch/>
        </p:blipFill>
        <p:spPr>
          <a:xfrm>
            <a:off x="3749760" y="4979880"/>
            <a:ext cx="149868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Object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pSp>
        <p:nvGrpSpPr>
          <p:cNvPr id="147" name="Group 35"/>
          <p:cNvGrpSpPr/>
          <p:nvPr/>
        </p:nvGrpSpPr>
        <p:grpSpPr>
          <a:xfrm>
            <a:off x="1000080" y="1143000"/>
            <a:ext cx="2201760" cy="882720"/>
            <a:chOff x="1000080" y="1143000"/>
            <a:chExt cx="2201760" cy="882720"/>
          </a:xfrm>
        </p:grpSpPr>
        <p:pic>
          <p:nvPicPr>
            <p:cNvPr id="148" name="Rounded Rectangle 36" descr=""/>
            <p:cNvPicPr/>
            <p:nvPr/>
          </p:nvPicPr>
          <p:blipFill>
            <a:blip r:embed="rId2"/>
            <a:stretch/>
          </p:blipFill>
          <p:spPr>
            <a:xfrm>
              <a:off x="10000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Rounded Rectangle 37"/>
            <p:cNvGrpSpPr/>
            <p:nvPr/>
          </p:nvGrpSpPr>
          <p:grpSpPr>
            <a:xfrm>
              <a:off x="1342440" y="1292040"/>
              <a:ext cx="1525680" cy="272160"/>
              <a:chOff x="1342440" y="1292040"/>
              <a:chExt cx="1525680" cy="272160"/>
            </a:xfrm>
          </p:grpSpPr>
          <p:pic>
            <p:nvPicPr>
              <p:cNvPr id="150" name="Rounded Rectangle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2440" y="1292040"/>
                <a:ext cx="152568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3582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152" name="Rounded Rectangle 38"/>
            <p:cNvSpPr/>
            <p:nvPr/>
          </p:nvSpPr>
          <p:spPr>
            <a:xfrm>
              <a:off x="13284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C# 3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53" name="Group 43"/>
          <p:cNvGrpSpPr/>
          <p:nvPr/>
        </p:nvGrpSpPr>
        <p:grpSpPr>
          <a:xfrm>
            <a:off x="3381480" y="1143000"/>
            <a:ext cx="2201760" cy="882720"/>
            <a:chOff x="3381480" y="1143000"/>
            <a:chExt cx="2201760" cy="882720"/>
          </a:xfrm>
        </p:grpSpPr>
        <p:pic>
          <p:nvPicPr>
            <p:cNvPr id="154" name="Rounded Rectangle 44" descr=""/>
            <p:cNvPicPr/>
            <p:nvPr/>
          </p:nvPicPr>
          <p:blipFill>
            <a:blip r:embed="rId4"/>
            <a:stretch/>
          </p:blipFill>
          <p:spPr>
            <a:xfrm>
              <a:off x="33814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Rounded Rectangle 45"/>
            <p:cNvGrpSpPr/>
            <p:nvPr/>
          </p:nvGrpSpPr>
          <p:grpSpPr>
            <a:xfrm>
              <a:off x="3719520" y="1292040"/>
              <a:ext cx="1530000" cy="272160"/>
              <a:chOff x="3719520" y="1292040"/>
              <a:chExt cx="1530000" cy="272160"/>
            </a:xfrm>
          </p:grpSpPr>
          <p:pic>
            <p:nvPicPr>
              <p:cNvPr id="156" name="Rounded Rectangle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3719520" y="1292040"/>
                <a:ext cx="153000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7378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158" name="Rounded Rectangle 46"/>
            <p:cNvSpPr/>
            <p:nvPr/>
          </p:nvSpPr>
          <p:spPr>
            <a:xfrm>
              <a:off x="37080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Visual Basic 9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59" name="Group 47"/>
          <p:cNvGrpSpPr/>
          <p:nvPr/>
        </p:nvGrpSpPr>
        <p:grpSpPr>
          <a:xfrm>
            <a:off x="5762520" y="1143000"/>
            <a:ext cx="2202120" cy="882720"/>
            <a:chOff x="5762520" y="1143000"/>
            <a:chExt cx="2202120" cy="882720"/>
          </a:xfrm>
        </p:grpSpPr>
        <p:pic>
          <p:nvPicPr>
            <p:cNvPr id="160" name="Rounded Rectangle 48" descr=""/>
            <p:cNvPicPr/>
            <p:nvPr/>
          </p:nvPicPr>
          <p:blipFill>
            <a:blip r:embed="rId6"/>
            <a:stretch/>
          </p:blipFill>
          <p:spPr>
            <a:xfrm>
              <a:off x="5762520" y="1143000"/>
              <a:ext cx="220212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Rounded Rectangle 49"/>
            <p:cNvGrpSpPr/>
            <p:nvPr/>
          </p:nvGrpSpPr>
          <p:grpSpPr>
            <a:xfrm>
              <a:off x="6104880" y="1292040"/>
              <a:ext cx="1526040" cy="272160"/>
              <a:chOff x="6104880" y="1292040"/>
              <a:chExt cx="1526040" cy="272160"/>
            </a:xfrm>
          </p:grpSpPr>
          <p:pic>
            <p:nvPicPr>
              <p:cNvPr id="162" name="Rounded Rectangle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4880" y="1292040"/>
                <a:ext cx="152604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6121800" y="1299960"/>
                <a:ext cx="14918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164" name="Rounded Rectangle 50"/>
            <p:cNvSpPr/>
            <p:nvPr/>
          </p:nvSpPr>
          <p:spPr>
            <a:xfrm>
              <a:off x="609192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Others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65" name="Rounded Rectangle 53"/>
          <p:cNvGrpSpPr/>
          <p:nvPr/>
        </p:nvGrpSpPr>
        <p:grpSpPr>
          <a:xfrm>
            <a:off x="414360" y="2212920"/>
            <a:ext cx="8077320" cy="2498760"/>
            <a:chOff x="414360" y="2212920"/>
            <a:chExt cx="8077320" cy="2498760"/>
          </a:xfrm>
        </p:grpSpPr>
        <p:pic>
          <p:nvPicPr>
            <p:cNvPr id="166" name="Rounded Rectangle 53" descr=""/>
            <p:cNvPicPr/>
            <p:nvPr/>
          </p:nvPicPr>
          <p:blipFill>
            <a:blip r:embed="rId8"/>
            <a:stretch/>
          </p:blipFill>
          <p:spPr>
            <a:xfrm>
              <a:off x="414360" y="2212920"/>
              <a:ext cx="807732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8360" y="2262240"/>
              <a:ext cx="796932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egoe"/>
                </a:rPr>
                <a:t>.NET Language Integrated Query</a:t>
              </a:r>
              <a:endParaRPr b="0" lang="en-US" sz="22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pic>
        <p:nvPicPr>
          <p:cNvPr id="168" name="Group 55" descr=""/>
          <p:cNvPicPr/>
          <p:nvPr/>
        </p:nvPicPr>
        <p:blipFill>
          <a:blip r:embed="rId9"/>
          <a:stretch/>
        </p:blipFill>
        <p:spPr>
          <a:xfrm>
            <a:off x="17136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169" name="Group 63" descr=""/>
          <p:cNvPicPr/>
          <p:nvPr/>
        </p:nvPicPr>
        <p:blipFill>
          <a:blip r:embed="rId10"/>
          <a:stretch/>
        </p:blipFill>
        <p:spPr>
          <a:xfrm>
            <a:off x="17366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170" name="Group 67" descr=""/>
          <p:cNvPicPr/>
          <p:nvPr/>
        </p:nvPicPr>
        <p:blipFill>
          <a:blip r:embed="rId11"/>
          <a:stretch/>
        </p:blipFill>
        <p:spPr>
          <a:xfrm>
            <a:off x="33098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171" name="Group 71" descr=""/>
          <p:cNvPicPr/>
          <p:nvPr/>
        </p:nvPicPr>
        <p:blipFill>
          <a:blip r:embed="rId12"/>
          <a:stretch/>
        </p:blipFill>
        <p:spPr>
          <a:xfrm>
            <a:off x="488304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172" name="Group 75" descr=""/>
          <p:cNvPicPr/>
          <p:nvPr/>
        </p:nvPicPr>
        <p:blipFill>
          <a:blip r:embed="rId13"/>
          <a:stretch/>
        </p:blipFill>
        <p:spPr>
          <a:xfrm>
            <a:off x="6407280" y="2475000"/>
            <a:ext cx="2322360" cy="3998880"/>
          </a:xfrm>
          <a:prstGeom prst="rect">
            <a:avLst/>
          </a:prstGeom>
          <a:ln w="0">
            <a:noFill/>
          </a:ln>
        </p:spPr>
      </p:pic>
      <p:pic>
        <p:nvPicPr>
          <p:cNvPr id="173" name="Group 5" descr=""/>
          <p:cNvPicPr/>
          <p:nvPr/>
        </p:nvPicPr>
        <p:blipFill>
          <a:blip r:embed="rId14"/>
          <a:stretch/>
        </p:blipFill>
        <p:spPr>
          <a:xfrm>
            <a:off x="682560" y="5041800"/>
            <a:ext cx="1322280" cy="151776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4" descr=""/>
          <p:cNvPicPr/>
          <p:nvPr/>
        </p:nvPicPr>
        <p:blipFill>
          <a:blip r:embed="rId15"/>
          <a:stretch/>
        </p:blipFill>
        <p:spPr>
          <a:xfrm>
            <a:off x="7175520" y="4919760"/>
            <a:ext cx="834840" cy="1657080"/>
          </a:xfrm>
          <a:prstGeom prst="rect">
            <a:avLst/>
          </a:prstGeom>
          <a:ln w="0">
            <a:noFill/>
          </a:ln>
        </p:spPr>
      </p:pic>
      <p:pic>
        <p:nvPicPr>
          <p:cNvPr id="175" name="Group 21" descr=""/>
          <p:cNvPicPr/>
          <p:nvPr/>
        </p:nvPicPr>
        <p:blipFill>
          <a:blip r:embed="rId16"/>
          <a:stretch/>
        </p:blipFill>
        <p:spPr>
          <a:xfrm>
            <a:off x="3749760" y="4979880"/>
            <a:ext cx="14986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7"/>
          <p:cNvGrpSpPr/>
          <p:nvPr/>
        </p:nvGrpSpPr>
        <p:grpSpPr>
          <a:xfrm>
            <a:off x="3809880" y="1371600"/>
            <a:ext cx="5105520" cy="5105520"/>
            <a:chOff x="3809880" y="1371600"/>
            <a:chExt cx="5105520" cy="5105520"/>
          </a:xfrm>
        </p:grpSpPr>
        <p:sp>
          <p:nvSpPr>
            <p:cNvPr id="177" name="Rectangle 14"/>
            <p:cNvSpPr/>
            <p:nvPr/>
          </p:nvSpPr>
          <p:spPr>
            <a:xfrm>
              <a:off x="3809880" y="1371600"/>
              <a:ext cx="5105520" cy="5105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Query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Collections.Generic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app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 void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in()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de-D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names = { "Allen", "Arthur", 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"Bennett" }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ayes = names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here(s =&gt; s[0] == 'A'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yes)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Conso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riteLine(item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ames[0] = "Bob"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yes)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Conso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riteLine(item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rthur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</p:txBody>
        </p:sp>
        <p:sp>
          <p:nvSpPr>
            <p:cNvPr id="178" name="Bent Arrow 13"/>
            <p:cNvSpPr/>
            <p:nvPr/>
          </p:nvSpPr>
          <p:spPr>
            <a:xfrm rot="10800000">
              <a:off x="4644360" y="4724280"/>
              <a:ext cx="2746440" cy="990360"/>
            </a:xfrm>
            <a:prstGeom prst="pie">
              <a:avLst/>
            </a:prstGeom>
            <a:solidFill>
              <a:srgbClr val="f37720"/>
            </a:solidFill>
            <a:ln w="25560">
              <a:solidFill>
                <a:srgbClr val="b356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Object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1360" y="142236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9880" indent="-5698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Native query syntax in C# and VB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969840" indent="-5698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IntelliSens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969840" indent="-5698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utocompletion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69880" indent="-5698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Query Operators can be used against any .NET collection (IEnumerable&lt;T&gt;)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969840" indent="-5698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Select, Where, GroupBy, Join, etc.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69880" indent="-5698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Deferred Query Evaluation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69880" indent="-5698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Lambda Expression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3809880" y="1371600"/>
            <a:ext cx="5105520" cy="5105520"/>
            <a:chOff x="3809880" y="1371600"/>
            <a:chExt cx="5105520" cy="5105520"/>
          </a:xfrm>
        </p:grpSpPr>
        <p:sp>
          <p:nvSpPr>
            <p:cNvPr id="182" name="Rectangle 6"/>
            <p:cNvSpPr/>
            <p:nvPr/>
          </p:nvSpPr>
          <p:spPr>
            <a:xfrm>
              <a:off x="3809880" y="1371600"/>
              <a:ext cx="5105520" cy="5105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Query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Collections.Generic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app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 void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in()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de-D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names = { "Allen", "Arthur", 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"Bennett" }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ayes = names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here(s =&gt; s[0] == 'A'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yes)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Conso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riteLine(item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ames[0] = "Bob"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yes)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Conso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riteLine(item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len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rthur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</p:txBody>
        </p:sp>
        <p:sp>
          <p:nvSpPr>
            <p:cNvPr id="183" name="Bent Arrow 7"/>
            <p:cNvSpPr/>
            <p:nvPr/>
          </p:nvSpPr>
          <p:spPr>
            <a:xfrm rot="10800000">
              <a:off x="4604760" y="3809880"/>
              <a:ext cx="2786040" cy="1998720"/>
            </a:xfrm>
            <a:prstGeom prst="pie">
              <a:avLst/>
            </a:prstGeom>
            <a:solidFill>
              <a:srgbClr val="f37720"/>
            </a:solidFill>
            <a:ln w="25560">
              <a:solidFill>
                <a:srgbClr val="b356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84" name="Group 12"/>
          <p:cNvGrpSpPr/>
          <p:nvPr/>
        </p:nvGrpSpPr>
        <p:grpSpPr>
          <a:xfrm>
            <a:off x="3809880" y="1371600"/>
            <a:ext cx="5105520" cy="5105520"/>
            <a:chOff x="3809880" y="1371600"/>
            <a:chExt cx="5105520" cy="5105520"/>
          </a:xfrm>
        </p:grpSpPr>
        <p:sp>
          <p:nvSpPr>
            <p:cNvPr id="185" name="Rectangle 4"/>
            <p:cNvSpPr/>
            <p:nvPr/>
          </p:nvSpPr>
          <p:spPr>
            <a:xfrm>
              <a:off x="3809880" y="1371600"/>
              <a:ext cx="5105520" cy="5105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Query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Collections.Generic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app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 void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in()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names = { "Burke", "Connor",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"Frank", "Everett",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"Albert", "George",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Harris", "David" }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xpr =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ro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ames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wher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.Length == 5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rderby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l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.ToUpper(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expr)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Conso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riteLine(item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URKE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VID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RANK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</p:txBody>
        </p:sp>
        <p:sp>
          <p:nvSpPr>
            <p:cNvPr id="186" name="Bent Arrow 9"/>
            <p:cNvSpPr/>
            <p:nvPr/>
          </p:nvSpPr>
          <p:spPr>
            <a:xfrm rot="10800000">
              <a:off x="4619160" y="4647960"/>
              <a:ext cx="2543400" cy="1647720"/>
            </a:xfrm>
            <a:prstGeom prst="pie">
              <a:avLst/>
            </a:prstGeom>
            <a:solidFill>
              <a:srgbClr val="f37720"/>
            </a:solidFill>
            <a:ln w="25560">
              <a:solidFill>
                <a:srgbClr val="b356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3809880" y="1371600"/>
            <a:ext cx="5105520" cy="5105520"/>
            <a:chOff x="3809880" y="1371600"/>
            <a:chExt cx="5105520" cy="5105520"/>
          </a:xfrm>
        </p:grpSpPr>
        <p:sp>
          <p:nvSpPr>
            <p:cNvPr id="188" name="Rectangle 18"/>
            <p:cNvSpPr/>
            <p:nvPr/>
          </p:nvSpPr>
          <p:spPr>
            <a:xfrm>
              <a:off x="3809880" y="1371600"/>
              <a:ext cx="5105520" cy="5105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Query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Collections.Generic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app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 void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in()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names = { "Burke", "Connor",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"Frank", "Everett",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"Albert", "George",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Harris", "David" }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Fun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bool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filter = s =&gt; s.Length == 5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Fun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xtract = s =&gt; s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Fun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project = s = s.ToUpper(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xpr = names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here(filter)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OrderBy(extract)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Select(project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expr)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Conso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riteLine(item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URKE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VID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RANK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</p:txBody>
        </p:sp>
        <p:sp>
          <p:nvSpPr>
            <p:cNvPr id="189" name="Bent Arrow 16"/>
            <p:cNvSpPr/>
            <p:nvPr/>
          </p:nvSpPr>
          <p:spPr>
            <a:xfrm rot="10800000">
              <a:off x="4461840" y="4953240"/>
              <a:ext cx="2776680" cy="1317600"/>
            </a:xfrm>
            <a:prstGeom prst="pie">
              <a:avLst/>
            </a:prstGeom>
            <a:solidFill>
              <a:srgbClr val="f37720"/>
            </a:solidFill>
            <a:ln w="25560">
              <a:solidFill>
                <a:srgbClr val="b356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SQL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pSp>
        <p:nvGrpSpPr>
          <p:cNvPr id="191" name="Group 35"/>
          <p:cNvGrpSpPr/>
          <p:nvPr/>
        </p:nvGrpSpPr>
        <p:grpSpPr>
          <a:xfrm>
            <a:off x="1000080" y="1143000"/>
            <a:ext cx="2201760" cy="882720"/>
            <a:chOff x="1000080" y="1143000"/>
            <a:chExt cx="2201760" cy="882720"/>
          </a:xfrm>
        </p:grpSpPr>
        <p:pic>
          <p:nvPicPr>
            <p:cNvPr id="192" name="Rounded Rectangle 36" descr=""/>
            <p:cNvPicPr/>
            <p:nvPr/>
          </p:nvPicPr>
          <p:blipFill>
            <a:blip r:embed="rId2"/>
            <a:stretch/>
          </p:blipFill>
          <p:spPr>
            <a:xfrm>
              <a:off x="10000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Rounded Rectangle 37"/>
            <p:cNvGrpSpPr/>
            <p:nvPr/>
          </p:nvGrpSpPr>
          <p:grpSpPr>
            <a:xfrm>
              <a:off x="1342440" y="1292040"/>
              <a:ext cx="1525680" cy="272160"/>
              <a:chOff x="1342440" y="1292040"/>
              <a:chExt cx="1525680" cy="272160"/>
            </a:xfrm>
          </p:grpSpPr>
          <p:pic>
            <p:nvPicPr>
              <p:cNvPr id="194" name="Rounded Rectangle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2440" y="1292040"/>
                <a:ext cx="152568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13582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196" name="Rounded Rectangle 38"/>
            <p:cNvSpPr/>
            <p:nvPr/>
          </p:nvSpPr>
          <p:spPr>
            <a:xfrm>
              <a:off x="13284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C# 3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197" name="Group 43"/>
          <p:cNvGrpSpPr/>
          <p:nvPr/>
        </p:nvGrpSpPr>
        <p:grpSpPr>
          <a:xfrm>
            <a:off x="3381480" y="1143000"/>
            <a:ext cx="2201760" cy="882720"/>
            <a:chOff x="3381480" y="1143000"/>
            <a:chExt cx="2201760" cy="882720"/>
          </a:xfrm>
        </p:grpSpPr>
        <p:pic>
          <p:nvPicPr>
            <p:cNvPr id="198" name="Rounded Rectangle 44" descr=""/>
            <p:cNvPicPr/>
            <p:nvPr/>
          </p:nvPicPr>
          <p:blipFill>
            <a:blip r:embed="rId4"/>
            <a:stretch/>
          </p:blipFill>
          <p:spPr>
            <a:xfrm>
              <a:off x="33814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Rounded Rectangle 45"/>
            <p:cNvGrpSpPr/>
            <p:nvPr/>
          </p:nvGrpSpPr>
          <p:grpSpPr>
            <a:xfrm>
              <a:off x="3719520" y="1292040"/>
              <a:ext cx="1530000" cy="272160"/>
              <a:chOff x="3719520" y="1292040"/>
              <a:chExt cx="1530000" cy="272160"/>
            </a:xfrm>
          </p:grpSpPr>
          <p:pic>
            <p:nvPicPr>
              <p:cNvPr id="200" name="Rounded Rectangle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3719520" y="1292040"/>
                <a:ext cx="153000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37378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202" name="Rounded Rectangle 46"/>
            <p:cNvSpPr/>
            <p:nvPr/>
          </p:nvSpPr>
          <p:spPr>
            <a:xfrm>
              <a:off x="37080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Visual Basic 9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203" name="Group 47"/>
          <p:cNvGrpSpPr/>
          <p:nvPr/>
        </p:nvGrpSpPr>
        <p:grpSpPr>
          <a:xfrm>
            <a:off x="5762520" y="1143000"/>
            <a:ext cx="2202120" cy="882720"/>
            <a:chOff x="5762520" y="1143000"/>
            <a:chExt cx="2202120" cy="882720"/>
          </a:xfrm>
        </p:grpSpPr>
        <p:pic>
          <p:nvPicPr>
            <p:cNvPr id="204" name="Rounded Rectangle 48" descr=""/>
            <p:cNvPicPr/>
            <p:nvPr/>
          </p:nvPicPr>
          <p:blipFill>
            <a:blip r:embed="rId6"/>
            <a:stretch/>
          </p:blipFill>
          <p:spPr>
            <a:xfrm>
              <a:off x="5762520" y="1143000"/>
              <a:ext cx="220212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Rounded Rectangle 49"/>
            <p:cNvGrpSpPr/>
            <p:nvPr/>
          </p:nvGrpSpPr>
          <p:grpSpPr>
            <a:xfrm>
              <a:off x="6104880" y="1292040"/>
              <a:ext cx="1526040" cy="272160"/>
              <a:chOff x="6104880" y="1292040"/>
              <a:chExt cx="1526040" cy="272160"/>
            </a:xfrm>
          </p:grpSpPr>
          <p:pic>
            <p:nvPicPr>
              <p:cNvPr id="206" name="Rounded Rectangle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4880" y="1292040"/>
                <a:ext cx="152604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6121800" y="1299960"/>
                <a:ext cx="14918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208" name="Rounded Rectangle 50"/>
            <p:cNvSpPr/>
            <p:nvPr/>
          </p:nvSpPr>
          <p:spPr>
            <a:xfrm>
              <a:off x="609192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Others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209" name="Rounded Rectangle 53"/>
          <p:cNvGrpSpPr/>
          <p:nvPr/>
        </p:nvGrpSpPr>
        <p:grpSpPr>
          <a:xfrm>
            <a:off x="414360" y="2212920"/>
            <a:ext cx="8077320" cy="2498760"/>
            <a:chOff x="414360" y="2212920"/>
            <a:chExt cx="8077320" cy="2498760"/>
          </a:xfrm>
        </p:grpSpPr>
        <p:pic>
          <p:nvPicPr>
            <p:cNvPr id="210" name="Rounded Rectangle 53" descr=""/>
            <p:cNvPicPr/>
            <p:nvPr/>
          </p:nvPicPr>
          <p:blipFill>
            <a:blip r:embed="rId8"/>
            <a:stretch/>
          </p:blipFill>
          <p:spPr>
            <a:xfrm>
              <a:off x="414360" y="2212920"/>
              <a:ext cx="807732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68360" y="2262240"/>
              <a:ext cx="796932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egoe"/>
                </a:rPr>
                <a:t>.NET Language Integrated Query</a:t>
              </a:r>
              <a:endParaRPr b="0" lang="en-US" sz="22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pic>
        <p:nvPicPr>
          <p:cNvPr id="212" name="Group 55" descr=""/>
          <p:cNvPicPr/>
          <p:nvPr/>
        </p:nvPicPr>
        <p:blipFill>
          <a:blip r:embed="rId9"/>
          <a:stretch/>
        </p:blipFill>
        <p:spPr>
          <a:xfrm>
            <a:off x="17136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213" name="Group 63" descr=""/>
          <p:cNvPicPr/>
          <p:nvPr/>
        </p:nvPicPr>
        <p:blipFill>
          <a:blip r:embed="rId10"/>
          <a:stretch/>
        </p:blipFill>
        <p:spPr>
          <a:xfrm>
            <a:off x="17366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214" name="Group 67" descr=""/>
          <p:cNvPicPr/>
          <p:nvPr/>
        </p:nvPicPr>
        <p:blipFill>
          <a:blip r:embed="rId11"/>
          <a:stretch/>
        </p:blipFill>
        <p:spPr>
          <a:xfrm>
            <a:off x="33098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1" descr=""/>
          <p:cNvPicPr/>
          <p:nvPr/>
        </p:nvPicPr>
        <p:blipFill>
          <a:blip r:embed="rId12"/>
          <a:stretch/>
        </p:blipFill>
        <p:spPr>
          <a:xfrm>
            <a:off x="488304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216" name="Group 75" descr=""/>
          <p:cNvPicPr/>
          <p:nvPr/>
        </p:nvPicPr>
        <p:blipFill>
          <a:blip r:embed="rId13"/>
          <a:stretch/>
        </p:blipFill>
        <p:spPr>
          <a:xfrm>
            <a:off x="6407280" y="2475000"/>
            <a:ext cx="2322360" cy="3998880"/>
          </a:xfrm>
          <a:prstGeom prst="rect">
            <a:avLst/>
          </a:prstGeom>
          <a:ln w="0">
            <a:noFill/>
          </a:ln>
        </p:spPr>
      </p:pic>
      <p:pic>
        <p:nvPicPr>
          <p:cNvPr id="217" name="Group 5" descr=""/>
          <p:cNvPicPr/>
          <p:nvPr/>
        </p:nvPicPr>
        <p:blipFill>
          <a:blip r:embed="rId14"/>
          <a:stretch/>
        </p:blipFill>
        <p:spPr>
          <a:xfrm>
            <a:off x="682560" y="5041800"/>
            <a:ext cx="1322280" cy="1517760"/>
          </a:xfrm>
          <a:prstGeom prst="rect">
            <a:avLst/>
          </a:prstGeom>
          <a:ln w="0">
            <a:noFill/>
          </a:ln>
        </p:spPr>
      </p:pic>
      <p:pic>
        <p:nvPicPr>
          <p:cNvPr id="218" name="Group 14" descr=""/>
          <p:cNvPicPr/>
          <p:nvPr/>
        </p:nvPicPr>
        <p:blipFill>
          <a:blip r:embed="rId15"/>
          <a:stretch/>
        </p:blipFill>
        <p:spPr>
          <a:xfrm>
            <a:off x="7175520" y="4919760"/>
            <a:ext cx="834840" cy="165708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1" descr=""/>
          <p:cNvPicPr/>
          <p:nvPr/>
        </p:nvPicPr>
        <p:blipFill>
          <a:blip r:embed="rId16"/>
          <a:stretch/>
        </p:blipFill>
        <p:spPr>
          <a:xfrm>
            <a:off x="3749760" y="4979880"/>
            <a:ext cx="14986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SQL Overview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ORM Designer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Maps Relational Structures to Classe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Delay Load for Expensive Valu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Can disable universally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Enable for specific item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Segoe"/>
              </a:rPr>
              <a:t>DataShape 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pplied to </a:t>
            </a:r>
            <a:r>
              <a:rPr b="0" i="1" lang="en-US" sz="2000" spc="-1" strike="noStrike">
                <a:solidFill>
                  <a:srgbClr val="ffffff"/>
                </a:solidFill>
                <a:latin typeface="Segoe"/>
              </a:rPr>
              <a:t>DataContext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Tables Have CRUD Definitions (Default = use runtime)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Can instead point to stored procedure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traight Arrow Connector 28" descr=""/>
          <p:cNvPicPr/>
          <p:nvPr/>
        </p:nvPicPr>
        <p:blipFill>
          <a:blip r:embed="rId2"/>
          <a:stretch/>
        </p:blipFill>
        <p:spPr>
          <a:xfrm>
            <a:off x="5078520" y="4071960"/>
            <a:ext cx="487080" cy="1500120"/>
          </a:xfrm>
          <a:prstGeom prst="rect">
            <a:avLst/>
          </a:prstGeom>
          <a:ln w="0">
            <a:noFill/>
          </a:ln>
        </p:spPr>
      </p:pic>
      <p:pic>
        <p:nvPicPr>
          <p:cNvPr id="223" name="Straight Arrow Connector 29" descr=""/>
          <p:cNvPicPr/>
          <p:nvPr/>
        </p:nvPicPr>
        <p:blipFill>
          <a:blip r:embed="rId3"/>
          <a:stretch/>
        </p:blipFill>
        <p:spPr>
          <a:xfrm>
            <a:off x="5078520" y="2036880"/>
            <a:ext cx="487080" cy="1498320"/>
          </a:xfrm>
          <a:prstGeom prst="rect">
            <a:avLst/>
          </a:prstGeom>
          <a:ln w="0">
            <a:noFill/>
          </a:ln>
        </p:spPr>
      </p:pic>
      <p:pic>
        <p:nvPicPr>
          <p:cNvPr id="224" name="Straight Arrow Connector 26" descr=""/>
          <p:cNvPicPr/>
          <p:nvPr/>
        </p:nvPicPr>
        <p:blipFill>
          <a:blip r:embed="rId4"/>
          <a:stretch/>
        </p:blipFill>
        <p:spPr>
          <a:xfrm>
            <a:off x="3840120" y="3943440"/>
            <a:ext cx="487440" cy="1506600"/>
          </a:xfrm>
          <a:prstGeom prst="rect">
            <a:avLst/>
          </a:prstGeom>
          <a:ln w="0">
            <a:noFill/>
          </a:ln>
        </p:spPr>
      </p:pic>
      <p:pic>
        <p:nvPicPr>
          <p:cNvPr id="225" name="Straight Arrow Connector 27" descr=""/>
          <p:cNvPicPr/>
          <p:nvPr/>
        </p:nvPicPr>
        <p:blipFill>
          <a:blip r:embed="rId5"/>
          <a:stretch/>
        </p:blipFill>
        <p:spPr>
          <a:xfrm>
            <a:off x="3840120" y="1908000"/>
            <a:ext cx="487440" cy="1505160"/>
          </a:xfrm>
          <a:prstGeom prst="rect">
            <a:avLst/>
          </a:prstGeom>
          <a:ln w="0">
            <a:noFill/>
          </a:ln>
        </p:spPr>
      </p:pic>
      <p:pic>
        <p:nvPicPr>
          <p:cNvPr id="226" name="Straight Arrow Connector 25" descr=""/>
          <p:cNvPicPr/>
          <p:nvPr/>
        </p:nvPicPr>
        <p:blipFill>
          <a:blip r:embed="rId6"/>
          <a:stretch/>
        </p:blipFill>
        <p:spPr>
          <a:xfrm>
            <a:off x="3462480" y="4071960"/>
            <a:ext cx="487080" cy="1500120"/>
          </a:xfrm>
          <a:prstGeom prst="rect">
            <a:avLst/>
          </a:prstGeom>
          <a:ln w="0">
            <a:noFill/>
          </a:ln>
        </p:spPr>
      </p:pic>
      <p:pic>
        <p:nvPicPr>
          <p:cNvPr id="227" name="Straight Arrow Connector 24" descr=""/>
          <p:cNvPicPr/>
          <p:nvPr/>
        </p:nvPicPr>
        <p:blipFill>
          <a:blip r:embed="rId7"/>
          <a:stretch/>
        </p:blipFill>
        <p:spPr>
          <a:xfrm>
            <a:off x="3462480" y="2036880"/>
            <a:ext cx="487080" cy="1498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SQL Architecture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pSp>
        <p:nvGrpSpPr>
          <p:cNvPr id="229" name="Group 2"/>
          <p:cNvGrpSpPr/>
          <p:nvPr/>
        </p:nvGrpSpPr>
        <p:grpSpPr>
          <a:xfrm>
            <a:off x="3417840" y="1263600"/>
            <a:ext cx="2201760" cy="889200"/>
            <a:chOff x="3417840" y="1263600"/>
            <a:chExt cx="2201760" cy="889200"/>
          </a:xfrm>
        </p:grpSpPr>
        <p:grpSp>
          <p:nvGrpSpPr>
            <p:cNvPr id="230" name="Rounded Rectangle 3"/>
            <p:cNvGrpSpPr/>
            <p:nvPr/>
          </p:nvGrpSpPr>
          <p:grpSpPr>
            <a:xfrm>
              <a:off x="3417840" y="1263600"/>
              <a:ext cx="2201760" cy="889200"/>
              <a:chOff x="3417840" y="1263600"/>
              <a:chExt cx="2201760" cy="889200"/>
            </a:xfrm>
          </p:grpSpPr>
          <p:pic>
            <p:nvPicPr>
              <p:cNvPr id="231" name="Rounded Rectangl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3417840" y="1263600"/>
                <a:ext cx="2201760" cy="88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3457440" y="1306080"/>
                <a:ext cx="2126160" cy="81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grpSp>
          <p:nvGrpSpPr>
            <p:cNvPr id="233" name="Rounded Rectangle 4"/>
            <p:cNvGrpSpPr/>
            <p:nvPr/>
          </p:nvGrpSpPr>
          <p:grpSpPr>
            <a:xfrm>
              <a:off x="3453840" y="1292760"/>
              <a:ext cx="2129760" cy="818640"/>
              <a:chOff x="3453840" y="1292760"/>
              <a:chExt cx="2129760" cy="818640"/>
            </a:xfrm>
          </p:grpSpPr>
          <p:pic>
            <p:nvPicPr>
              <p:cNvPr id="234" name="Rounded Rectangl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453840" y="1292760"/>
                <a:ext cx="2129760" cy="81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3485880" y="1322280"/>
                <a:ext cx="2070360" cy="7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grpSp>
          <p:nvGrpSpPr>
            <p:cNvPr id="236" name="Rounded Rectangle 5"/>
            <p:cNvGrpSpPr/>
            <p:nvPr/>
          </p:nvGrpSpPr>
          <p:grpSpPr>
            <a:xfrm>
              <a:off x="3423600" y="1292760"/>
              <a:ext cx="2147760" cy="830520"/>
              <a:chOff x="3423600" y="1292760"/>
              <a:chExt cx="2147760" cy="830520"/>
            </a:xfrm>
          </p:grpSpPr>
          <p:pic>
            <p:nvPicPr>
              <p:cNvPr id="237" name="Rounded Rectangle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23600" y="1292760"/>
                <a:ext cx="2147760" cy="83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463920" y="1326960"/>
                <a:ext cx="207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"/>
                  </a:rPr>
                  <a:t>Application</a:t>
                </a:r>
                <a:endParaRPr b="0" lang="en-US" sz="24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</p:grpSp>
      <p:grpSp>
        <p:nvGrpSpPr>
          <p:cNvPr id="239" name="Group 6"/>
          <p:cNvGrpSpPr/>
          <p:nvPr/>
        </p:nvGrpSpPr>
        <p:grpSpPr>
          <a:xfrm>
            <a:off x="3417840" y="3295800"/>
            <a:ext cx="2201760" cy="888840"/>
            <a:chOff x="3417840" y="3295800"/>
            <a:chExt cx="2201760" cy="888840"/>
          </a:xfrm>
        </p:grpSpPr>
        <p:grpSp>
          <p:nvGrpSpPr>
            <p:cNvPr id="240" name="Rounded Rectangle 7"/>
            <p:cNvGrpSpPr/>
            <p:nvPr/>
          </p:nvGrpSpPr>
          <p:grpSpPr>
            <a:xfrm>
              <a:off x="3417840" y="3295800"/>
              <a:ext cx="2201760" cy="888840"/>
              <a:chOff x="3417840" y="3295800"/>
              <a:chExt cx="2201760" cy="888840"/>
            </a:xfrm>
          </p:grpSpPr>
          <p:pic>
            <p:nvPicPr>
              <p:cNvPr id="241" name="Rounded Rectangle 7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17840" y="3295800"/>
                <a:ext cx="220176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3457440" y="3334320"/>
                <a:ext cx="2126160" cy="81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grpSp>
          <p:nvGrpSpPr>
            <p:cNvPr id="243" name="Rounded Rectangle 8"/>
            <p:cNvGrpSpPr/>
            <p:nvPr/>
          </p:nvGrpSpPr>
          <p:grpSpPr>
            <a:xfrm>
              <a:off x="3453840" y="3319200"/>
              <a:ext cx="2129760" cy="824400"/>
              <a:chOff x="3453840" y="3319200"/>
              <a:chExt cx="2129760" cy="824400"/>
            </a:xfrm>
          </p:grpSpPr>
          <p:pic>
            <p:nvPicPr>
              <p:cNvPr id="244" name="Rounded Rectangle 8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53840" y="3319200"/>
                <a:ext cx="2129760" cy="82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485880" y="3350880"/>
                <a:ext cx="2070360" cy="7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grpSp>
          <p:nvGrpSpPr>
            <p:cNvPr id="246" name="Rounded Rectangle 9"/>
            <p:cNvGrpSpPr/>
            <p:nvPr/>
          </p:nvGrpSpPr>
          <p:grpSpPr>
            <a:xfrm>
              <a:off x="3423600" y="3319200"/>
              <a:ext cx="2147760" cy="830160"/>
              <a:chOff x="3423600" y="3319200"/>
              <a:chExt cx="2147760" cy="830160"/>
            </a:xfrm>
          </p:grpSpPr>
          <p:pic>
            <p:nvPicPr>
              <p:cNvPr id="247" name="Rounded Rectangle 9" descr=""/>
              <p:cNvPicPr/>
              <p:nvPr/>
            </p:nvPicPr>
            <p:blipFill>
              <a:blip r:embed="rId13"/>
              <a:stretch/>
            </p:blipFill>
            <p:spPr>
              <a:xfrm>
                <a:off x="3423600" y="3319200"/>
                <a:ext cx="214776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3463920" y="3355200"/>
                <a:ext cx="207648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"/>
                  </a:rPr>
                  <a:t>LINQ to SQL</a:t>
                </a:r>
                <a:endParaRPr b="0" lang="en-US" sz="24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</p:grpSp>
      <p:pic>
        <p:nvPicPr>
          <p:cNvPr id="249" name="Group 10" descr=""/>
          <p:cNvPicPr/>
          <p:nvPr/>
        </p:nvPicPr>
        <p:blipFill>
          <a:blip r:embed="rId14"/>
          <a:stretch/>
        </p:blipFill>
        <p:spPr>
          <a:xfrm>
            <a:off x="3402000" y="5310360"/>
            <a:ext cx="2230560" cy="919080"/>
          </a:xfrm>
          <a:prstGeom prst="rect">
            <a:avLst/>
          </a:prstGeom>
          <a:ln w="0">
            <a:noFill/>
          </a:ln>
        </p:spPr>
      </p:pic>
      <p:grpSp>
        <p:nvGrpSpPr>
          <p:cNvPr id="250" name="Rounded Rectangle 32"/>
          <p:cNvGrpSpPr/>
          <p:nvPr/>
        </p:nvGrpSpPr>
        <p:grpSpPr>
          <a:xfrm>
            <a:off x="444600" y="1073160"/>
            <a:ext cx="2908080" cy="1182600"/>
            <a:chOff x="444600" y="1073160"/>
            <a:chExt cx="2908080" cy="1182600"/>
          </a:xfrm>
        </p:grpSpPr>
        <p:pic>
          <p:nvPicPr>
            <p:cNvPr id="251" name="Rounded Rectangle 32" descr=""/>
            <p:cNvPicPr/>
            <p:nvPr/>
          </p:nvPicPr>
          <p:blipFill>
            <a:blip r:embed="rId15"/>
            <a:stretch/>
          </p:blipFill>
          <p:spPr>
            <a:xfrm>
              <a:off x="444600" y="1073160"/>
              <a:ext cx="29080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88880" y="1114560"/>
              <a:ext cx="28288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rom c in db.Customers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where c.City == "London"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select c.CompanyName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sp>
        <p:nvSpPr>
          <p:cNvPr id="253" name="TextBox 34"/>
          <p:cNvSpPr/>
          <p:nvPr/>
        </p:nvSpPr>
        <p:spPr>
          <a:xfrm>
            <a:off x="2274840" y="2533680"/>
            <a:ext cx="1357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Enumerat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grpSp>
        <p:nvGrpSpPr>
          <p:cNvPr id="254" name="Rounded Rectangle 35"/>
          <p:cNvGrpSpPr/>
          <p:nvPr/>
        </p:nvGrpSpPr>
        <p:grpSpPr>
          <a:xfrm>
            <a:off x="566640" y="5346720"/>
            <a:ext cx="2578320" cy="914400"/>
            <a:chOff x="566640" y="5346720"/>
            <a:chExt cx="2578320" cy="914400"/>
          </a:xfrm>
        </p:grpSpPr>
        <p:pic>
          <p:nvPicPr>
            <p:cNvPr id="255" name="Rounded Rectangle 35" descr=""/>
            <p:cNvPicPr/>
            <p:nvPr/>
          </p:nvPicPr>
          <p:blipFill>
            <a:blip r:embed="rId16"/>
            <a:stretch/>
          </p:blipFill>
          <p:spPr>
            <a:xfrm>
              <a:off x="566640" y="5346720"/>
              <a:ext cx="2578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06600" y="5386320"/>
              <a:ext cx="2506320" cy="8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SELECT CompanyName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ROM Customer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WHERE City = 'London'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sp>
        <p:nvSpPr>
          <p:cNvPr id="257" name="TextBox 36"/>
          <p:cNvSpPr/>
          <p:nvPr/>
        </p:nvSpPr>
        <p:spPr>
          <a:xfrm>
            <a:off x="2323080" y="4502160"/>
            <a:ext cx="1273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SQL Que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or SProc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258" name="TextBox 37"/>
          <p:cNvSpPr/>
          <p:nvPr/>
        </p:nvSpPr>
        <p:spPr>
          <a:xfrm>
            <a:off x="4183560" y="4502160"/>
            <a:ext cx="6987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Rows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259" name="TextBox 38"/>
          <p:cNvSpPr/>
          <p:nvPr/>
        </p:nvSpPr>
        <p:spPr>
          <a:xfrm>
            <a:off x="4166640" y="2533680"/>
            <a:ext cx="9381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Objects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grpSp>
        <p:nvGrpSpPr>
          <p:cNvPr id="260" name="Rounded Rectangle 39"/>
          <p:cNvGrpSpPr/>
          <p:nvPr/>
        </p:nvGrpSpPr>
        <p:grpSpPr>
          <a:xfrm>
            <a:off x="5772240" y="1054080"/>
            <a:ext cx="2914560" cy="1182600"/>
            <a:chOff x="5772240" y="1054080"/>
            <a:chExt cx="2914560" cy="1182600"/>
          </a:xfrm>
        </p:grpSpPr>
        <p:pic>
          <p:nvPicPr>
            <p:cNvPr id="261" name="Rounded Rectangle 39" descr=""/>
            <p:cNvPicPr/>
            <p:nvPr/>
          </p:nvPicPr>
          <p:blipFill>
            <a:blip r:embed="rId17"/>
            <a:stretch/>
          </p:blipFill>
          <p:spPr>
            <a:xfrm>
              <a:off x="5772240" y="1054080"/>
              <a:ext cx="29145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818320" y="1096920"/>
              <a:ext cx="282888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db.Customers.Add(c1);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c2.City = “Seattle";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db.Customers.Remove(c3);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sp>
        <p:nvSpPr>
          <p:cNvPr id="263" name="TextBox 40"/>
          <p:cNvSpPr/>
          <p:nvPr/>
        </p:nvSpPr>
        <p:spPr>
          <a:xfrm>
            <a:off x="5446800" y="2533680"/>
            <a:ext cx="1963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SubmitChanges()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grpSp>
        <p:nvGrpSpPr>
          <p:cNvPr id="264" name="Rounded Rectangle 41"/>
          <p:cNvGrpSpPr/>
          <p:nvPr/>
        </p:nvGrpSpPr>
        <p:grpSpPr>
          <a:xfrm>
            <a:off x="5772240" y="5303880"/>
            <a:ext cx="3066840" cy="931680"/>
            <a:chOff x="5772240" y="5303880"/>
            <a:chExt cx="3066840" cy="931680"/>
          </a:xfrm>
        </p:grpSpPr>
        <p:pic>
          <p:nvPicPr>
            <p:cNvPr id="265" name="Rounded Rectangle 41" descr=""/>
            <p:cNvPicPr/>
            <p:nvPr/>
          </p:nvPicPr>
          <p:blipFill>
            <a:blip r:embed="rId18"/>
            <a:stretch/>
          </p:blipFill>
          <p:spPr>
            <a:xfrm>
              <a:off x="5772240" y="5303880"/>
              <a:ext cx="306684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813280" y="5343480"/>
              <a:ext cx="299592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INSERT INTO Customer …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UPDATE Customer …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DELETE FROM Customer …</a:t>
              </a:r>
              <a:endParaRPr b="0" lang="en-US" sz="14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sp>
        <p:nvSpPr>
          <p:cNvPr id="267" name="TextBox 42"/>
          <p:cNvSpPr/>
          <p:nvPr/>
        </p:nvSpPr>
        <p:spPr>
          <a:xfrm>
            <a:off x="5515920" y="4502160"/>
            <a:ext cx="11376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DM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or SProcs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The </a:t>
            </a:r>
            <a:r>
              <a:rPr b="0" i="1" lang="en-US" sz="4000" spc="-1" strike="noStrike">
                <a:solidFill>
                  <a:srgbClr val="f37720"/>
                </a:solidFill>
                <a:latin typeface="Segoe"/>
              </a:rPr>
              <a:t>DataContext</a:t>
            </a: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 Clas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At First,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Seems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Similar to Connection object from ADO.NET 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Querie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Command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Transaction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ut Does Much More: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ccessing objects in the object-relational framework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Base for derived database specializat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(automated by gen tools)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dds Caching and Tracking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nd Mor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XML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pSp>
        <p:nvGrpSpPr>
          <p:cNvPr id="271" name="Group 35"/>
          <p:cNvGrpSpPr/>
          <p:nvPr/>
        </p:nvGrpSpPr>
        <p:grpSpPr>
          <a:xfrm>
            <a:off x="1000080" y="1143000"/>
            <a:ext cx="2201760" cy="882720"/>
            <a:chOff x="1000080" y="1143000"/>
            <a:chExt cx="2201760" cy="882720"/>
          </a:xfrm>
        </p:grpSpPr>
        <p:pic>
          <p:nvPicPr>
            <p:cNvPr id="272" name="Rounded Rectangle 36" descr=""/>
            <p:cNvPicPr/>
            <p:nvPr/>
          </p:nvPicPr>
          <p:blipFill>
            <a:blip r:embed="rId2"/>
            <a:stretch/>
          </p:blipFill>
          <p:spPr>
            <a:xfrm>
              <a:off x="10000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Rounded Rectangle 37"/>
            <p:cNvGrpSpPr/>
            <p:nvPr/>
          </p:nvGrpSpPr>
          <p:grpSpPr>
            <a:xfrm>
              <a:off x="1342440" y="1292040"/>
              <a:ext cx="1525680" cy="272160"/>
              <a:chOff x="1342440" y="1292040"/>
              <a:chExt cx="1525680" cy="272160"/>
            </a:xfrm>
          </p:grpSpPr>
          <p:pic>
            <p:nvPicPr>
              <p:cNvPr id="274" name="Rounded Rectangle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2440" y="1292040"/>
                <a:ext cx="152568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13582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276" name="Rounded Rectangle 38"/>
            <p:cNvSpPr/>
            <p:nvPr/>
          </p:nvSpPr>
          <p:spPr>
            <a:xfrm>
              <a:off x="13284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C# 3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277" name="Group 43"/>
          <p:cNvGrpSpPr/>
          <p:nvPr/>
        </p:nvGrpSpPr>
        <p:grpSpPr>
          <a:xfrm>
            <a:off x="3381480" y="1143000"/>
            <a:ext cx="2201760" cy="882720"/>
            <a:chOff x="3381480" y="1143000"/>
            <a:chExt cx="2201760" cy="882720"/>
          </a:xfrm>
        </p:grpSpPr>
        <p:pic>
          <p:nvPicPr>
            <p:cNvPr id="278" name="Rounded Rectangle 44" descr=""/>
            <p:cNvPicPr/>
            <p:nvPr/>
          </p:nvPicPr>
          <p:blipFill>
            <a:blip r:embed="rId4"/>
            <a:stretch/>
          </p:blipFill>
          <p:spPr>
            <a:xfrm>
              <a:off x="33814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Rounded Rectangle 45"/>
            <p:cNvGrpSpPr/>
            <p:nvPr/>
          </p:nvGrpSpPr>
          <p:grpSpPr>
            <a:xfrm>
              <a:off x="3719520" y="1292040"/>
              <a:ext cx="1530000" cy="272160"/>
              <a:chOff x="3719520" y="1292040"/>
              <a:chExt cx="1530000" cy="272160"/>
            </a:xfrm>
          </p:grpSpPr>
          <p:pic>
            <p:nvPicPr>
              <p:cNvPr id="280" name="Rounded Rectangle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3719520" y="1292040"/>
                <a:ext cx="153000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7378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282" name="Rounded Rectangle 46"/>
            <p:cNvSpPr/>
            <p:nvPr/>
          </p:nvSpPr>
          <p:spPr>
            <a:xfrm>
              <a:off x="37080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Visual Basic 9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283" name="Group 47"/>
          <p:cNvGrpSpPr/>
          <p:nvPr/>
        </p:nvGrpSpPr>
        <p:grpSpPr>
          <a:xfrm>
            <a:off x="5762520" y="1143000"/>
            <a:ext cx="2202120" cy="882720"/>
            <a:chOff x="5762520" y="1143000"/>
            <a:chExt cx="2202120" cy="882720"/>
          </a:xfrm>
        </p:grpSpPr>
        <p:pic>
          <p:nvPicPr>
            <p:cNvPr id="284" name="Rounded Rectangle 48" descr=""/>
            <p:cNvPicPr/>
            <p:nvPr/>
          </p:nvPicPr>
          <p:blipFill>
            <a:blip r:embed="rId6"/>
            <a:stretch/>
          </p:blipFill>
          <p:spPr>
            <a:xfrm>
              <a:off x="5762520" y="1143000"/>
              <a:ext cx="220212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Rounded Rectangle 49"/>
            <p:cNvGrpSpPr/>
            <p:nvPr/>
          </p:nvGrpSpPr>
          <p:grpSpPr>
            <a:xfrm>
              <a:off x="6104880" y="1292040"/>
              <a:ext cx="1526040" cy="272160"/>
              <a:chOff x="6104880" y="1292040"/>
              <a:chExt cx="1526040" cy="272160"/>
            </a:xfrm>
          </p:grpSpPr>
          <p:pic>
            <p:nvPicPr>
              <p:cNvPr id="286" name="Rounded Rectangle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4880" y="1292040"/>
                <a:ext cx="152604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6121800" y="1299960"/>
                <a:ext cx="14918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288" name="Rounded Rectangle 50"/>
            <p:cNvSpPr/>
            <p:nvPr/>
          </p:nvSpPr>
          <p:spPr>
            <a:xfrm>
              <a:off x="609192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Others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289" name="Rounded Rectangle 53"/>
          <p:cNvGrpSpPr/>
          <p:nvPr/>
        </p:nvGrpSpPr>
        <p:grpSpPr>
          <a:xfrm>
            <a:off x="414360" y="2212920"/>
            <a:ext cx="8077320" cy="2498760"/>
            <a:chOff x="414360" y="2212920"/>
            <a:chExt cx="8077320" cy="2498760"/>
          </a:xfrm>
        </p:grpSpPr>
        <p:pic>
          <p:nvPicPr>
            <p:cNvPr id="290" name="Rounded Rectangle 53" descr=""/>
            <p:cNvPicPr/>
            <p:nvPr/>
          </p:nvPicPr>
          <p:blipFill>
            <a:blip r:embed="rId8"/>
            <a:stretch/>
          </p:blipFill>
          <p:spPr>
            <a:xfrm>
              <a:off x="414360" y="2212920"/>
              <a:ext cx="807732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68360" y="2262240"/>
              <a:ext cx="796932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egoe"/>
                </a:rPr>
                <a:t>.NET Language Integrated Query</a:t>
              </a:r>
              <a:endParaRPr b="0" lang="en-US" sz="22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pic>
        <p:nvPicPr>
          <p:cNvPr id="292" name="Group 55" descr=""/>
          <p:cNvPicPr/>
          <p:nvPr/>
        </p:nvPicPr>
        <p:blipFill>
          <a:blip r:embed="rId9"/>
          <a:stretch/>
        </p:blipFill>
        <p:spPr>
          <a:xfrm>
            <a:off x="17136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293" name="Group 63" descr=""/>
          <p:cNvPicPr/>
          <p:nvPr/>
        </p:nvPicPr>
        <p:blipFill>
          <a:blip r:embed="rId10"/>
          <a:stretch/>
        </p:blipFill>
        <p:spPr>
          <a:xfrm>
            <a:off x="17366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294" name="Group 67" descr=""/>
          <p:cNvPicPr/>
          <p:nvPr/>
        </p:nvPicPr>
        <p:blipFill>
          <a:blip r:embed="rId11"/>
          <a:stretch/>
        </p:blipFill>
        <p:spPr>
          <a:xfrm>
            <a:off x="33098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295" name="Group 71" descr=""/>
          <p:cNvPicPr/>
          <p:nvPr/>
        </p:nvPicPr>
        <p:blipFill>
          <a:blip r:embed="rId12"/>
          <a:stretch/>
        </p:blipFill>
        <p:spPr>
          <a:xfrm>
            <a:off x="488304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296" name="Group 75" descr=""/>
          <p:cNvPicPr/>
          <p:nvPr/>
        </p:nvPicPr>
        <p:blipFill>
          <a:blip r:embed="rId13"/>
          <a:stretch/>
        </p:blipFill>
        <p:spPr>
          <a:xfrm>
            <a:off x="6407280" y="2475000"/>
            <a:ext cx="2322360" cy="3998880"/>
          </a:xfrm>
          <a:prstGeom prst="rect">
            <a:avLst/>
          </a:prstGeom>
          <a:ln w="0">
            <a:noFill/>
          </a:ln>
        </p:spPr>
      </p:pic>
      <p:pic>
        <p:nvPicPr>
          <p:cNvPr id="297" name="Group 5" descr=""/>
          <p:cNvPicPr/>
          <p:nvPr/>
        </p:nvPicPr>
        <p:blipFill>
          <a:blip r:embed="rId14"/>
          <a:stretch/>
        </p:blipFill>
        <p:spPr>
          <a:xfrm>
            <a:off x="682560" y="5041800"/>
            <a:ext cx="1322280" cy="1517760"/>
          </a:xfrm>
          <a:prstGeom prst="rect">
            <a:avLst/>
          </a:prstGeom>
          <a:ln w="0">
            <a:noFill/>
          </a:ln>
        </p:spPr>
      </p:pic>
      <p:pic>
        <p:nvPicPr>
          <p:cNvPr id="298" name="Group 14" descr=""/>
          <p:cNvPicPr/>
          <p:nvPr/>
        </p:nvPicPr>
        <p:blipFill>
          <a:blip r:embed="rId15"/>
          <a:stretch/>
        </p:blipFill>
        <p:spPr>
          <a:xfrm>
            <a:off x="7175520" y="4919760"/>
            <a:ext cx="834840" cy="1657080"/>
          </a:xfrm>
          <a:prstGeom prst="rect">
            <a:avLst/>
          </a:prstGeom>
          <a:ln w="0">
            <a:noFill/>
          </a:ln>
        </p:spPr>
      </p:pic>
      <p:pic>
        <p:nvPicPr>
          <p:cNvPr id="299" name="Group 21" descr=""/>
          <p:cNvPicPr/>
          <p:nvPr/>
        </p:nvPicPr>
        <p:blipFill>
          <a:blip r:embed="rId16"/>
          <a:stretch/>
        </p:blipFill>
        <p:spPr>
          <a:xfrm>
            <a:off x="3749760" y="4979880"/>
            <a:ext cx="14986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7720"/>
                </a:solidFill>
                <a:latin typeface="Segoe"/>
              </a:rPr>
              <a:t>LINQ to XML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Large Improvement Over Existing Mode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Supports: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Creating XML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Loading &amp; querying XML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Modifying &amp; saving XML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Streaming, Schema, Annotations, Event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37720"/>
                </a:solidFill>
                <a:latin typeface="Arial"/>
              </a:rPr>
              <a:t>Пример </a:t>
            </a: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 LINQ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pSp>
        <p:nvGrpSpPr>
          <p:cNvPr id="91" name="Group 12"/>
          <p:cNvGrpSpPr/>
          <p:nvPr/>
        </p:nvGrpSpPr>
        <p:grpSpPr>
          <a:xfrm>
            <a:off x="2028960" y="1209600"/>
            <a:ext cx="5105160" cy="5105520"/>
            <a:chOff x="2028960" y="1209600"/>
            <a:chExt cx="5105160" cy="5105520"/>
          </a:xfrm>
        </p:grpSpPr>
        <p:sp>
          <p:nvSpPr>
            <p:cNvPr id="92" name="Rectangle 4"/>
            <p:cNvSpPr/>
            <p:nvPr/>
          </p:nvSpPr>
          <p:spPr>
            <a:xfrm>
              <a:off x="2028960" y="1209600"/>
              <a:ext cx="5105160" cy="5105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Query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us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ystem.Collections.Generic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app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 void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in() {</a:t>
              </a:r>
              <a:br>
                <a:rPr sz="1200"/>
              </a:b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names = { "Burke", "Connor",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"Frank", "Everett",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"Albert", "George",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Harris", "David" }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va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expr =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ro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ames 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   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wher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.Length == 5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rderby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l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s.ToUpper(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tem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expr)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Conso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WriteLine(item);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URKE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VID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RANK</a:t>
              </a: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a2998a"/>
                </a:solidFill>
                <a:latin typeface="Segoe"/>
              </a:endParaRPr>
            </a:p>
          </p:txBody>
        </p:sp>
        <p:sp>
          <p:nvSpPr>
            <p:cNvPr id="93" name="Bent Arrow 9"/>
            <p:cNvSpPr/>
            <p:nvPr/>
          </p:nvSpPr>
          <p:spPr>
            <a:xfrm rot="10800000">
              <a:off x="2838600" y="4866840"/>
              <a:ext cx="1380960" cy="1266840"/>
            </a:xfrm>
            <a:prstGeom prst="pie">
              <a:avLst/>
            </a:prstGeom>
            <a:solidFill>
              <a:srgbClr val="f37720"/>
            </a:solidFill>
            <a:ln w="25560">
              <a:solidFill>
                <a:srgbClr val="b356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7720"/>
                </a:solidFill>
                <a:latin typeface="Segoe"/>
              </a:rPr>
              <a:t>LINQ to XML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New XML API implemented in v3.5 assembly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Xml.Linq.dl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Namespac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Xml.Linq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Xml.Schema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Xml.XPath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Can be used independently of LINQ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7720"/>
                </a:solidFill>
                <a:latin typeface="Segoe"/>
              </a:rPr>
              <a:t>Key Classes in System.Xml.Linq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System.Xml.Linq is a “DOM like” API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Manipulates an XML tree in memory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Naturally work with both XML </a:t>
            </a:r>
            <a:r>
              <a:rPr b="1" lang="en-GB" sz="2400" spc="-1" strike="noStrike">
                <a:solidFill>
                  <a:srgbClr val="ffffff"/>
                </a:solidFill>
                <a:latin typeface="Segoe"/>
              </a:rPr>
              <a:t>documents</a:t>
            </a: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 and </a:t>
            </a:r>
            <a:r>
              <a:rPr b="1" lang="en-GB" sz="2400" spc="-1" strike="noStrike">
                <a:solidFill>
                  <a:srgbClr val="ffffff"/>
                </a:solidFill>
                <a:latin typeface="Segoe"/>
              </a:rPr>
              <a:t>fragment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The two key classes in System.Xml.Linq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2494080" y="4084560"/>
            <a:ext cx="4162320" cy="32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7720"/>
                </a:solidFill>
                <a:latin typeface="Segoe"/>
              </a:rPr>
              <a:t>Loading Xml Content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Loading Xml is performed with;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Segoe"/>
              </a:rPr>
              <a:t>XElement.Load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Segoe"/>
              </a:rPr>
              <a:t>XDocument.Load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Both support loading from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Segoe"/>
              </a:rPr>
              <a:t>URI, XmlReader, TextReader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1395360" y="4309920"/>
            <a:ext cx="635328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7720"/>
                </a:solidFill>
                <a:latin typeface="Segoe"/>
              </a:rPr>
              <a:t>Modifying XML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XML tree exposed by </a:t>
            </a:r>
            <a:r>
              <a:rPr b="1" lang="en-GB" sz="2400" spc="-1" strike="noStrike">
                <a:solidFill>
                  <a:srgbClr val="ffcc00"/>
                </a:solidFill>
                <a:latin typeface="Segoe"/>
              </a:rPr>
              <a:t>XElement</a:t>
            </a:r>
            <a:r>
              <a:rPr b="1" lang="en-GB" sz="2400" spc="-1" strike="noStrike">
                <a:solidFill>
                  <a:srgbClr val="f37720"/>
                </a:solidFill>
                <a:latin typeface="Segoe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et al. is modifiabl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Modifications through methods such as: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Segoe"/>
              </a:rPr>
              <a:t>XElement.Add()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Segoe"/>
              </a:rPr>
              <a:t>XElement.Remove()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Segoe"/>
              </a:rPr>
              <a:t>XElement.ReplaceWith()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Modified tree can be persisted via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Segoe"/>
              </a:rPr>
              <a:t>XElement.Save(), XDocument.Save()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Both supporting filename, TextWriter, XmlWriter.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2030400" y="5407200"/>
            <a:ext cx="5083200" cy="198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Creating an XML Document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695160" y="1228680"/>
            <a:ext cx="7905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XNamespace ns = "http://example.books.com"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XDocument books = new XDocument(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new XElement(ns + "bookstore",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new XElement(ns + "book",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new XAttribute("ISBN", isbn),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new XElement(ns + "title", "ASP.NET Book"),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new XElement(ns + "author",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new XElement(ns + "first-name", a.FirstName),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new XElement(ns + "last-name", a.LastName)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)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)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   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)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)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books.Save(@"C:\Books.xml")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VB 9:  XML Literal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XML Can Be Used Inlin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ompiled to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XElement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Expression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an Be Code-Driven and Dynamic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Including LINQ Expression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695160" y="3562200"/>
            <a:ext cx="7905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Dim books =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bookstore xmlns="http://examples.books.com"&gt;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book ISBN=&lt;%= isbn %&gt;&gt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title&gt;ASP.NET Book&lt;/title&gt;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author&gt;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   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first-name&gt;&lt;%= a.FirstName %&gt;&lt;/first-name&gt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   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last-name&gt;&lt;%= a.LastName %&gt;&lt;/last-name&gt;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/author&gt;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/book&gt;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            </a:t>
            </a: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&lt;/bookstore&gt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books.Save(</a:t>
            </a: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"C:\Books.xml")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…</a:t>
            </a: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Meanwhile in C#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39640" y="140004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No XML Literals, But There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omething to Close the Gap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Paste XML as XElement” Add-in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dd XML to Clipboard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Edit -&gt; Past XML as XElement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Included in VS2008 Sampl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Help -&gt; Sample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6072120" y="1647720"/>
            <a:ext cx="290520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Entiti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pSp>
        <p:nvGrpSpPr>
          <p:cNvPr id="322" name="Group 35"/>
          <p:cNvGrpSpPr/>
          <p:nvPr/>
        </p:nvGrpSpPr>
        <p:grpSpPr>
          <a:xfrm>
            <a:off x="1000080" y="1143000"/>
            <a:ext cx="2201760" cy="882720"/>
            <a:chOff x="1000080" y="1143000"/>
            <a:chExt cx="2201760" cy="882720"/>
          </a:xfrm>
        </p:grpSpPr>
        <p:pic>
          <p:nvPicPr>
            <p:cNvPr id="323" name="Rounded Rectangle 36" descr=""/>
            <p:cNvPicPr/>
            <p:nvPr/>
          </p:nvPicPr>
          <p:blipFill>
            <a:blip r:embed="rId2"/>
            <a:stretch/>
          </p:blipFill>
          <p:spPr>
            <a:xfrm>
              <a:off x="10000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4" name="Rounded Rectangle 37"/>
            <p:cNvGrpSpPr/>
            <p:nvPr/>
          </p:nvGrpSpPr>
          <p:grpSpPr>
            <a:xfrm>
              <a:off x="1342440" y="1292040"/>
              <a:ext cx="1525680" cy="272160"/>
              <a:chOff x="1342440" y="1292040"/>
              <a:chExt cx="1525680" cy="272160"/>
            </a:xfrm>
          </p:grpSpPr>
          <p:pic>
            <p:nvPicPr>
              <p:cNvPr id="325" name="Rounded Rectangle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2440" y="1292040"/>
                <a:ext cx="152568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13582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327" name="Rounded Rectangle 38"/>
            <p:cNvSpPr/>
            <p:nvPr/>
          </p:nvSpPr>
          <p:spPr>
            <a:xfrm>
              <a:off x="13284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C# 3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328" name="Group 43"/>
          <p:cNvGrpSpPr/>
          <p:nvPr/>
        </p:nvGrpSpPr>
        <p:grpSpPr>
          <a:xfrm>
            <a:off x="3381480" y="1143000"/>
            <a:ext cx="2201760" cy="882720"/>
            <a:chOff x="3381480" y="1143000"/>
            <a:chExt cx="2201760" cy="882720"/>
          </a:xfrm>
        </p:grpSpPr>
        <p:pic>
          <p:nvPicPr>
            <p:cNvPr id="329" name="Rounded Rectangle 44" descr=""/>
            <p:cNvPicPr/>
            <p:nvPr/>
          </p:nvPicPr>
          <p:blipFill>
            <a:blip r:embed="rId4"/>
            <a:stretch/>
          </p:blipFill>
          <p:spPr>
            <a:xfrm>
              <a:off x="3381480" y="1143000"/>
              <a:ext cx="22017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Rounded Rectangle 45"/>
            <p:cNvGrpSpPr/>
            <p:nvPr/>
          </p:nvGrpSpPr>
          <p:grpSpPr>
            <a:xfrm>
              <a:off x="3719520" y="1292040"/>
              <a:ext cx="1530000" cy="272160"/>
              <a:chOff x="3719520" y="1292040"/>
              <a:chExt cx="1530000" cy="272160"/>
            </a:xfrm>
          </p:grpSpPr>
          <p:pic>
            <p:nvPicPr>
              <p:cNvPr id="331" name="Rounded Rectangle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3719520" y="1292040"/>
                <a:ext cx="153000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3737880" y="1299960"/>
                <a:ext cx="1491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333" name="Rounded Rectangle 46"/>
            <p:cNvSpPr/>
            <p:nvPr/>
          </p:nvSpPr>
          <p:spPr>
            <a:xfrm>
              <a:off x="370800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Visual Basic 9.0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334" name="Group 47"/>
          <p:cNvGrpSpPr/>
          <p:nvPr/>
        </p:nvGrpSpPr>
        <p:grpSpPr>
          <a:xfrm>
            <a:off x="5762520" y="1143000"/>
            <a:ext cx="2202120" cy="882720"/>
            <a:chOff x="5762520" y="1143000"/>
            <a:chExt cx="2202120" cy="882720"/>
          </a:xfrm>
        </p:grpSpPr>
        <p:pic>
          <p:nvPicPr>
            <p:cNvPr id="335" name="Rounded Rectangle 48" descr=""/>
            <p:cNvPicPr/>
            <p:nvPr/>
          </p:nvPicPr>
          <p:blipFill>
            <a:blip r:embed="rId6"/>
            <a:stretch/>
          </p:blipFill>
          <p:spPr>
            <a:xfrm>
              <a:off x="5762520" y="1143000"/>
              <a:ext cx="220212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" name="Rounded Rectangle 49"/>
            <p:cNvGrpSpPr/>
            <p:nvPr/>
          </p:nvGrpSpPr>
          <p:grpSpPr>
            <a:xfrm>
              <a:off x="6104880" y="1292040"/>
              <a:ext cx="1526040" cy="272160"/>
              <a:chOff x="6104880" y="1292040"/>
              <a:chExt cx="1526040" cy="272160"/>
            </a:xfrm>
          </p:grpSpPr>
          <p:pic>
            <p:nvPicPr>
              <p:cNvPr id="337" name="Rounded Rectangle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4880" y="1292040"/>
                <a:ext cx="1526040" cy="2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6121800" y="1299960"/>
                <a:ext cx="149184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800" rIns="109800" tIns="54720" bIns="54720" anchor="ctr">
                <a:noAutofit/>
              </a:bodyPr>
              <a:p>
                <a:pPr algn="ctr">
                  <a:tabLst>
                    <a:tab algn="l" pos="0"/>
                    <a:tab algn="l" pos="766800"/>
                    <a:tab algn="l" pos="1533600"/>
                    <a:tab algn="l" pos="2300400"/>
                    <a:tab algn="l" pos="3067200"/>
                    <a:tab algn="l" pos="3833640"/>
                    <a:tab algn="l" pos="4600440"/>
                    <a:tab algn="l" pos="5367240"/>
                    <a:tab algn="l" pos="6134040"/>
                    <a:tab algn="l" pos="6900840"/>
                    <a:tab algn="l" pos="7667640"/>
                    <a:tab algn="l" pos="8434440"/>
                    <a:tab algn="l" pos="9201240"/>
                    <a:tab algn="l" pos="9968040"/>
                    <a:tab algn="l" pos="10734840"/>
                  </a:tabLst>
                </a:pPr>
                <a:endParaRPr b="0" lang="en-US" sz="1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339" name="Rounded Rectangle 50"/>
            <p:cNvSpPr/>
            <p:nvPr/>
          </p:nvSpPr>
          <p:spPr>
            <a:xfrm>
              <a:off x="6091920" y="1296000"/>
              <a:ext cx="1524600" cy="269280"/>
            </a:xfrm>
            <a:prstGeom prst="roundRect">
              <a:avLst>
                <a:gd name="adj" fmla="val 8264"/>
              </a:avLst>
            </a:prstGeom>
            <a:noFill/>
            <a:ln w="0">
              <a:noFill/>
            </a:ln>
            <a:effectLst>
              <a:outerShdw dist="0" dir="0" blurRad="0" rotWithShape="0">
                <a:srgbClr val="ffc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egoe"/>
                </a:rPr>
                <a:t>Others</a:t>
              </a:r>
              <a:endParaRPr b="0" lang="en-US" sz="20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340" name="Rounded Rectangle 53"/>
          <p:cNvGrpSpPr/>
          <p:nvPr/>
        </p:nvGrpSpPr>
        <p:grpSpPr>
          <a:xfrm>
            <a:off x="414360" y="2212920"/>
            <a:ext cx="8077320" cy="2498760"/>
            <a:chOff x="414360" y="2212920"/>
            <a:chExt cx="8077320" cy="2498760"/>
          </a:xfrm>
        </p:grpSpPr>
        <p:pic>
          <p:nvPicPr>
            <p:cNvPr id="341" name="Rounded Rectangle 53" descr=""/>
            <p:cNvPicPr/>
            <p:nvPr/>
          </p:nvPicPr>
          <p:blipFill>
            <a:blip r:embed="rId8"/>
            <a:stretch/>
          </p:blipFill>
          <p:spPr>
            <a:xfrm>
              <a:off x="414360" y="2212920"/>
              <a:ext cx="807732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68360" y="2262240"/>
              <a:ext cx="796932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766800"/>
                  <a:tab algn="l" pos="1533600"/>
                  <a:tab algn="l" pos="2300400"/>
                  <a:tab algn="l" pos="3067200"/>
                  <a:tab algn="l" pos="3833640"/>
                  <a:tab algn="l" pos="4600440"/>
                  <a:tab algn="l" pos="5367240"/>
                  <a:tab algn="l" pos="6134040"/>
                  <a:tab algn="l" pos="6900840"/>
                  <a:tab algn="l" pos="7667640"/>
                  <a:tab algn="l" pos="8434440"/>
                  <a:tab algn="l" pos="9201240"/>
                  <a:tab algn="l" pos="9968040"/>
                  <a:tab algn="l" pos="1073484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egoe"/>
                </a:rPr>
                <a:t>.NET Language Integrated Query</a:t>
              </a:r>
              <a:endParaRPr b="0" lang="en-US" sz="22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pic>
        <p:nvPicPr>
          <p:cNvPr id="343" name="Group 55" descr=""/>
          <p:cNvPicPr/>
          <p:nvPr/>
        </p:nvPicPr>
        <p:blipFill>
          <a:blip r:embed="rId9"/>
          <a:stretch/>
        </p:blipFill>
        <p:spPr>
          <a:xfrm>
            <a:off x="17136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344" name="Group 63" descr=""/>
          <p:cNvPicPr/>
          <p:nvPr/>
        </p:nvPicPr>
        <p:blipFill>
          <a:blip r:embed="rId10"/>
          <a:stretch/>
        </p:blipFill>
        <p:spPr>
          <a:xfrm>
            <a:off x="17366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345" name="Group 67" descr=""/>
          <p:cNvPicPr/>
          <p:nvPr/>
        </p:nvPicPr>
        <p:blipFill>
          <a:blip r:embed="rId11"/>
          <a:stretch/>
        </p:blipFill>
        <p:spPr>
          <a:xfrm>
            <a:off x="3309840" y="2475000"/>
            <a:ext cx="2328840" cy="3998880"/>
          </a:xfrm>
          <a:prstGeom prst="rect">
            <a:avLst/>
          </a:prstGeom>
          <a:ln w="0">
            <a:noFill/>
          </a:ln>
        </p:spPr>
      </p:pic>
      <p:pic>
        <p:nvPicPr>
          <p:cNvPr id="346" name="Group 71" descr=""/>
          <p:cNvPicPr/>
          <p:nvPr/>
        </p:nvPicPr>
        <p:blipFill>
          <a:blip r:embed="rId12"/>
          <a:stretch/>
        </p:blipFill>
        <p:spPr>
          <a:xfrm>
            <a:off x="4883040" y="2475000"/>
            <a:ext cx="2322720" cy="3998880"/>
          </a:xfrm>
          <a:prstGeom prst="rect">
            <a:avLst/>
          </a:prstGeom>
          <a:ln w="0">
            <a:noFill/>
          </a:ln>
        </p:spPr>
      </p:pic>
      <p:pic>
        <p:nvPicPr>
          <p:cNvPr id="347" name="Group 75" descr=""/>
          <p:cNvPicPr/>
          <p:nvPr/>
        </p:nvPicPr>
        <p:blipFill>
          <a:blip r:embed="rId13"/>
          <a:stretch/>
        </p:blipFill>
        <p:spPr>
          <a:xfrm>
            <a:off x="6407280" y="2475000"/>
            <a:ext cx="2322360" cy="3998880"/>
          </a:xfrm>
          <a:prstGeom prst="rect">
            <a:avLst/>
          </a:prstGeom>
          <a:ln w="0">
            <a:noFill/>
          </a:ln>
        </p:spPr>
      </p:pic>
      <p:pic>
        <p:nvPicPr>
          <p:cNvPr id="348" name="Group 5" descr=""/>
          <p:cNvPicPr/>
          <p:nvPr/>
        </p:nvPicPr>
        <p:blipFill>
          <a:blip r:embed="rId14"/>
          <a:stretch/>
        </p:blipFill>
        <p:spPr>
          <a:xfrm>
            <a:off x="682560" y="5041800"/>
            <a:ext cx="1322280" cy="1517760"/>
          </a:xfrm>
          <a:prstGeom prst="rect">
            <a:avLst/>
          </a:prstGeom>
          <a:ln w="0">
            <a:noFill/>
          </a:ln>
        </p:spPr>
      </p:pic>
      <p:pic>
        <p:nvPicPr>
          <p:cNvPr id="349" name="Group 14" descr=""/>
          <p:cNvPicPr/>
          <p:nvPr/>
        </p:nvPicPr>
        <p:blipFill>
          <a:blip r:embed="rId15"/>
          <a:stretch/>
        </p:blipFill>
        <p:spPr>
          <a:xfrm>
            <a:off x="7175520" y="4919760"/>
            <a:ext cx="834840" cy="1657080"/>
          </a:xfrm>
          <a:prstGeom prst="rect">
            <a:avLst/>
          </a:prstGeom>
          <a:ln w="0">
            <a:noFill/>
          </a:ln>
        </p:spPr>
      </p:pic>
      <p:pic>
        <p:nvPicPr>
          <p:cNvPr id="350" name="Group 21" descr=""/>
          <p:cNvPicPr/>
          <p:nvPr/>
        </p:nvPicPr>
        <p:blipFill>
          <a:blip r:embed="rId16"/>
          <a:stretch/>
        </p:blipFill>
        <p:spPr>
          <a:xfrm>
            <a:off x="3749760" y="4979880"/>
            <a:ext cx="14986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7720"/>
                </a:solidFill>
                <a:latin typeface="Segoe"/>
              </a:rPr>
              <a:t>ADO.NET Entity Framework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00040" y="1714320"/>
            <a:ext cx="41673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Schema and Store independenc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08520" indent="-3085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Higher-Level Construct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668520" indent="-2570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Relationship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668520" indent="-2570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Inheritanc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08520" indent="-3085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Functionality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668520" indent="-2570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Flexibility of Entity Framework model &amp; mapping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668520" indent="-2570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Productivity of LINQ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08520" indent="-3085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Ships post-VS 2008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668520" indent="-2570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At Beta 2 Today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668520" indent="-2570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Tooling at CTP 1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353" name="Group 13"/>
          <p:cNvGrpSpPr/>
          <p:nvPr/>
        </p:nvGrpSpPr>
        <p:grpSpPr>
          <a:xfrm>
            <a:off x="4929120" y="4429080"/>
            <a:ext cx="4143600" cy="2286000"/>
            <a:chOff x="4929120" y="4429080"/>
            <a:chExt cx="4143600" cy="2286000"/>
          </a:xfrm>
        </p:grpSpPr>
        <p:grpSp>
          <p:nvGrpSpPr>
            <p:cNvPr id="354" name="Rounded Rectangle 3"/>
            <p:cNvGrpSpPr/>
            <p:nvPr/>
          </p:nvGrpSpPr>
          <p:grpSpPr>
            <a:xfrm>
              <a:off x="5583600" y="5748480"/>
              <a:ext cx="2975040" cy="822960"/>
              <a:chOff x="5583600" y="5748480"/>
              <a:chExt cx="2975040" cy="822960"/>
            </a:xfrm>
          </p:grpSpPr>
          <p:pic>
            <p:nvPicPr>
              <p:cNvPr id="355" name="Rounded 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3600" y="5748480"/>
                <a:ext cx="2975040" cy="82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677920" y="5821200"/>
                <a:ext cx="278820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Segoe"/>
                  </a:rPr>
                  <a:t>Store</a:t>
                </a:r>
                <a:endParaRPr b="0" lang="en-US" sz="2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357" name="Can 4"/>
            <p:cNvSpPr/>
            <p:nvPr/>
          </p:nvSpPr>
          <p:spPr>
            <a:xfrm>
              <a:off x="5357520" y="5929200"/>
              <a:ext cx="642960" cy="714240"/>
            </a:xfrm>
            <a:prstGeom prst="can">
              <a:avLst>
                <a:gd name="adj" fmla="val 22500"/>
              </a:avLst>
            </a:prstGeom>
            <a:solidFill>
              <a:srgbClr val="f37720"/>
            </a:solidFill>
            <a:ln w="25560">
              <a:solidFill>
                <a:srgbClr val="b356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  <p:grpSp>
          <p:nvGrpSpPr>
            <p:cNvPr id="358" name="Rounded Rectangle 5"/>
            <p:cNvGrpSpPr/>
            <p:nvPr/>
          </p:nvGrpSpPr>
          <p:grpSpPr>
            <a:xfrm>
              <a:off x="5583600" y="4894920"/>
              <a:ext cx="2975040" cy="822960"/>
              <a:chOff x="5583600" y="4894920"/>
              <a:chExt cx="2975040" cy="822960"/>
            </a:xfrm>
          </p:grpSpPr>
          <p:pic>
            <p:nvPicPr>
              <p:cNvPr id="359" name="Rounded 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3600" y="4894920"/>
                <a:ext cx="2975040" cy="82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5677920" y="4963680"/>
                <a:ext cx="278820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Segoe"/>
                  </a:rPr>
                  <a:t>.NET Provider</a:t>
                </a:r>
                <a:endParaRPr b="0" lang="en-US" sz="28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361" name="Rounded Rectangle 9"/>
            <p:cNvSpPr/>
            <p:nvPr/>
          </p:nvSpPr>
          <p:spPr>
            <a:xfrm>
              <a:off x="4929120" y="4429080"/>
              <a:ext cx="4143600" cy="228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Segoe"/>
                </a:rPr>
                <a:t>V2.0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4929120" y="1357200"/>
            <a:ext cx="4143600" cy="2857680"/>
            <a:chOff x="4929120" y="1357200"/>
            <a:chExt cx="4143600" cy="2857680"/>
          </a:xfrm>
        </p:grpSpPr>
        <p:grpSp>
          <p:nvGrpSpPr>
            <p:cNvPr id="363" name="Rounded Rectangle 6"/>
            <p:cNvGrpSpPr/>
            <p:nvPr/>
          </p:nvGrpSpPr>
          <p:grpSpPr>
            <a:xfrm>
              <a:off x="5583600" y="3249360"/>
              <a:ext cx="2975040" cy="822960"/>
              <a:chOff x="5583600" y="3249360"/>
              <a:chExt cx="2975040" cy="822960"/>
            </a:xfrm>
          </p:grpSpPr>
          <p:pic>
            <p:nvPicPr>
              <p:cNvPr id="364" name="Rounded 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3600" y="3249360"/>
                <a:ext cx="2975040" cy="82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677920" y="3321000"/>
                <a:ext cx="278820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Segoe"/>
                  </a:rPr>
                  <a:t>Conceptual Model</a:t>
                </a:r>
                <a:endParaRPr b="0" lang="en-US" sz="20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grpSp>
          <p:nvGrpSpPr>
            <p:cNvPr id="366" name="Rounded Rectangle 7"/>
            <p:cNvGrpSpPr/>
            <p:nvPr/>
          </p:nvGrpSpPr>
          <p:grpSpPr>
            <a:xfrm>
              <a:off x="5583600" y="2450520"/>
              <a:ext cx="2975040" cy="835200"/>
              <a:chOff x="5583600" y="2450520"/>
              <a:chExt cx="2975040" cy="835200"/>
            </a:xfrm>
          </p:grpSpPr>
          <p:pic>
            <p:nvPicPr>
              <p:cNvPr id="367" name="Rounded Rectangl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583600" y="2450520"/>
                <a:ext cx="297504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677920" y="2535120"/>
                <a:ext cx="278820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Segoe"/>
                  </a:rPr>
                  <a:t>.NET Provider</a:t>
                </a:r>
                <a:endParaRPr b="0" lang="en-US" sz="2000" spc="-1" strike="noStrike">
                  <a:solidFill>
                    <a:srgbClr val="a2998a"/>
                  </a:solidFill>
                  <a:latin typeface="Sego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Segoe"/>
                  </a:rPr>
                  <a:t>(EntitySQL)</a:t>
                </a:r>
                <a:endParaRPr b="0" lang="en-US" sz="20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grpSp>
          <p:nvGrpSpPr>
            <p:cNvPr id="369" name="Rounded Rectangle 8"/>
            <p:cNvGrpSpPr/>
            <p:nvPr/>
          </p:nvGrpSpPr>
          <p:grpSpPr>
            <a:xfrm>
              <a:off x="5583600" y="1676160"/>
              <a:ext cx="2975040" cy="822960"/>
              <a:chOff x="5583600" y="1676160"/>
              <a:chExt cx="2975040" cy="822960"/>
            </a:xfrm>
          </p:grpSpPr>
          <p:pic>
            <p:nvPicPr>
              <p:cNvPr id="370" name="Rounded 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583600" y="1676160"/>
                <a:ext cx="2975040" cy="82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677920" y="1748880"/>
                <a:ext cx="278820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Segoe"/>
                  </a:rPr>
                  <a:t>ORM &amp; LINQ</a:t>
                </a:r>
                <a:endParaRPr b="0" lang="en-US" sz="2000" spc="-1" strike="noStrike">
                  <a:solidFill>
                    <a:srgbClr val="a2998a"/>
                  </a:solidFill>
                  <a:latin typeface="Segoe"/>
                </a:endParaRPr>
              </a:p>
            </p:txBody>
          </p:sp>
        </p:grpSp>
        <p:sp>
          <p:nvSpPr>
            <p:cNvPr id="372" name="Rounded Rectangle 10"/>
            <p:cNvSpPr/>
            <p:nvPr/>
          </p:nvSpPr>
          <p:spPr>
            <a:xfrm>
              <a:off x="4929120" y="1357200"/>
              <a:ext cx="4143600" cy="2857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Segoe"/>
                </a:rPr>
                <a:t>V3.0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  <p:grpSp>
        <p:nvGrpSpPr>
          <p:cNvPr id="373" name="Left-Right Arrow 12"/>
          <p:cNvGrpSpPr/>
          <p:nvPr/>
        </p:nvGrpSpPr>
        <p:grpSpPr>
          <a:xfrm>
            <a:off x="6656400" y="3749760"/>
            <a:ext cx="830160" cy="1535040"/>
            <a:chOff x="6656400" y="3749760"/>
            <a:chExt cx="830160" cy="1535040"/>
          </a:xfrm>
        </p:grpSpPr>
        <p:pic>
          <p:nvPicPr>
            <p:cNvPr id="374" name="Left-Right Arrow 12" descr=""/>
            <p:cNvPicPr/>
            <p:nvPr/>
          </p:nvPicPr>
          <p:blipFill>
            <a:blip r:embed="rId7"/>
            <a:stretch/>
          </p:blipFill>
          <p:spPr>
            <a:xfrm>
              <a:off x="6656400" y="3749760"/>
              <a:ext cx="830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 rot="16200000">
              <a:off x="6537240" y="4322160"/>
              <a:ext cx="10717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egoe"/>
                </a:rPr>
                <a:t>Mapping</a:t>
              </a:r>
              <a:endParaRPr b="0" lang="en-US" sz="16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37720"/>
                </a:solidFill>
                <a:latin typeface="Segoe"/>
              </a:rPr>
              <a:t>LINQ to Entiti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New Data Access API implemented in assembly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Data.Entity.dl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Data.Entity.Design.dll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egoe"/>
              </a:rPr>
              <a:t>Namespac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Data.Entity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System.Data.Object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Segoe"/>
              </a:rPr>
              <a:t>and more..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cc00"/>
                </a:solidFill>
                <a:latin typeface="Arial"/>
              </a:rPr>
              <a:t>Основни фундаменти на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LINQ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29920" y="1504800"/>
            <a:ext cx="80485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LINQ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използвани езици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# 3.0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VB 9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собености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27920" indent="-28008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Lambda Expression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27920" indent="-28008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Query Expression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35880" indent="-3358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19960" indent="-2239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Delegate function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19960" indent="-2239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Type inferenc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19960" indent="-2239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Anonymous typ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19960" indent="-2239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Extension method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19960" indent="-22392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Expression tre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27920" indent="-28008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to Entities Example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9640" y="106668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using(OrderTracking orderTracking = new OrderTracking()) 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var orders = from order in orderTracking.SalesOrder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where order.Status == "Pending Stock Verification" &amp;&amp;                            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order.SalesPerson.State == "WA"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select order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foreach(SalesOrder order in orders) 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List&lt;StockAppProduct&gt; products = new List&lt;StockAppProduct&gt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( from orderLine in order.Line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select new StockAppProduct 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ProductID = orderLine.Product.ID,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LocatorCode = ComputeLocatorCode(orderLine.Product) } 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if(StockApp.CheckAvailability(products)) 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order.Status = "Shippable"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orderTracking.SaveChanges(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A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egoe"/>
              </a:rPr>
              <a:t>#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language extension: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Use SQL-like syntax in 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egoe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Outline: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Understanding the witchcraft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Delegate function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Lambda expression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Type inferenc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Anonymous typ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Extension method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Expression tre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Searching in Collection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egin with a simple array of, say, Customers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omer[] customers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[30]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omers[0]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(…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omers[29]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(…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Searching in Collections:</a:t>
            </a:r>
            <a:br>
              <a:rPr sz="3600"/>
            </a:b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The Old Way</a:t>
            </a: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Find the names of all London customers: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st&l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 londoners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List&l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(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eac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(Customer c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) {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(c.City == “London”) {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ondoners.add(c.Name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Searching in Collections:</a:t>
            </a:r>
            <a:br>
              <a:rPr sz="3600"/>
            </a:b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The LINQ Way</a:t>
            </a: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string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[] londoners = 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from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 c </a:t>
            </a:r>
            <a:r>
              <a:rPr b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 customer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where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 c.City == “London”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select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 c.Name;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8" name=""/>
          <p:cNvSpPr/>
          <p:nvPr/>
        </p:nvSpPr>
        <p:spPr>
          <a:xfrm>
            <a:off x="3924360" y="4508640"/>
            <a:ext cx="4392720" cy="136836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clar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endParaRPr b="0" lang="en-US" sz="24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389" name=""/>
          <p:cNvSpPr/>
          <p:nvPr/>
        </p:nvSpPr>
        <p:spPr>
          <a:xfrm>
            <a:off x="2124000" y="5300640"/>
            <a:ext cx="4392720" cy="136836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QL-li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endParaRPr b="0" lang="en-US" sz="24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724280"/>
            <a:ext cx="4392720" cy="136872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loo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endParaRPr b="0" lang="en-US" sz="24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: How Does It Work?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LINQ syntax = shorthand for method invocation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Translation maps” 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Syntax Translation Example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] londoners =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.City == “London”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.Name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] londoners =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omers.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</a:t>
            </a:r>
            <a:r>
              <a:rPr b="0" i="1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express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(</a:t>
            </a:r>
            <a:r>
              <a:rPr b="0" i="1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express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476360" y="3933720"/>
            <a:ext cx="1871640" cy="1727280"/>
          </a:xfrm>
          <a:custGeom>
            <a:avLst/>
            <a:gdLst>
              <a:gd name="textAreaLeft" fmla="*/ 0 w 1871640"/>
              <a:gd name="textAreaRight" fmla="*/ 1872000 w 1871640"/>
              <a:gd name="textAreaTop" fmla="*/ 360 h 1727280"/>
              <a:gd name="textAreaBottom" fmla="*/ 172800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377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pressions == Methods?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772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)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wants a Boolean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method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The method acts as a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filter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Likewise for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()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: a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translation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method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ambda Expression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Lambda expression syntax: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</a:rPr>
              <a:t>argumentList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</a:rPr>
              <a:t>expression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</a:rPr>
              <a:t>oneArgument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</a:rPr>
              <a:t>expression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rguments </a:t>
            </a:r>
            <a:r>
              <a:rPr b="0" i="1" lang="en-US" sz="2000" spc="-1" strike="noStrike">
                <a:solidFill>
                  <a:srgbClr val="ffffff"/>
                </a:solidFill>
                <a:latin typeface="Segoe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 typed.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Type inference mechanism.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More on that later…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628640"/>
            <a:ext cx="2952720" cy="12956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hades of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Where’s </a:t>
            </a:r>
            <a:r>
              <a:rPr b="0" lang="en-US" sz="4000" spc="-1" strike="noStrike">
                <a:solidFill>
                  <a:srgbClr val="f37720"/>
                </a:solidFill>
                <a:latin typeface="Courier New"/>
                <a:ea typeface="Courier New"/>
              </a:rPr>
              <a:t>Where()</a:t>
            </a: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?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We invoked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)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on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omers[]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On the resulting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omers[]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, we invoked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()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New methods for arrays!?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34880" y="457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private void </a:t>
            </a:r>
            <a:r>
              <a:rPr b="0" lang="en-US" sz="1600" spc="-1" strike="noStrike">
                <a:solidFill>
                  <a:srgbClr val="f37720"/>
                </a:solidFill>
                <a:latin typeface="Segoe"/>
              </a:rPr>
              <a:t>FilterWithCSharp2(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string[] contacts = { "Gogo", "George", "Trifon", "Kiril", "Shumi" }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//display result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foreach (string name in FilterResults2(contacts)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    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Console.WriteLine(name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private IEnumerable FilterResults2(string[] Data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//filter array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foreach (string name in Data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    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if (name.StartsWith("G")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return name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{    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tension Method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Utils {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firstChar(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s)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s.charAt(0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o far, just a simple static method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an be used like any other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tension Method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But now…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Using 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Utils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Demo {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Foo() {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s = “Hello”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ole.WriteLine(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s.firstChar()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tension Method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tatic methods that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seem to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extend existing types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772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)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()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, etc. extend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Enumerable&lt;T&gt;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Defined i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ystem.Query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Applicable to one-dimensional array types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Query Your Own Types!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LINQ can be applied to 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 type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Just implement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)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()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, etc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INQ and Relational Data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Let’s obtain a DB-table type, and query it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bCustomers c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DbCustomers(“my.mdb”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[] londoners = 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.City == “London”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.Name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This Makes No Sense!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ut…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)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applies the filter to every record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on the client!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772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* FROM CUSTOMERS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, and filter with a simple loop!?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Back To Lambda Expression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Lambda expressions can be converted to anonymous methods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an 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</a:rPr>
              <a:t>also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 be converted to </a:t>
            </a:r>
            <a:r>
              <a:rPr b="1" i="1" lang="en-US" sz="2800" spc="-1" strike="noStrike">
                <a:solidFill>
                  <a:srgbClr val="ffffff"/>
                </a:solidFill>
                <a:latin typeface="Segoe"/>
              </a:rPr>
              <a:t>expression trees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A run-time representation of the syntax tree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ample…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Our code yields: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[] londoners = customers.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c =&gt; c.City == “London”).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(c =&gt; c.Name);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where “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ustomers</a:t>
            </a: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” is of type DbCustomers.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45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No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bCustomers.Where(delegate(Customer c))</a:t>
            </a: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 method exists.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45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Times New Roman"/>
              </a:rPr>
              <a:t>However: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bCustomers.Where(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&lt;Func&lt;Customer,bool&gt;&gt; xt)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pression Tre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A </a:t>
            </a:r>
            <a:r>
              <a:rPr b="1" i="1" lang="en-US" sz="2800" spc="-1" strike="noStrike">
                <a:solidFill>
                  <a:srgbClr val="ffffff"/>
                </a:solidFill>
                <a:latin typeface="Segoe"/>
              </a:rPr>
              <a:t>data type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Represents lambda expressions at runtime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Used it to generate SQL at runtime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Guaranteed to be valid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Relational Algebra:</a:t>
            </a:r>
            <a:br>
              <a:rPr sz="4000"/>
            </a:b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Joins, Projection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43040" y="649440"/>
            <a:ext cx="4572000" cy="21016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private static void </a:t>
            </a:r>
            <a:r>
              <a:rPr b="0" lang="en-US" sz="1200" spc="-1" strike="noStrike">
                <a:solidFill>
                  <a:srgbClr val="f37720"/>
                </a:solidFill>
                <a:latin typeface="Segoe"/>
                <a:ea typeface="Arial"/>
              </a:rPr>
              <a:t>FilterWithCSharp3()</a:t>
            </a: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 {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string[] contacts = { "Galcho", "George", "Trifon", "Kiril", "Shumi" };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var result = from s in contacts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where s.StartsWith("G")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select s;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//display result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foreach (string name in result) {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Console.WriteLine(name);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{    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"/>
                <a:ea typeface="Arial"/>
              </a:rPr>
              <a:t>{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98" name=""/>
          <p:cNvSpPr/>
          <p:nvPr/>
        </p:nvSpPr>
        <p:spPr>
          <a:xfrm>
            <a:off x="467280" y="3774960"/>
            <a:ext cx="6668280" cy="20718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private static void </a:t>
            </a:r>
            <a:r>
              <a:rPr b="0" lang="en-US" sz="1600" spc="-1" strike="noStrike">
                <a:solidFill>
                  <a:srgbClr val="f37720"/>
                </a:solidFill>
                <a:latin typeface="Segoe"/>
                <a:ea typeface="Arial"/>
              </a:rPr>
              <a:t>FilterWithCSharp3_2()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 {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string[] contacts = { " </a:t>
            </a:r>
            <a:r>
              <a:rPr b="0" lang="en-US" sz="1800" spc="-1" strike="noStrike">
                <a:solidFill>
                  <a:srgbClr val="ffffff"/>
                </a:solidFill>
                <a:latin typeface="Segoe"/>
                <a:ea typeface="Arial"/>
              </a:rPr>
              <a:t>Gogo</a:t>
            </a:r>
            <a:r>
              <a:rPr b="0" lang="en-US" sz="1800" spc="-1" strike="noStrike">
                <a:solidFill>
                  <a:srgbClr val="a2998a"/>
                </a:solidFill>
                <a:latin typeface="Segoe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", "George", "Trifon", "Kiril", "Shumi" }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var result = contacts.Where&lt;string&gt;(x =&gt; x.StartsWith("G"))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//display result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foreach (string name in result) {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Console.WriteLine(name)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{    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  <a:ea typeface="Arial"/>
              </a:rPr>
              <a:t>{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Multiple Generators</a:t>
            </a:r>
            <a:br>
              <a:rPr sz="3600"/>
            </a:b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(Cartesian Product / Join)</a:t>
            </a: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OrderData[] od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.City == “London”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o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.Order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o.OrderDate.Year == 2005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OrderData(c.Name, o.OrderId, o.Total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OrderData[] od = customers.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c =&gt; c.City == “London”).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Many(c =&gt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.Orders.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(o =&gt; o.OrderDate.Year == 2005).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(o =&gt;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OrderData(c.Name, 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o.OrderId, o.Total)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342900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377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Projection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Using LINQ’s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.City == “London”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new 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AddressBookEntry(c.Name, c.Phone)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Ad-Hoc Types are Nameles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How do we store the result?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???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q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…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new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 {…}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  <a:ea typeface="Times New Roman"/>
              </a:rPr>
              <a:t>The ad-hoc type is </a:t>
            </a:r>
            <a:r>
              <a:rPr b="0" i="1" lang="en-US" sz="2800" spc="-1" strike="noStrike">
                <a:solidFill>
                  <a:srgbClr val="ffffff"/>
                </a:solidFill>
                <a:latin typeface="Segoe"/>
                <a:ea typeface="Times New Roman"/>
              </a:rPr>
              <a:t>nameless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  <a:ea typeface="Times New Roman"/>
              </a:rPr>
              <a:t>Can’t us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  <a:ea typeface="Times New Roman"/>
              </a:rPr>
              <a:t>Can’t downcast to access the properties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Auto-Typed Variabl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772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x = 7;</a:t>
            </a: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// x will be of type int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772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q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…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{…};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// q will be an array of the anonymous typ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ole.WriteLine(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q[0].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  <a:ea typeface="Times New Roman"/>
              </a:rPr>
              <a:t>Local variables only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Relational Data in the OO World?</a:t>
            </a: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Regular” LINQ queries yields “rectangular” data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e.g., 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od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.City == “London”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o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.Order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o.OrderDate.Year == 2005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{ c.Name, o.OrderId, o.Total }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egoe"/>
                <a:ea typeface="Times New Roman"/>
              </a:rPr>
              <a:t>= multiple lines per customer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Relational Data in the OO World?</a:t>
            </a: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7636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Joe Average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122324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100.23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Joe Average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315523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90.0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Joe Average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989722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49.95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874366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49.9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324777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95.0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Miss Piggy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435882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234.65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Kermit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345529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egoe"/>
                        </a:rPr>
                        <a:t>345.21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Kermit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42334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95.95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OO Data in the OO World!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Nested queries: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od =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c.City == “London”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.Name,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Orders = 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o 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c.Order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o.OrderDate.Year == 2005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{ o.OrderId, o.Total }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OO Data in the OO World!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419640" y="1916280"/>
          <a:ext cx="4063680" cy="15523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122324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100.23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315523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90.0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989722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49.95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900000" y="1916280"/>
          <a:ext cx="2032200" cy="51732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Joe Average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419640" y="3645000"/>
          <a:ext cx="4063680" cy="10350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874366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49.9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324777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95.0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900000" y="3645000"/>
          <a:ext cx="2032200" cy="51732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419640" y="4856040"/>
          <a:ext cx="4063680" cy="517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435882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234.65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900000" y="4856040"/>
          <a:ext cx="2032200" cy="51768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Miss Piggy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3419640" y="5589720"/>
          <a:ext cx="4063680" cy="10350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345529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345.21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423340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95.95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900000" y="5589720"/>
          <a:ext cx="2032200" cy="517320"/>
        </p:xfrm>
        <a:graphic>
          <a:graphicData uri="http://schemas.openxmlformats.org/drawingml/2006/table">
            <a:tbl>
              <a:tblPr/>
              <a:tblGrid>
                <a:gridCol w="20322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egoe"/>
                        </a:rPr>
                        <a:t>Kermit</a:t>
                      </a:r>
                      <a:endParaRPr b="0" lang="en-US" sz="2000" spc="-1" strike="noStrike">
                        <a:solidFill>
                          <a:srgbClr val="a2998a"/>
                        </a:solidFill>
                        <a:latin typeface="Sego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cxnSp>
        <p:nvCxnSpPr>
          <p:cNvPr id="447" name=""/>
          <p:cNvCxnSpPr/>
          <p:nvPr/>
        </p:nvCxnSpPr>
        <p:spPr>
          <a:xfrm>
            <a:off x="2932200" y="2174400"/>
            <a:ext cx="488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/>
          <p:nvPr/>
        </p:nvCxnSpPr>
        <p:spPr>
          <a:xfrm>
            <a:off x="2932200" y="3903480"/>
            <a:ext cx="488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/>
          <p:nvPr/>
        </p:nvCxnSpPr>
        <p:spPr>
          <a:xfrm>
            <a:off x="2932200" y="5114520"/>
            <a:ext cx="488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/>
          <p:nvPr/>
        </p:nvCxnSpPr>
        <p:spPr>
          <a:xfrm>
            <a:off x="2932200" y="5847840"/>
            <a:ext cx="488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Ad-Hoc Type Equality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Two ad-hoc type expressions that have the same ordered set of property names and types share the same ad-hoc type.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1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{ Name = “Moo”, Age = 12 }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ar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2 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{ Name = “Elk”, Age = 17 }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1 = p2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pression Tree Generation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&lt;Func&l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boo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&gt; exprLambda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x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x &amp; 1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) ==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0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arameterExpression xParam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arameter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of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,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"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x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"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&lt;Func&l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boo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&gt; exprLambda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Lambda&lt;Func&l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bool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&gt;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Q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BitAnd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xParam, Expression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)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xpression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0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)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xParam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37720"/>
                </a:solidFill>
                <a:latin typeface="Arial"/>
              </a:rPr>
              <a:t>Подразбиращи се типове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Delcare Variable with “var” keyword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ompiler infers correct typ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Based on initialization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Only for local, (non-null) initialized variable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6440" y="3133800"/>
            <a:ext cx="79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Customer c = new Customer(“Bob”, “Smith”, 1234);</a:t>
            </a:r>
            <a:endParaRPr b="0" lang="en-US" sz="20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var c = new Customer(“Bob”, “Smith”, 1234);</a:t>
            </a:r>
            <a:endParaRPr b="0" lang="en-US" sz="20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685800" y="4809960"/>
            <a:ext cx="790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var c;        // No</a:t>
            </a:r>
            <a:endParaRPr b="0" lang="en-US" sz="20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var c = </a:t>
            </a:r>
            <a:r>
              <a:rPr b="1" lang="en-US" sz="2000" spc="-1" strike="noStrike">
                <a:solidFill>
                  <a:srgbClr val="fff5cc"/>
                </a:solidFill>
                <a:latin typeface="Consolas"/>
              </a:rPr>
              <a:t>null</a:t>
            </a: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; // No </a:t>
            </a:r>
            <a:endParaRPr b="0" lang="en-US" sz="20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var c = default(string); // Yes</a:t>
            </a:r>
            <a:endParaRPr b="0" lang="en-US" sz="20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public </a:t>
            </a:r>
            <a:r>
              <a:rPr b="1" lang="en-US" sz="2000" spc="-1" strike="noStrike">
                <a:solidFill>
                  <a:srgbClr val="fff5cc"/>
                </a:solidFill>
                <a:latin typeface="Consolas"/>
              </a:rPr>
              <a:t>var</a:t>
            </a: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 DoThis(int x){}  // No</a:t>
            </a:r>
            <a:endParaRPr b="0" lang="en-US" sz="20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public void DoThis(</a:t>
            </a:r>
            <a:r>
              <a:rPr b="1" lang="en-US" sz="2000" spc="-1" strike="noStrike">
                <a:solidFill>
                  <a:srgbClr val="fff5cc"/>
                </a:solidFill>
                <a:latin typeface="Consolas"/>
              </a:rPr>
              <a:t>var</a:t>
            </a: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 x){} // No</a:t>
            </a:r>
            <a:endParaRPr b="0" lang="en-US" sz="20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Some LINQ Exampl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m 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typeof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).getMethod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m.Name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3068640"/>
            <a:ext cx="2160360" cy="3600360"/>
            <a:chOff x="3780000" y="3068640"/>
            <a:chExt cx="2160360" cy="3600360"/>
          </a:xfrm>
        </p:grpSpPr>
        <p:sp>
          <p:nvSpPr>
            <p:cNvPr id="458" name=""/>
            <p:cNvSpPr/>
            <p:nvPr/>
          </p:nvSpPr>
          <p:spPr>
            <a:xfrm>
              <a:off x="4067280" y="3429000"/>
              <a:ext cx="1873080" cy="3240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lone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mpare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pyTo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py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dexOf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dexOf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dexOf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ert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ubstring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ubstring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…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80000" y="3068640"/>
              <a:ext cx="1368360" cy="360360"/>
            </a:xfrm>
            <a:prstGeom prst="rect">
              <a:avLst/>
            </a:prstGeom>
            <a:solidFill>
              <a:srgbClr val="f377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</a:t>
              </a:r>
              <a:endParaRPr b="0" lang="en-US" sz="1800" spc="-1" strike="noStrike">
                <a:solidFill>
                  <a:srgbClr val="a2998a"/>
                </a:solidFill>
                <a:latin typeface="Sego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Some LINQ Exampl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o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).getMethod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where 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!m.IsStatic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.Name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62" name=""/>
          <p:cNvSpPr/>
          <p:nvPr/>
        </p:nvSpPr>
        <p:spPr>
          <a:xfrm>
            <a:off x="4067280" y="3500280"/>
            <a:ext cx="1873080" cy="316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To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tring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tring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63" name=""/>
          <p:cNvSpPr/>
          <p:nvPr/>
        </p:nvSpPr>
        <p:spPr>
          <a:xfrm>
            <a:off x="3780000" y="3141720"/>
            <a:ext cx="1368360" cy="360360"/>
          </a:xfrm>
          <a:prstGeom prst="rect">
            <a:avLst/>
          </a:prstGeom>
          <a:solidFill>
            <a:srgbClr val="f377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Some LINQ Exampl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o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).getMethod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!m.IsStatic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orderby 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m.name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.Name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66" name=""/>
          <p:cNvSpPr/>
          <p:nvPr/>
        </p:nvSpPr>
        <p:spPr>
          <a:xfrm>
            <a:off x="5580000" y="3500280"/>
            <a:ext cx="1873440" cy="316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To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tring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tring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67" name=""/>
          <p:cNvSpPr/>
          <p:nvPr/>
        </p:nvSpPr>
        <p:spPr>
          <a:xfrm>
            <a:off x="5292720" y="3141720"/>
            <a:ext cx="1368360" cy="360360"/>
          </a:xfrm>
          <a:prstGeom prst="rect">
            <a:avLst/>
          </a:prstGeom>
          <a:solidFill>
            <a:srgbClr val="f377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Some LINQ Exampl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o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).getMethod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!m.IsStatic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order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.name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.Name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groupby 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m.name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0" name=""/>
          <p:cNvSpPr/>
          <p:nvPr/>
        </p:nvSpPr>
        <p:spPr>
          <a:xfrm>
            <a:off x="4427640" y="4219560"/>
            <a:ext cx="2305080" cy="223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= Clon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= Compar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= Copy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= CopyTo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= 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= Insert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= Substring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71" name=""/>
          <p:cNvSpPr/>
          <p:nvPr/>
        </p:nvSpPr>
        <p:spPr>
          <a:xfrm>
            <a:off x="4140360" y="3860640"/>
            <a:ext cx="2158920" cy="360360"/>
          </a:xfrm>
          <a:prstGeom prst="rect">
            <a:avLst/>
          </a:prstGeom>
          <a:solidFill>
            <a:srgbClr val="f377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yGroupPai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72" name=""/>
          <p:cNvSpPr/>
          <p:nvPr/>
        </p:nvSpPr>
        <p:spPr>
          <a:xfrm>
            <a:off x="6732720" y="4219560"/>
            <a:ext cx="1944720" cy="223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= 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= 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= 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= 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= 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= 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= 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Some LINQ Exampl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of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).getMethods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!m.IsStatic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order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.name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.Name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groupby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m.name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into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g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select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{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Method = g.Key, 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Overloads = g.Group.Count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6b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5" name=""/>
          <p:cNvSpPr/>
          <p:nvPr/>
        </p:nvSpPr>
        <p:spPr>
          <a:xfrm>
            <a:off x="4643280" y="2924280"/>
            <a:ext cx="2305080" cy="22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Clon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Compare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Copy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CopyTo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IndexOf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Insert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Substring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2565360"/>
            <a:ext cx="2159280" cy="360360"/>
          </a:xfrm>
          <a:prstGeom prst="rect">
            <a:avLst/>
          </a:prstGeom>
          <a:solidFill>
            <a:srgbClr val="f377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  <p:sp>
        <p:nvSpPr>
          <p:cNvPr id="477" name=""/>
          <p:cNvSpPr/>
          <p:nvPr/>
        </p:nvSpPr>
        <p:spPr>
          <a:xfrm>
            <a:off x="6948360" y="2924280"/>
            <a:ext cx="1944720" cy="22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loads = 1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loads = 2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loads = 1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loads = 1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loads = 5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loads = 3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loads = 6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Updates with LINQ?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uture feature: updating capabilities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c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customer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c.City == “Peking”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set</a:t>
            </a:r>
            <a:r>
              <a:rPr b="0" lang="en-US" sz="2400" spc="-1" strike="noStrike">
                <a:solidFill>
                  <a:srgbClr val="0076bf"/>
                </a:solidFill>
                <a:latin typeface="Courier New"/>
                <a:ea typeface="Courier New"/>
              </a:rPr>
              <a:t> c.City = “Beijing”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;   </a:t>
            </a: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??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DLINQ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ADO.NET’s next-generation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Among other features: a database-to-classes utility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lass per DB table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Property per DB column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oreign keys, etc. reflected in the classes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700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Result: valid table/field names in the SQL.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Extension Methods + Boxing…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ga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Proc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TestExtensions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Times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Int32 n, Proc proc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i 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1; i &lt;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n; i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++(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proc</a:t>
            </a:r>
            <a:r>
              <a:rPr b="0" lang="he-IL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(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br>
              <a:rPr sz="1600"/>
            </a:b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Which allows you to write</a:t>
            </a:r>
            <a:r>
              <a:rPr b="0" lang="he-IL" sz="2000" spc="-1" strike="noStrike">
                <a:solidFill>
                  <a:srgbClr val="ffffff"/>
                </a:solidFill>
                <a:latin typeface="Segoe"/>
              </a:rPr>
              <a:t>: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1</a:t>
            </a:r>
            <a:r>
              <a:rPr b="0" lang="he-IL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3.</a:t>
            </a:r>
            <a:r>
              <a:rPr b="0" lang="en-US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Times</a:t>
            </a:r>
            <a:r>
              <a:rPr b="0" lang="he-IL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() =&gt; Console</a:t>
            </a:r>
            <a:r>
              <a:rPr b="0" lang="he-IL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Write</a:t>
            </a:r>
            <a:r>
              <a:rPr b="0" lang="he-IL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("</a:t>
            </a:r>
            <a:r>
              <a:rPr b="0" lang="en-US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X</a:t>
            </a:r>
            <a:r>
              <a:rPr b="0" lang="he-IL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"))</a:t>
            </a:r>
            <a:r>
              <a:rPr b="0" lang="en-US" sz="2000" spc="-1" strike="noStrike">
                <a:solidFill>
                  <a:srgbClr val="0076bf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7720"/>
                </a:solidFill>
                <a:latin typeface="Arial"/>
              </a:rPr>
              <a:t>Ламбда изрази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Ламбда изразите са естественото продължение на анонимните методи, които бяха въведени в C#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.0. За да проследим развитието ще започнем от самото начало като обясним накартко делегатите.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ще с първата си версия  C#  предостави специален вид променлива, която сочи към методи  –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легатите. Това позволява делегати да се предават като параметри, да се променят и да се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звиква сочената функция. Използването на делегати позволява елегантно промяна на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грамния поток в зависимост от функциите, към които сочат.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елегати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следващият пример са извършени следните операции: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финиране на делегат Operation, който приема два параметъра.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ализиран метод Multiply със същите параметри като делегата Operation.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метода се създава променлива deleg, сочеща към инстанция на делегата Operation,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оято сочи към метода Multiply. Променливата deleg се извиква като нормален метод.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85" name=""/>
          <p:cNvSpPr/>
          <p:nvPr/>
        </p:nvSpPr>
        <p:spPr>
          <a:xfrm>
            <a:off x="1098720" y="4707000"/>
            <a:ext cx="520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public delegate long Operation(long first, int second);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tatic long Multiply(long i, int j){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return i * j;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{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static void Main(string[] args){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Operation deleg = new Operation(Multiply);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Arial"/>
              </a:rPr>
              <a:t>long res = deleg(12, 13);</a:t>
            </a: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анонимни методи към ламбда изрази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мбда изразите правят синтаксиса още по сбит. Прототипът е следният: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7720"/>
                </a:solidFill>
                <a:latin typeface="Arial"/>
              </a:rPr>
              <a:t>(Списък с параметри) =&gt;  тяло на метода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ът на параметрите не е задължителен и може да се пропусне: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7720"/>
                </a:solidFill>
                <a:latin typeface="Arial"/>
              </a:rPr>
              <a:t>(x, string s) =&gt; s.Length &gt; x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о тялото на метода съдържа повече от един ред тогава цялото тяло се огражда с {}.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ползвайки лабда изразите горният пример изглежда така: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static void Main(string[] args){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Operation deleg3 = (long i, int j) =&gt; {return i * j; };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long res = deleg2(14, 13);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а за използване на ламбда изрази: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обите на списъка с параметри може да се пропусне, ако параметъра  е един - n =&gt; 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&lt;10, освен ако не се указва типа на параметрите – (string n) =&gt; n&lt;10.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обите на списъка с параметри e  задължителен ако параметрите са повече от един или 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яма входни параметри.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377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же да се достъпват променливи от външният метод също като при анонимните методи.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мбда изразите са много често използвани в LINQ, както ще видим по късно в това ръководство. 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а покажем силата на тази конструкция ще разгледаме следният код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37720"/>
                </a:solidFill>
                <a:latin typeface="Arial"/>
              </a:rPr>
              <a:t>Инициализация на обекти</a:t>
            </a:r>
            <a:br>
              <a:rPr sz="4000"/>
            </a:b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6720" y="1181160"/>
            <a:ext cx="8048880" cy="3325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676440" y="1581120"/>
            <a:ext cx="790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5cc"/>
                </a:solidFill>
                <a:latin typeface="Consolas"/>
              </a:rPr>
              <a:t>Invoice i = new Invoice { CustomerId = 123, Name = “Test” };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5cc"/>
                </a:solidFill>
                <a:latin typeface="Consolas"/>
              </a:rPr>
              <a:t>Is equivalent to: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5cc"/>
                </a:solidFill>
                <a:latin typeface="Consolas"/>
              </a:rPr>
              <a:t>Invoice I = new Invoice();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5cc"/>
                </a:solidFill>
                <a:latin typeface="Consolas"/>
              </a:rPr>
              <a:t>i.CustomerId = 123;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5cc"/>
                </a:solidFill>
                <a:latin typeface="Consolas"/>
              </a:rPr>
              <a:t>i.Name = “Test”;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Resources</a:t>
            </a: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39280" y="1085760"/>
            <a:ext cx="834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LINQ Hom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http://msdn.com/linq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101 LINQ Examp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http://tinyurl.com/2rsmpd [VB]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http://tinyurl.com/ymmyr7 [C#]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egoe"/>
              </a:rPr>
              <a:t>LINQ Videos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Segoe"/>
              </a:rPr>
              <a:t>http://www.asp.net/learn/linq-videos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egoe"/>
              </a:rPr>
              <a:t>Scott Guthrie’s Blog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Segoe"/>
              </a:rPr>
              <a:t>weblogs.asp.net/scottgu/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egoe"/>
              </a:rPr>
              <a:t>LINQPad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Segoe"/>
              </a:rPr>
              <a:t>http://www.linqpad.net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12120" indent="-312120">
              <a:buClr>
                <a:srgbClr val="f37720"/>
              </a:buClr>
              <a:buFont typeface="Sego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и 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http://msdn.microsoft.com/en-us/vcsharp/aa336746 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998a"/>
                </a:solidFill>
                <a:latin typeface="Segoe"/>
                <a:ea typeface="Arial"/>
              </a:rPr>
              <a:t>http://www.galcho.com/articles/LINQTutorial/TutorialLINQ.pdf </a:t>
            </a:r>
            <a:endParaRPr b="0" lang="en-US" sz="18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 :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Segoe"/>
              </a:rPr>
              <a:t>public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</a:t>
            </a:r>
            <a:r>
              <a:rPr b="1" lang="en-US" sz="900" spc="-1" strike="noStrike">
                <a:solidFill>
                  <a:srgbClr val="ffffff"/>
                </a:solidFill>
                <a:latin typeface="Segoe"/>
              </a:rPr>
              <a:t>void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Linq1()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1" lang="en-US" sz="900" spc="-1" strike="noStrike">
                <a:solidFill>
                  <a:srgbClr val="ffffff"/>
                </a:solidFill>
                <a:latin typeface="Segoe"/>
              </a:rPr>
              <a:t>int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[] numbers = { 5, 4, 1, 3, 9, 8, 6, 7, 2, 0 };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var lowNums =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from n </a:t>
            </a:r>
            <a:r>
              <a:rPr b="1" lang="en-US" sz="900" spc="-1" strike="noStrike">
                <a:solidFill>
                  <a:srgbClr val="ffffff"/>
                </a:solidFill>
                <a:latin typeface="Segoe"/>
              </a:rPr>
              <a:t>in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numbers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where n &lt; 5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select n;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Console.WriteLine("Numbers &lt; 5:");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1" lang="en-US" sz="900" spc="-1" strike="noStrike">
                <a:solidFill>
                  <a:srgbClr val="ffffff"/>
                </a:solidFill>
                <a:latin typeface="Segoe"/>
              </a:rPr>
              <a:t>foreach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(var x </a:t>
            </a:r>
            <a:r>
              <a:rPr b="1" lang="en-US" sz="900" spc="-1" strike="noStrike">
                <a:solidFill>
                  <a:srgbClr val="ffffff"/>
                </a:solidFill>
                <a:latin typeface="Segoe"/>
              </a:rPr>
              <a:t>in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lowNums)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Console.WriteLine(x);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Numbers + 1: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6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5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2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4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10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9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7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8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3</a:t>
            </a:r>
            <a:br>
              <a:rPr sz="1200"/>
            </a:br>
            <a:r>
              <a:rPr b="1" lang="en-US" sz="1200" spc="-1" strike="noStrike">
                <a:solidFill>
                  <a:srgbClr val="99ff99"/>
                </a:solidFill>
                <a:latin typeface="Segoe"/>
              </a:rPr>
              <a:t>1 </a:t>
            </a:r>
            <a:endParaRPr b="0" lang="en-US" sz="1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public void Linq24()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int[] numbers = { 5, 4, 1, 3, 9, 8, 6, 7, 2, 0 };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var firstNumbersLessThan6 = numbers.TakeWhile(n =&gt; n &lt; 6);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Console.WriteLine("First numbers less than 6:");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foreach (var n in firstNumbersLessThan6)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Console.WriteLine(n);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ff99"/>
                </a:solidFill>
                <a:latin typeface="Segoe"/>
              </a:rPr>
              <a:t>Result</a:t>
            </a:r>
            <a:endParaRPr b="0" lang="en-US" sz="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ff99"/>
                </a:solidFill>
                <a:latin typeface="Segoe"/>
              </a:rPr>
              <a:t>First numbers less than 6:</a:t>
            </a:r>
            <a:endParaRPr b="0" lang="en-US" sz="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ff99"/>
                </a:solidFill>
                <a:latin typeface="Segoe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ff99"/>
                </a:solidFill>
                <a:latin typeface="Segoe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ff99"/>
                </a:solidFill>
                <a:latin typeface="Segoe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Segoe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ff99"/>
                </a:solidFill>
                <a:latin typeface="Segoe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7720"/>
                </a:solidFill>
                <a:latin typeface="Segoe"/>
              </a:rPr>
              <a:t>OrderBy - Simple </a:t>
            </a:r>
            <a:br>
              <a:rPr sz="3600"/>
            </a:b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public void Linq28()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string[] words = { "cherry", "apple", "blueberry" };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var sortedWords =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from w in words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orderby w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select w;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Console.WriteLine("The sorted list of words:");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foreach (var w in sortedWords)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Console.WriteLine(w);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Segoe"/>
              </a:rPr>
              <a:t>Result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Segoe"/>
              </a:rPr>
              <a:t>The sorted list of words:</a:t>
            </a:r>
            <a:br>
              <a:rPr sz="1800"/>
            </a:br>
            <a:r>
              <a:rPr b="0" lang="en-US" sz="1800" spc="-1" strike="noStrike">
                <a:solidFill>
                  <a:srgbClr val="99ff99"/>
                </a:solidFill>
                <a:latin typeface="Segoe"/>
              </a:rPr>
              <a:t>apple</a:t>
            </a:r>
            <a:br>
              <a:rPr sz="1800"/>
            </a:br>
            <a:r>
              <a:rPr b="0" lang="en-US" sz="1800" spc="-1" strike="noStrike">
                <a:solidFill>
                  <a:srgbClr val="99ff99"/>
                </a:solidFill>
                <a:latin typeface="Segoe"/>
              </a:rPr>
              <a:t>blueberry</a:t>
            </a:r>
            <a:br>
              <a:rPr sz="1800"/>
            </a:br>
            <a:r>
              <a:rPr b="0" lang="en-US" sz="1800" spc="-1" strike="noStrike">
                <a:solidFill>
                  <a:srgbClr val="99ff99"/>
                </a:solidFill>
                <a:latin typeface="Segoe"/>
              </a:rPr>
              <a:t>cherry</a:t>
            </a:r>
            <a:endParaRPr b="0" lang="en-US" sz="1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7720"/>
                </a:solidFill>
                <a:latin typeface="Segoe"/>
              </a:rPr>
              <a:t>Distinct</a:t>
            </a:r>
            <a:br>
              <a:rPr sz="3600"/>
            </a:b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Linq46(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[] factorsOf300 = { 2, 2, 3, 5, 5 }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var uniqueFactors = factorsOf300.Distinct(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Console.WriteLine("Prime factors of 300:"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foreach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(var f </a:t>
            </a: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in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uniqueFactors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    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Console.WriteLine(f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99"/>
                </a:solidFill>
                <a:latin typeface="Segoe"/>
              </a:rPr>
              <a:t>Result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99"/>
                </a:solidFill>
                <a:latin typeface="Segoe"/>
              </a:rPr>
              <a:t>Prime factors of 300:</a:t>
            </a:r>
            <a:br>
              <a:rPr sz="1600"/>
            </a:br>
            <a:r>
              <a:rPr b="0" lang="en-US" sz="1600" spc="-1" strike="noStrike">
                <a:solidFill>
                  <a:srgbClr val="99ff99"/>
                </a:solidFill>
                <a:latin typeface="Segoe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99ff99"/>
                </a:solidFill>
                <a:latin typeface="Segoe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99ff99"/>
                </a:solidFill>
                <a:latin typeface="Sego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7720"/>
                </a:solidFill>
                <a:latin typeface="Segoe"/>
              </a:rPr>
              <a:t>This sample uses Count to get the number of unique factors of 300.</a:t>
            </a:r>
            <a:br>
              <a:rPr sz="3600"/>
            </a:br>
            <a:endParaRPr b="0" lang="en-US" sz="36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Linq73()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[] factorsOf300 = { 2, 2, 3, 5, 5 }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1" lang="en-US" sz="1600" spc="-1" strike="noStrike">
                <a:solidFill>
                  <a:srgbClr val="ffffff"/>
                </a:solidFill>
                <a:latin typeface="Sego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uniqueFactors = factorsOf300.Distinct().Count(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    </a:t>
            </a: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Console.WriteLine("There are {0} unique factors of 300.", uniqueFactors);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Segoe"/>
              </a:rPr>
              <a:t>Result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Segoe"/>
              </a:rPr>
              <a:t>There are 3 unique factors of 300.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4240" y="2473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Anonymous </a:t>
            </a:r>
            <a:br>
              <a:rPr sz="4000"/>
            </a:br>
            <a:endParaRPr b="0" lang="en-US" sz="40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Object Initializers Can be Used w/o a Typ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Result is an </a:t>
            </a:r>
            <a:r>
              <a:rPr b="0" i="1" lang="en-US" sz="2400" spc="-1" strike="noStrike">
                <a:solidFill>
                  <a:srgbClr val="ffffff"/>
                </a:solidFill>
                <a:latin typeface="Segoe"/>
              </a:rPr>
              <a:t>Anonymous Type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lass Generated Under the Covers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requently Utilized by LINQ</a:t>
            </a: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95160" y="2762280"/>
            <a:ext cx="7905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Invoice i = new Invoice { CustomerId = 123, Name = “SmithCo” }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cc"/>
                </a:solidFill>
                <a:latin typeface="Consolas"/>
              </a:rPr>
              <a:t>var i2 = new Invoice { CustomerId = 123, Name = “SmithCo” }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var i3 = new {CustomerId = 123, Name = “SmithCo” }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5cc"/>
                </a:solidFill>
                <a:latin typeface="Consolas"/>
              </a:rPr>
              <a:t>var i4 = new {123, “SmithCo”};</a:t>
            </a: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2998a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04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7720"/>
                </a:solidFill>
                <a:latin typeface="Segoe"/>
              </a:rPr>
              <a:t>Lambda Expressions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Segoe"/>
              </a:rPr>
              <a:t>Predicates</a:t>
            </a:r>
            <a:endParaRPr b="0" lang="en-US" sz="3200" spc="-1" strike="noStrike">
              <a:solidFill>
                <a:srgbClr val="f37720"/>
              </a:solidFill>
              <a:latin typeface="Sego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9640" y="1600200"/>
            <a:ext cx="804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Predicat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37720"/>
              </a:buClr>
              <a:buFont typeface="Consola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(p) =&gt; p.Gender == “F”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Projection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37720"/>
              </a:buClr>
              <a:buFont typeface="Consola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cc"/>
                </a:solidFill>
                <a:latin typeface="Consolas"/>
              </a:rPr>
              <a:t>(p) =&gt; p.Gender ? “F” : “Female”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2" marL="1143000" indent="-22860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Each person </a:t>
            </a:r>
            <a:r>
              <a:rPr b="0" i="1" lang="en-US" sz="2000" spc="-1" strike="noStrike">
                <a:solidFill>
                  <a:srgbClr val="ffffff"/>
                </a:solidFill>
                <a:latin typeface="Segoe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 becomes string “Female” if Gender is “F””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spcBef>
                <a:spcPts val="499"/>
              </a:spcBef>
              <a:buClr>
                <a:srgbClr val="f37720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5:17:07Z</dcterms:created>
  <dc:creator/>
  <dc:description/>
  <dc:language>en-US</dc:language>
  <cp:lastModifiedBy/>
  <dcterms:modified xsi:type="dcterms:W3CDTF">2011-05-10T10:00:53Z</dcterms:modified>
  <cp:revision>7</cp:revision>
  <dc:subject/>
  <dc:title>LINQ</dc:title>
</cp:coreProperties>
</file>