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AA4-6E9D-408F-AF5A-AB4CEB02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94F-E66F-434C-8B54-1BF2511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DE1-7357-40EA-B845-B4576EDA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8B0-8B02-4F57-B7DA-6717DBEE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2B27-7D39-4BAF-BBC5-7240262D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42F-3569-492D-A282-12C7F01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0FA4-FDA2-4944-ACFC-77416B8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8D7-0C4D-4BCD-8CFD-43263D3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49DB-C8B2-4004-A406-BCCD516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629A-67D6-4CF7-AED7-ED3D3A92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8B5B-56B5-40C1-BDCE-14F0E57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E10-73CD-472E-A1EB-94E954B8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93A8-6F76-4FD8-9765-13EEA18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4AE-A108-4C6D-88C7-570FBC1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544-0A13-45C8-B02C-ED7C2D9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BAB-07E9-45E7-BE47-972050DC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75C2-9F7F-4640-861B-AEB20E72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26C-64F6-4D63-9CB3-F4F0F78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B04-3BB7-47EB-BCB9-C6B981B8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884-14B4-4215-9176-01EA1E1B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B60-BEA4-49D4-A33A-BB865AEE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F0E-B70D-4BC8-8F46-71F761E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EB9-0676-4306-9C7B-04DE72C7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D14-3A67-4611-B424-9F1C43B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44F9-EB1F-405E-9125-A6CD2AC52D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79C-D47E-401A-A98C-24C6B24BA2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emas.microsoft.com/winfx/2006/xa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PF (Avalon),  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INQ (Orcas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640" y="278136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App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App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P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table&gt;...&lt;/tabl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tr&gt;...&lt;/tr&gt; for each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td&gt;...&lt;/td&gt; for each element in a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th&gt;…&lt;/th&gt; for header 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le Exa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able border="1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ow 1, cell 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ow 1, cell 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ow 2, cell 1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td&gt;row 2, cell 2&lt;/td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98960" y="3046320"/>
            <a:ext cx="31543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!-- This is a comment --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!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ragrap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lso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al HTM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lt;  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gt;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amp; → 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nbsp; → 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chor Tag (Link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lute HREFs specify fully qualified UR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a href="http://www.yahoo.com/"&gt;Yahoo!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a href="reldoc.html"&gt;In this directory!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a href="a/doc.html"&gt;In sub-directory a!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HREFs are relative to the directory containing the current HTML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2556000"/>
            <a:ext cx="779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XML</a:t>
            </a:r>
            <a:br>
              <a:rPr sz="6000"/>
            </a:b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ensible 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kup 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guage 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ML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880" y="1089000"/>
            <a:ext cx="8371080" cy="54338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?xml version="1.0"?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library name=".NET Developer's Library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title&gt;Programming Microsoft .NET&lt;/tit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author&gt;Jeff Prosise&lt;/autho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isbn&gt;0-7356-1376-1&lt;/isbn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/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title&gt;Microsoft</a:t>
            </a: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.NET for Programmers&lt;/tit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author&gt;Fergal Grimes&lt;/autho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isbn&gt;1-930110-19-7&lt;/isbn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/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/library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ML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880" y="1089000"/>
            <a:ext cx="8371080" cy="54338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&lt;?xml version="1.0"?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library 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name=".NET Developer's Library"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&lt;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title&gt;Programming Microsoft .NET&lt;/tit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author&gt;Jeff Prosise&lt;/autho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&lt;isbn&gt;0-7356-1376-1&lt;/isbn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/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title&gt;Microsoft</a:t>
            </a: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.NET for Programmers&lt;/titl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author&gt;Fergal Grimes&lt;/author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isbn&gt;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1-930110-19-7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/isbn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&lt;/book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&lt;/library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634080" y="794160"/>
            <a:ext cx="1449360" cy="507960"/>
          </a:xfrm>
          <a:prstGeom prst="wedgeRoundRectCallout">
            <a:avLst>
              <a:gd name="adj1" fmla="val -73768"/>
              <a:gd name="adj2" fmla="val -128750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атрибу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97280" y="306000"/>
            <a:ext cx="1582920" cy="1031760"/>
          </a:xfrm>
          <a:prstGeom prst="wedgeRoundRectCallout">
            <a:avLst>
              <a:gd name="adj1" fmla="val -105467"/>
              <a:gd name="adj2" fmla="val -54773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заглавна част (проло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44440" y="2607480"/>
            <a:ext cx="1500120" cy="638280"/>
          </a:xfrm>
          <a:prstGeom prst="wedgeRoundRectCallout">
            <a:avLst>
              <a:gd name="adj1" fmla="val 39310"/>
              <a:gd name="adj2" fmla="val 93777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отварящ та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794040" y="3858480"/>
            <a:ext cx="1476360" cy="430200"/>
          </a:xfrm>
          <a:prstGeom prst="wedgeRoundRectCallout">
            <a:avLst>
              <a:gd name="adj1" fmla="val -66884"/>
              <a:gd name="adj2" fmla="val 130069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елем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17440" y="4726800"/>
            <a:ext cx="1563840" cy="638280"/>
          </a:xfrm>
          <a:prstGeom prst="wedgeRoundRectCallout">
            <a:avLst>
              <a:gd name="adj1" fmla="val 39337"/>
              <a:gd name="adj2" fmla="val -104976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затварящ та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778200" y="5915160"/>
            <a:ext cx="3473640" cy="426960"/>
          </a:xfrm>
          <a:prstGeom prst="wedgeRoundRectCallout">
            <a:avLst>
              <a:gd name="adj1" fmla="val -45750"/>
              <a:gd name="adj2" fmla="val 143675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стойност на елем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SD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хем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773360"/>
            <a:ext cx="8175600" cy="40536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name="book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complexTyp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sequenc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ref="title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ref="author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ref="isbn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/xs:sequenc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/xs:complexTyp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/xs: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name="title" type="xs:string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name="author" type="xs:string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xs:element name="isbn" type="xs:string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&lt;/xs:schema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XAML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Extensible Application Markup Language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XAML – XML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 of XAML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AML code is short and clear to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designer code and lo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design tools like Expression Blend require XAML as 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TML-  </a:t>
            </a: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HyperText Markup Languag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form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name: &lt;input type="text" name="firstname" /&gt;&lt;br /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t name: &lt;input type="text" name="lastname"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/form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280" y="3645000"/>
            <a:ext cx="88567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21000" y="204840"/>
            <a:ext cx="85291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ollowing types are included into the XAML langu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Object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Boolean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Char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String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Decimal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Single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Double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Int16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Int32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Int64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TimeSpan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Uri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Byte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Array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List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x:Dictionary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#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4382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514600"/>
            <a:ext cx="7313400" cy="3352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System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System.Window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space AvalonExample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lass MyApp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[STAThread]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static void Main()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MessageBox.Show(“Hello World!”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AML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514600"/>
            <a:ext cx="7313400" cy="3352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age xmlns="http://schemas.microsoft.com/winfx/avalon/2005" xmlns:x="http://schemas.microsoft.com/winfx/xaml/2005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extBlock&gt;Hello World!&lt;/TextBlock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Pag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bj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object acts as container for more comple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events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up &amp; Shut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4221000"/>
            <a:ext cx="5219640" cy="2333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MyApp : Appl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[STAThread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static void Main(string[] arg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MyApp app = new MyApp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app.Startup += app.OnApplicationStartu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app.Run(args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OnApplicationStartup(object sender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StartupEventArgs e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Window w = new Window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w.Title = "Mark says: Hello World!"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w.Show(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Properties as Element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56108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Implicit Type conversion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920000" cy="5565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153120" y="260280"/>
            <a:ext cx="2990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748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PF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236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ocument Stru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lt;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My First Web Page&lt;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/ti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h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gcolor="white"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A Paragraph of Text.&lt;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/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/bo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/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Rich composition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49244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31435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252360" y="1844640"/>
            <a:ext cx="8640720" cy="3492360"/>
          </a:xfrm>
          <a:prstGeom prst="rect">
            <a:avLst/>
          </a:prstGeom>
          <a:solidFill>
            <a:srgbClr val="b5dbe5">
              <a:alpha val="15000"/>
            </a:srgbClr>
          </a:solidFill>
          <a:ln w="12600">
            <a:solidFill>
              <a:srgbClr val="90ca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&lt;Window x:Class="MyFirstWpfApp.MainWindow" xmlns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 </a:t>
            </a: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"http://schemas.microsoft.com/winfx/2006/xaml/presentation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 </a:t>
            </a: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xmlns:x=</a:t>
            </a:r>
            <a:r>
              <a:rPr b="0" sz="2000" spc="-1" strike="noStrike" u="sng">
                <a:solidFill>
                  <a:srgbClr val="ffffcc"/>
                </a:solidFill>
                <a:uFillTx/>
                <a:latin typeface="Consolas"/>
                <a:hlinkClick r:id="rId1"/>
              </a:rPr>
              <a:t>http://schemas.microsoft.com/winfx/2006/xa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 </a:t>
            </a: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Title="Hello, WPF" Height="300" Width="300"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   </a:t>
            </a: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&lt;Button x:Name="butt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     </a:t>
            </a: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Width="200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     </a:t>
            </a: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Height="25"&gt;OK&lt;/Button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8cf4f2"/>
                </a:solidFill>
                <a:latin typeface="Consolas"/>
              </a:rPr>
              <a:t>&lt;/Window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5645160" y="3786120"/>
            <a:ext cx="2816280" cy="2054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00520" y="639720"/>
            <a:ext cx="4291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b5dbe5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fd2"/>
                </a:solidFill>
                <a:latin typeface="Arial"/>
              </a:rPr>
              <a:t>Constructs button with caption "OK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4390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-  V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488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4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496880"/>
            <a:ext cx="727236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4007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4932360" cy="3638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97600" y="372960"/>
            <a:ext cx="513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oBox with Live P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644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818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13564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sted Ta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 tree, each element is contained inside a parent e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element may have any number of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6483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body&gt;...&lt;/body&gt;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bgcolor="white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3645000"/>
            <a:ext cx="7696080" cy="2668320"/>
            <a:chOff x="1219320" y="3645000"/>
            <a:chExt cx="7696080" cy="2668320"/>
          </a:xfrm>
        </p:grpSpPr>
        <p:sp>
          <p:nvSpPr>
            <p:cNvPr id="109" name=""/>
            <p:cNvSpPr/>
            <p:nvPr/>
          </p:nvSpPr>
          <p:spPr>
            <a:xfrm>
              <a:off x="3733560" y="364500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&lt;html&gt;...&lt;/html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8480" y="463536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&lt;head&gt;...&lt;/head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5257800"/>
              <a:ext cx="76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&lt;title&gt;...&lt;/title&gt;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stuff      &lt;p&gt;...&lt;/p&gt;    &lt;br&gt;    &lt;table&gt;...&lt;/table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5120" y="594504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is is some text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276720" y="4114800"/>
              <a:ext cx="13716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4114800"/>
              <a:ext cx="1523880" cy="609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057400" y="4952880"/>
              <a:ext cx="914400" cy="304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4952880"/>
              <a:ext cx="685800" cy="304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952880" y="4952880"/>
              <a:ext cx="990720" cy="381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4952880"/>
              <a:ext cx="0" cy="381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3600" y="4952880"/>
              <a:ext cx="838080" cy="381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5562720"/>
              <a:ext cx="0" cy="3808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14920" cy="3048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70851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6875280" cy="388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ttp://www.wpftutorial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34800" y="1647720"/>
            <a:ext cx="88092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Ta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lt;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My First Web Page&lt;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/ti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h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gcolor="white"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A Paragraph of Text.&lt;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/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/bo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/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Ta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!doctype html public “-//w3c//dtd html 4.0 transitional//en”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mble which identifies content as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h1&gt;…&lt;/h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1-6 where larger number means smaller h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p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vertical whitespace unlike &lt;br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sic Ta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hr&gt; horizontal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br&gt; new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b&gt;...&lt;/b&gt; b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&gt;...&lt;/i&gt; italicize text in betw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rdered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u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li&gt; Ap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li&gt; Or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u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o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li&gt;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li&gt; Tw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/ol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n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13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13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ny Sm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age Fi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img src="URL of image file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or pho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or simpl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der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G – Portable Network Graph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standard replacement for G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VG – Scalable Vector Graph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drawing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3:00:23Z</dcterms:created>
  <dc:creator>koko</dc:creator>
  <dc:description/>
  <dc:language>en-US</dc:language>
  <cp:lastModifiedBy>LB</cp:lastModifiedBy>
  <dcterms:modified xsi:type="dcterms:W3CDTF">2012-04-04T06:13:37Z</dcterms:modified>
  <cp:revision>11</cp:revision>
  <dc:subject/>
  <dc:title>WPF (Avalon),    LINQ (Orcas)</dc:title>
</cp:coreProperties>
</file>