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092-2756-4A0A-8F39-ED9CF11D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0A6-8785-437D-83EE-97757896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55E-CEB6-411F-969D-1D9BC275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F30-D746-4F4D-BA07-AA55C400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E397-07C8-42E6-8653-C191CE2E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0928-5E69-428E-9E3C-8537EEE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D783-B429-4FD8-9A29-9BA77F7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AD72-9161-487F-A0D2-A8119F6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605-A20F-4876-A972-C106DA6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6A1-94B3-4822-B6BC-AFC0FB3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144E-B6BB-4350-9A98-D6FE269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B44-E83D-4C3E-9B99-677DCFB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12CB-FA97-4884-A1D0-02DF8AD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525-3A5E-41D1-81D8-D6EEE7B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F156-1471-43D9-B55B-99303956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1E52-1260-4CBD-88EF-D6CFE19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250-296B-4B05-98AB-52E90655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D3B-9DB8-40E9-A653-DAD2EF6D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5D2-015F-44BF-87CF-0E0F298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E68-7332-4636-B306-1DD6C7E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4C3-99E5-4DC0-A18D-ECE6EA8A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7B3-E8B6-4638-877C-3BC811D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04C-E182-4F49-B38A-153C0BF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370-F658-4A16-815D-AD75EAD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0E46-9CA4-4547-9B2F-3367CE97E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053-432C-4E53-9886-2373350E1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kb.flexerasoftware.com/doc/Helpnet/InstallShield2011/IHelpContents.htm" TargetMode="External"/><Relationship Id="rId2" Type="http://schemas.openxmlformats.org/officeDocument/2006/relationships/hyperlink" Target="http://www.wavepointstudios.net/Is2011/One-Click-Releases.aspx" TargetMode="Externa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8200" y="2290320"/>
            <a:ext cx="825192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Arial"/>
              </a:rPr>
              <a:t>Вход и изход в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.NET Framework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5760"/>
            <a:ext cx="9144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те в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 Fra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4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сновните операции с потоци 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4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затваря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4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вършва се работата с потока и се освобождават използваните ресур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4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ример при файлов поток се записват данните от вътрешните буфери, които не са все още записани на диска и се затваря фай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4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руги опер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4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празване на вътрешните буфер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sh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4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държа се и асинхронно четене и писане (което ще разгледаме в темата за работа с нишки и синхрониз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4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якои специални потоци поддържат и други специфични за тях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те в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 Fra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азов клас за всички потоци е абстрактният клас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IO.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него са дефинирани методи за извършване на основните оп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всички потоци поддържат операциите четене, писане и позицион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и операции се поддържат може да се провери чрез свойстват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anRea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anWrit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anS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тоците, които позволяват позициониране поддържат свойств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Positi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ма специален поток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.Nul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който игнорира всички опити за четене и пис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Тип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System.IO.Stre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6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 методи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6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 Read(byte[]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buff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ff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 count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чете най-много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u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байта от входен поток, увеличава текущата позиция и връща колко байта е прочел или 0 при край на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6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ad(…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може да блокира за неопределено време докато прочете поне 1 бай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6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ad(…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оже да прочете по-малко от заявения брой байт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6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rite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(byte[]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buff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ff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 coun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писва в потока поредица от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айта, започвайки от дадена позиция в мас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6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rite(…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оже да блокира за неопределено време, докато изпрати всички байтове към местоназначението 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Тип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System.IO.Stre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 методи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lush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изпраща данните от вътрешните буфери към механизма за съхранение/пренос на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los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извикв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lush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затваря връзката към механизма за съхранение/пренос на данни и освобождава използваните ресур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eek(off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eekOrigin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емества текущата позиция в потока (ако се поддържа) с дадено отместване спрямо началото, края или текущата позиция в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etLength(long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меня дължината на потока (ако се поддърж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позициониране не се поддържа, се хвърля изключение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NotSupportedEx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Буферирани потоц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4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уферираните потоц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уферират данните и така значително подобряват производителност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заявка за прочитане на 1 байт се прочитат още няколко килобайта напред и се записват във вътрешен буф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следващо четене се връщат данни от буфера (което е много бърза опер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писане данните се записват във вътрешен буфер (което става много бърз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препълване на буфера или при извикване н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lush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данните от буфера се изпращат към механизма за съхранение/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.NET Framework се използв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IO.Buffered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айлови 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потоци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работа с файлови потоци се използва 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следява класа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re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поддържа всички негови методи и св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държа четене, писане, позициониране (ако устройството, където се намира файла поддържа тези опера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конструктора му се зада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ме на фай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чин на отваряне на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жим на достъ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стъп за конкурентни потреб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айлови потоц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Конструиране на файлов пото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FileMod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начин на отваряне на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Open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Append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Creat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CreateNew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OpenOrCreat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Trun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FileAccess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режим на отваряне на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Writ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FileShar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режим на достъп за други потребители докато ние държим отворен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Non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Writ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3560" y="1703520"/>
            <a:ext cx="7116840" cy="7221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tream fs = new FileStream(string fileN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Mode [, FileAccess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[, Fi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hare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айлови потоц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–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200" y="1076400"/>
            <a:ext cx="8110440" cy="54849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// Замяна на всички нули (0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00) в двоичен файл с 255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 (0xF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tream fs = new FileStream("input.bin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Mode.Open, FileAccess.ReadWrite, FileShare.Non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yte[] buf = new byte[16384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ile (tr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bytesRead =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s.Read(buf, 0, buf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bytesRead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r (int i=0; i&lt;bytesRead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buf[i] ==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f[i] =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255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s.Seek(-bytesRead, SeekOrigin.Curren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s.Write(buf, 0, bytes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Замяна на стойност в двоичен фай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14440" y="1828800"/>
            <a:ext cx="625788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Четци и пис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Четците и писачите са класове, кои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улесняват работата с потоц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позволяват четене и писане на различни структури от данни, например примитивни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типове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текстова информация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и други тип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биват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воични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и тексто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Класовете </a:t>
            </a: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BinaryReader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BinaryWri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осигуряват четене и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записване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на примитивните типове данни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в двоичен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ReadChar(), ReadChars(), ReadInt32(), ReadDouble()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Write(char), Write(char[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]), Write(Int32), Write(Double)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позволяват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 четене и писане на </a:t>
            </a: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, като го записват като масив от символи, предхождан от дължината му: </a:t>
            </a: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ReadString()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ffffff"/>
                </a:solidFill>
                <a:latin typeface="Courier New"/>
              </a:rPr>
              <a:t>Write(st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държани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о представляват потоц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тоците в .NET Framework. Базови и преходни потоци. Основни опер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ипъ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System.IO.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уферирани пото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айлови пото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Четци и пис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воични четци и пис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екстови четци и пис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ерации с файлове. Класове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e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b2b2b2"/>
                </a:solidFill>
                <a:latin typeface="Arial"/>
              </a:rPr>
              <a:t>Бинарни четци и писачи – пример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маме бинарен файл със записи във формат (име: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възраст: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добавяне и четене на записи можем да ползваме следния ко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8200" y="2924280"/>
            <a:ext cx="8110440" cy="36226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AppendPerson(BinaryWriter aWrite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aName, int a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Writer.Write(a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Writer.Write(a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ReadPerson(BinaryReader aReade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ut string aName, out int a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Name = aReader.ReadStrin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Age = aReader.ReadInt32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b2b2b2"/>
                </a:solidFill>
                <a:latin typeface="Arial"/>
              </a:rPr>
              <a:t>Бинарни четци и писачи – пример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то и цялостен пример за записване и прочитане на няколко зап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435400"/>
            <a:ext cx="8227800" cy="468972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Създаваме файла data.bin и записва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в него няколко запи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tream fs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FileStream("data.bin", FileMode.Creat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f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BinaryWriter writer = new BinaryWriter(fs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ppendPerson(writer, "Бай Иван", 57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ppendPerson(writer, "Цар Киро",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48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ppendPerson(writer, "Кака Мара", 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(примерът продължа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b2b2b2"/>
                </a:solidFill>
                <a:latin typeface="Arial"/>
              </a:rPr>
              <a:t>Бинарни четци и писачи – пример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то и цялостен пример за записване и прочитане на няколко запи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455920"/>
            <a:ext cx="8227800" cy="49176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Прочитаме и отпечатваме всички записи от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файла 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data.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s = new FileStream("data.bin", FileMode.Op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BinaryReader reader = new BinaryReader(fs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ile (fs.Position &lt; fs.Length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a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adPerson(reader, out name, out 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{0} - {1}", name, 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воични файлове със запи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25788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Текстови четци и пис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Класовете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TextReader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TextWr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осигуряват четене и записване на текстова информация (низове, разделени с нов ре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зползват се по същия начин като класа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Console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има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Lin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WriteLine(</a:t>
            </a:r>
            <a:r>
              <a:rPr b="0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Arial"/>
              </a:rPr>
              <a:t>…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символът за нов ред е различен за различните платфор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LF (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0x0A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) – в Unix и Lin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CR LF (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0x0D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0x0A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) – в Windows и 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Line()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прочита текстов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р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ReadToEnd()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прочита всичко до края на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Write(</a:t>
            </a:r>
            <a:r>
              <a:rPr b="0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пише текст в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WriteLine(</a:t>
            </a:r>
            <a:r>
              <a:rPr b="0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– пише текстов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ред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 в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Текстови четци и пис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овете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TextRead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TextWri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а абстрактни и не се използват дирек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олзват се следните класов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Read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чете текстови данни от по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ingRead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чете текстови данни от н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Wri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ише текстови данни в по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ingWri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ише текстови данни в низ, използва вътрешно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ingBui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аден е текстов файл. Искаме да добавим номерация в началото на всеки ред от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олзваме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Read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treamWri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четем всеки ред и го отпечатваме като добавяме ном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700" spc="-1" strike="noStrike">
                <a:solidFill>
                  <a:srgbClr val="b2b2b2"/>
                </a:solidFill>
                <a:latin typeface="Arial"/>
              </a:rPr>
              <a:t>Текстови четци и писачи – пример</a:t>
            </a:r>
            <a:endParaRPr b="0" lang="en-US" sz="3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4840" y="974880"/>
            <a:ext cx="8227800" cy="58262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// Номериране на редовете на текстов фай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eamReader reader = new StreamReader("in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rea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eamWriter writer = new StreamWriter("out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wri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lineNumb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line = reader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le (line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ineNumber+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riter.WriteLine("{0,5} {1}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ineNumber, lin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ine = reader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57240" y="2152800"/>
            <a:ext cx="5862600" cy="4413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мериране на редовете на текстов фай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3697200"/>
            <a:ext cx="318456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700" spc="-1" strike="noStrike">
                <a:solidFill>
                  <a:srgbClr val="b2b2b2"/>
                </a:solidFill>
                <a:latin typeface="Arial"/>
              </a:rPr>
              <a:t>Текстови четци и писачи – пример</a:t>
            </a:r>
            <a:endParaRPr b="0" lang="en-US" sz="3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4840" y="1038240"/>
            <a:ext cx="8227800" cy="55040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// Find-text-in-file Search Ut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args.Length &lt;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Use: FindInFile file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fileName = args[0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!File.Exists(fileName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Could not find file: " 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textToFind = args[1].Trim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700" spc="-1" strike="noStrike">
                <a:solidFill>
                  <a:srgbClr val="b2b2b2"/>
                </a:solidFill>
                <a:latin typeface="Arial"/>
              </a:rPr>
              <a:t>Текстови четци и писачи – пример</a:t>
            </a:r>
            <a:endParaRPr b="0" lang="en-US" sz="3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300320"/>
            <a:ext cx="8227800" cy="5544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StreamReader reader = File.OpenText(fileName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ool found 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lineNumb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li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ile ((line = reader.ReadLine())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ineNumber+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line.IndexOf(textToFind) &gt; -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{0:0000}: {1}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ineNumber, lin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un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Text not foun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държани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директории. Класове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Directory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ение на файловата система с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FileSystemWat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Isolated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ърсене на низ в текстов фай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8480" y="1836720"/>
            <a:ext cx="6258240" cy="471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716280" y="3478320"/>
            <a:ext cx="501012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Четци, писачи и кодир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етците и писачите използват кодирания за да боравят с текстова 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 подразбиране се използва кодиране UTF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конструкторите могат да се задават и други кодирания, инстанции н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Enc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здаван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125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ете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здаван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-125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ис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573360"/>
            <a:ext cx="8227800" cy="10656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coding win1251 = Encoding.GetEncoding("windows-1251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eamReader reader = new StreamReader("in.txt", win125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3680" y="5373720"/>
            <a:ext cx="8227800" cy="10656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coding win1251 = Encoding.GetEncoding("windows-1251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eamWriter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riter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treamWriter("out.txt", win125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овете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File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FileInf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а помощни класове, които предоставят функционалност 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здаване на файл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reat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reateTex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варяне на файл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pen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penRead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penWrit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AppendTex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пиране на файл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pyTo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стене (преименуване) на файл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oveTo(…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триване на файл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ele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времето на последен достъп и промяна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LastAccessTim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LastWrite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верка за съществуване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Exists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оставя тези методи статични, 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рез инст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File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FileInfo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4840" y="1038240"/>
            <a:ext cx="8227800" cy="55162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eamWriter writer = File.CreateText("test1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wri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riter.WriteLine("Налей ми бира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Info fileInfo = new FileInfo("test1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Info.CopyTo("test2.txt", tru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Info.CopyTo("test3.txt", tru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File.Exists("test4.txt"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.Delete("test4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.Move("test3.txt", "test4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Courier New"/>
              </a:rPr>
              <a:t>Directory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b2b2b2"/>
                </a:solidFill>
                <a:latin typeface="Courier New"/>
              </a:rPr>
              <a:t>Directory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Inf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irectory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а класове, които предоставят функционалност 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здаване на директории и поддиректории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reat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reateSubdirectory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всички файлове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GetFile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всички поддиректории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GetDirectorie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стене (преименуване)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oveTo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триване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elet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горната директория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Pa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верка за съществуване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Exists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75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пълното име –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ull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оставя тези методи статични, 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irectoryInf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рез инст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en-US" sz="4400" spc="-1" strike="noStrike">
                <a:solidFill>
                  <a:srgbClr val="b2b2b2"/>
                </a:solidFill>
                <a:latin typeface="Courier New"/>
              </a:rPr>
              <a:t>Directory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4840" y="987480"/>
            <a:ext cx="8383320" cy="5553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ass DirectoryTraver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Traverse(string aPa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[{0}]", aPa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[] subdirs = Directory.GetDirectories(aPa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reach (string subdir in subdi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raverse(subdi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[] files = Directory.GetFiles(aPa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reach (string f in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ing winDir = Environment.SystemDirector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ravers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winDir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бхождане на дирек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1720" y="1739880"/>
            <a:ext cx="6257880" cy="4710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013280" y="3367080"/>
            <a:ext cx="4724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en-US" sz="4400" spc="-1" strike="noStrike">
                <a:solidFill>
                  <a:srgbClr val="b2b2b2"/>
                </a:solidFill>
                <a:latin typeface="Courier New"/>
              </a:rPr>
              <a:t>P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4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IO.Path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оставя функционалност за работа с пътищ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4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 свойства и метод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irectorySeparatorCha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имволът, който отделя директориите в пътя ("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\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 за Windows и "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 за Unix и Linux файлови систе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mbine(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комбинира пълен път с релативен пъ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GetExtension(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извлича разширението на даден файл (ако и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GetFileName(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извлича името на файла от даден пълен път (ако и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4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GetTempFileName(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здава временен файл с уникално име и нулева дължина и връща името 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Временни файлове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289160"/>
            <a:ext cx="8383680" cy="55670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System.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ass TempFiles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tempFileName = Path.GetTempFileNam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TextWriter writer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treamWriter(tempFileName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riter.WriteLine("This is just a tes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.Copy(tempFileName, "test.txt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.Delete(temp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пециални дирек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ециалните директории са достъпни о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Environment.GetFolderPath( Environment.SpecialFolder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pecialFolder.DesktopDirector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връща работния плот на текущия потреби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pecialFolder.ApplicationD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връща директория за приложенията на текущия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pecialFolder.Favorite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директорията "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y Document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 на текущия потреби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pecialFolder.Favorite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директорията с любимите връзки на текущия потреби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pecialFolder.MyPictures/MyMusic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директория "моите картинки/музика" на текущия потреби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Какво представляват потоците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бстракцията "поток" е основният начин за осъществяване на входно-изходна активност в съвременните обектно-ориентирани езици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#, C++, Java, Delph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тоци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 подредени серии от байт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ставляват абстрактни канали за данни, до които достъпът се осъществява последовате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оставят механизъм за четене и писане на поредица байтове от и към устройства за съхранение или пренос на дан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NET Framework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вечето входно-изходни операции използват пото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b2b2b2"/>
                </a:solidFill>
                <a:latin typeface="Arial"/>
              </a:rPr>
              <a:t>Специални директории – пример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2640" y="1063800"/>
            <a:ext cx="8136000" cy="54442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myDocuments = Environment.GetFolderPath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vironment.SpecialFolder.Persona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myDocumen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C:\Documents and Settings\Administrator\My 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myDesktop = Environment.GetFolderPath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vironment.SpecialFolder.DesktopDirector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myDeskt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C:\Documents and Settings\Administrator\Desk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myFavourites = Environment.GetFolderPath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vironment.SpecialFolder.Favorite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myFavourite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C:\Documents and Settings\Administrator\Favori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myMusic = Environment.GetFolderPath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nvironment.SpecialFolder.MyMusi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myMusi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C:\Documents and Settings\Administrator\My Documents\My 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FileSystemWatc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7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SystemWatch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озволява наблюдение на файловата система за различни събития кат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здаване, промяна, преименуване и изтриване на файл или дирек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 свойства и събит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Path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директорията, която се наблюд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филтър за наблюдаваните файлове, например "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*.*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 или "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*.ex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NotifyFilt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филтър за наблюдаваните събития, например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LastWrit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reate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hange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Rename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ele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ъбития, които се извикват при промяна. Внимание: извикват се от друга нишк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Courier New"/>
              </a:rPr>
              <a:t>FileSystemWatcher</a:t>
            </a: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2640" y="987480"/>
            <a:ext cx="8136000" cy="556812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currentDir = Environment.CurrentDirector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ystemWatcher w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FileSystemWatcher(currentDi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Filter = "*.*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NotifyFilter = NotifyFilters.FileName 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otifyFilters.DirectoryName 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otifyFilters.LastWr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Created += new FileSystemEventHandler(OnCreat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Changed += new FileSystemEventHandler(OnChang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Renamed += new RenamedEventHandler(OnRenam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.EnableRaisingEvents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{0} is being watched now...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urrentDi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Press [Enter] to exit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Courier New"/>
              </a:rPr>
              <a:t>FileSystemWatcher</a:t>
            </a: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1076400"/>
            <a:ext cx="8136000" cy="54648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OnCreated(object aSour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ystemEventArgs a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File: {0} created - {1}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Args.Name, aArgs.ChangeTyp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OnChanged(object aSour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ystemEventArgs a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File: {0} changed - {1}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Args.Name, aArgs.ChangeTyp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OnRenamed(object aSour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namedEventArgs a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File: {0} renamed to {1}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Args.OldName, aArgs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 –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xt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редакто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400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Меню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400720" cy="4971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48974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Реализация -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ve 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172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d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nt 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727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400" y="1089000"/>
            <a:ext cx="8045640" cy="5454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// Копиране на двоични файлове чрез потоц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Stream inFile = new FileStream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input.bin", FileMode.Open)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utFile = new FileStream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output.bin", FileMode.Create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yte[] buf = new byte[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4096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ile (tru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bytesRead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File.Read(buf, 0, buf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bytesRead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rea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utFile.Write(buf, 0, bytes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36352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Клавиатура -прихващане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 void txtInput_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D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ject sender, System.Windows.Forms.KeyEventArgs 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KeyCode name: " + e.KeyCode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KeyCode key code: " + ((int)e.KeyCode)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KeyData name: " + e.KeyData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KeyData key code: " + ((int)e.KeyData)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KeyValue: " + e.KeyValue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Console.WriteLine("Handled: " + e.Handled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}</a:t>
            </a:r>
            <a:br>
              <a:rPr sz="18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 void txtInput_KeyPress(object sender, System.Windows.Forms.KeyPressEventArgs e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char keyChar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keyChar = e.KeyChar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Console.WriteLine("KeyPress event."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Console.WriteLine("KeyChar: " + keyChar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Console.WriteLine("KeyChar Code: " + (int)keyChar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Console.WriteLine("Handled: " + e.Handled)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lblUpper.Text = keyChar.ToString().ToUpper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lblLower.Text = keyChar.ToString().ToLower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if (keyChar.ToString() == "$"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  txtInput.AppendText("#"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  e.Handled = true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  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 }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 void txtInput_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ject sender, System.Windows.Forms.KeyEventArgs e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KeyCode name: " + e.KeyCode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KeyCode key code: " + ((int)e.KeyCode)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KeyData name: " + e.KeyData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KeyData key code: " + ((int)e.KeyData)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KeyValue: " + e.KeyValue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Console.WriteLine("Handled: " + e.Handled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Таблица на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Key Code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6102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2060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stall Shield 20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kb.flexerasoftware.com/doc/Helpnet/InstallShield2011/IHelpContents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wavepointstudios.net/Is2011/One-Click-Releases.asp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– Model-View-Controll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83480" cy="1654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истема от повторно използваеми и приспособими класове и приспособими клас библиоте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ъзможност за настрой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ови под-класове, предефиниране и/или разработване на празни опер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6520" y="3424320"/>
            <a:ext cx="8583480" cy="26686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ножество от взаимодействащи си класове, които изграждат проект за повторно използване за специфичен тип софту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Рамкат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work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 определя архитектурата на приложение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хваща проектни решения, които са общи за даден приложен домей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шабл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 – Model-View-Controller (Model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Шаблон за представителния сл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зделя функционалността в три взаимодействащи си части – Модел, Визуализация и Контрол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сяка част съответства на три технологии –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ns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SP </a:t>
            </a:r>
            <a:r>
              <a:rPr b="0" lang="bg-BG" sz="4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vlet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76280" y="1349280"/>
            <a:ext cx="8121240" cy="5219280"/>
            <a:chOff x="476280" y="1349280"/>
            <a:chExt cx="8121240" cy="5219280"/>
          </a:xfrm>
        </p:grpSpPr>
        <p:sp>
          <p:nvSpPr>
            <p:cNvPr id="228" name=""/>
            <p:cNvSpPr/>
            <p:nvPr/>
          </p:nvSpPr>
          <p:spPr>
            <a:xfrm>
              <a:off x="476280" y="1349280"/>
              <a:ext cx="8121240" cy="5219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3280" y="1929240"/>
              <a:ext cx="1412280" cy="7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 (be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0640" y="5602320"/>
              <a:ext cx="1428480" cy="7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63440" y="4249080"/>
              <a:ext cx="1524960" cy="7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(servle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4000" y="1929240"/>
              <a:ext cx="1413720" cy="7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Arial"/>
                </a:rPr>
                <a:t>(JSP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3" name=""/>
            <p:cNvCxnSpPr>
              <a:stCxn id="229" idx="3"/>
              <a:endCxn id="232" idx="1"/>
            </p:cNvCxnSpPr>
            <p:nvPr/>
          </p:nvCxnSpPr>
          <p:spPr>
            <a:xfrm>
              <a:off x="2275920" y="2315520"/>
              <a:ext cx="38088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1" idx="3"/>
              <a:endCxn id="232" idx="2"/>
            </p:cNvCxnSpPr>
            <p:nvPr/>
          </p:nvCxnSpPr>
          <p:spPr>
            <a:xfrm flipV="1">
              <a:off x="5288400" y="2701800"/>
              <a:ext cx="1503000" cy="193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1" idx="1"/>
              <a:endCxn id="229" idx="2"/>
            </p:cNvCxnSpPr>
            <p:nvPr/>
          </p:nvCxnSpPr>
          <p:spPr>
            <a:xfrm flipH="1" flipV="1">
              <a:off x="1569960" y="2701800"/>
              <a:ext cx="2193480" cy="193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32" idx="3"/>
              <a:endCxn id="230" idx="3"/>
            </p:cNvCxnSpPr>
            <p:nvPr/>
          </p:nvCxnSpPr>
          <p:spPr>
            <a:xfrm>
              <a:off x="7497360" y="2315880"/>
              <a:ext cx="402120" cy="3673440"/>
            </a:xfrm>
            <a:prstGeom prst="bentConnector3">
              <a:avLst>
                <a:gd name="adj1" fmla="val 19650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0" idx="1"/>
              <a:endCxn id="231" idx="2"/>
            </p:cNvCxnSpPr>
            <p:nvPr/>
          </p:nvCxnSpPr>
          <p:spPr>
            <a:xfrm rot="10800000">
              <a:off x="4525560" y="5021640"/>
              <a:ext cx="1945080" cy="96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3376800" y="1735920"/>
              <a:ext cx="2118600" cy="77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(Beans properti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6520" y="3282480"/>
              <a:ext cx="1933560" cy="77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(reques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37080" y="3282480"/>
              <a:ext cx="1933560" cy="77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(forwar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37080" y="5409000"/>
              <a:ext cx="1933560" cy="77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(reques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96160" y="2887560"/>
              <a:ext cx="1314720" cy="254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Display inf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(HTML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Data (&lt;jsp:getProperty&gt;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Arial"/>
                </a:rPr>
                <a:t>Event info (parameters, action URL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мпонентите о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ата работят по следния начи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оделът съдържа данн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зуализацията извлича данните и генерира динамичен резултат към кли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ролерът предоставя слой за логическата обработка и извиква моделът и визуализаци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пиране на двоичен фай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5080" y="1860480"/>
            <a:ext cx="625788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Моде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оделът представя бизнес логиката на приложение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апсулирането на бизнес-ролите в компоненти подпомага тестване, повишава качеството и предразполага към многократно използва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оделът се разделя на два вида компонен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Моде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omponents –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дефинират текущия набор от стойности в Моделът и съдържат методи за промяна на тези стой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тези методи има и малка част от бизнес-логик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aBean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prise JavaBean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огат да бъдат използвани като такива компонен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Моде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 Component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дефинират възможните промени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мпонентите в резултат на съби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Бизнес логиката също определ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мпонент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прости системи бизнес-логиката може да се съдържа в контролера, но това не се препоръч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Визуализац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зуализацията – логиката за визуализир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зуализиращите компонен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вличат текущото състояние от моделът и предоставят потребителски интерфейс за специфичнят проткол (в нашият случа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оставят специфичен набор от събития, които могат да бъдат задействани от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SP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а удобни за създаване на визуализиращи компон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нтрол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нтролерът е свързващото звено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нтролерът е отговорен з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лучаване на събити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ределяне на правилния обработчик на събити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викване на обработч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тартиране на генерирането на правилният от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VC -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нтрол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ата контролерът действа като диспечер. Той трябва да се справя със следните 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игур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дентификация на съб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дготовка на моделъ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ботка на събития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хващане на гре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тартиране на изпращането на отговор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ache Stru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t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мплементи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 Model 2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P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а, която използ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рвлет като диспечер на зая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Bean,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йто съдържа данните за заявк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SP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 което показва данните на потреб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t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ource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оект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Software Foundation (http://struts.apache.or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ache Stru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4200" t="0" r="4708" b="0"/>
          <a:stretch/>
        </p:blipFill>
        <p:spPr>
          <a:xfrm>
            <a:off x="324000" y="1557360"/>
            <a:ext cx="849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del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2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рхитектурата се използва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рвлет, който получава заявк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рвлетът предоставя задачата за извличане на данните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Bean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йто се обръща къ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B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ли бази данни и след като извлече данните връща контролът обратно на сървл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рвлетът препраща заявката къ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P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ето генери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ML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говорът като използва данните о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Bean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обстве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ML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лед генерирането отговорът се изпраща обратно към брауз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del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2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ата позволява отделянето на логиката за извличане на данните и о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P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компонента и от сърв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зделянето на контролът, бизнес логиката и представянето е разликата межд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1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2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рхитекту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те в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 Fra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 .NET Framework потоците са два ви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азови потоци (bas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етат и пишат данни от и към външен механизъм за съхранение на дан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FileStream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MemoryStream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Network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ходни потоци (pass-through strea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етат и пишат в други потоци, като добавят допълнителна функционалност (напр. буфериране, кодиране и компресира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BufferedStream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rypto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те в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 Fra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те операции с потоци 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струиране (създава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токът се свързва с механизма за пренос/ съхранение на данни или с друг по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параметър в конструктора на класа се подава информация за този механизъ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пример при файлов поток се посочва име на файл, а при низов поток – съответен н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ете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т се данни от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зависимост от типа на потока тези данни се извличат по различен н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пример при файлов поток данните се прочитат от текущата позиция във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тоците в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 Fra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те операции с потоци 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ис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ращат се данни в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зависимост от типа на потока тези данни се изпращат по различен н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пример при писане във файл данните се записват във файла от текущата поз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зицион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мества текущата позиция на потока (ако се поддържа позиционира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зиционирането става спрямо текущата позиция, началото или края на п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пример при файлов поток се променя текущата позиция във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2:42:52Z</dcterms:created>
  <dc:creator>fallen angel</dc:creator>
  <dc:description/>
  <dc:language>en-US</dc:language>
  <cp:lastModifiedBy>nade</cp:lastModifiedBy>
  <dcterms:modified xsi:type="dcterms:W3CDTF">2012-04-18T05:42:50Z</dcterms:modified>
  <cp:revision>11</cp:revision>
  <dc:subject/>
  <dc:title>Вход и изход в .NET Framework</dc:title>
</cp:coreProperties>
</file>