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605-5579-4F85-8107-6C5D9B0B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A77-A63C-4303-BEA6-2814AC69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501F-443B-4919-82F7-692D4D18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656F-24FA-4CE1-95C7-D2AC325E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4EDC-69B9-4283-8F99-2C071248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EAED-0A78-4D09-B2D1-704D749B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50CA-8890-4058-9D93-33FD6980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EA48-3A96-4A67-A5AA-5453C0A8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851E-193D-4B0D-B53A-384D0B88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6A2C-A204-421C-A47E-08A81F9F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5209-A56B-480B-BE52-177C7A45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EDED-FBCA-44A9-900E-4EFE17E6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8C8A-D019-4826-B9F5-E24B0705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08A2-5CA1-48A8-8548-8E7A0DC0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2685-8B65-4275-8694-AF652E14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5C8C-8FB4-443F-8453-B32C3258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75E5-0070-4418-A055-66751E31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BFFE-DD7B-40CB-B531-881ADD7B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D384-1B30-43BB-8A1C-F75B5493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F29B-2BEB-4C30-851E-9320B14F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4F41-F62F-449D-9B35-D971ABA2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487-2B34-49E2-A61F-F54F1878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3C6D-25B6-493A-8671-16CF3857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FF75-E5E9-41FF-8EAD-0FACACDB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8579-CC71-495D-BB90-0DB2BFB39B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FD48-4F1C-4EF2-928B-69031170F3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sdn.microsoft.com/en-us/library/system.drawing.aspx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2b2b2"/>
                </a:solidFill>
                <a:latin typeface="Arial"/>
              </a:rPr>
              <a:t>GDI +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70400" y="126000"/>
            <a:ext cx="618372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Rectangle Structur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ublic Rectangle(Point, Size); or public Rectangle(int, int, int, int)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Rectangle structure is used to draw a rectangle on WinForm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esides its constructor, the Rectangle structure has following member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4000" y="2060640"/>
          <a:ext cx="8640720" cy="4281480"/>
        </p:xfrm>
        <a:graphic>
          <a:graphicData uri="http://schemas.openxmlformats.org/drawingml/2006/table">
            <a:tbl>
              <a:tblPr/>
              <a:tblGrid>
                <a:gridCol w="1152360"/>
                <a:gridCol w="7488360"/>
              </a:tblGrid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Botto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ts the y-coordinate of the lower-right corner of the rectangular region defined by th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tangl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Heigh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ts or sets the width of the rectangular region defined by th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tangl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IsEmp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s whether th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tangl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has a Width or a Height of 0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Lef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ts the x-coordinate of the upper-left corner of the rectangular region defined by th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tangl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Loc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ts or sets the coordinates of the upper-left corner of the rectangular region represented by th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tangl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Righ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ts the x-coordinate of the lower-right corner of the rectangular region defined by th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tangl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Siz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ts or sets the size of th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tangl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To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ts the y-coordinate of the upper-left corner of the rectangular region defined by th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tangl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Widt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ts or sets the width of the rectangular region defined by th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tangl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X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ts or sets the x-coordinate of the upper-left corner of the rectangular region defined by th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tangl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ts or sets the y-coordinate of the upper-left corner of the rectangular region defined by th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tangl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11280" y="5916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76200" y="351000"/>
            <a:ext cx="7724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oint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structure is similar to the POINT structure in C++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 represents an ordered pair of x and y coordinates th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e a point in a two-dimensional plan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ember x represents the x coordinates and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resents the y coordinates of the pl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how to instantiate a point stru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 pt1 = new Point( 30, 30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 pt2 = new Point( 110, 10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446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координат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88200" y="2276640"/>
            <a:ext cx="4375080" cy="3457080"/>
            <a:chOff x="988200" y="2276640"/>
            <a:chExt cx="4375080" cy="3457080"/>
          </a:xfrm>
        </p:grpSpPr>
        <p:sp>
          <p:nvSpPr>
            <p:cNvPr id="123" name=""/>
            <p:cNvSpPr/>
            <p:nvPr/>
          </p:nvSpPr>
          <p:spPr>
            <a:xfrm>
              <a:off x="1376640" y="2733480"/>
              <a:ext cx="3986640" cy="3000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101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65000" y="3006360"/>
              <a:ext cx="27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65000" y="3006360"/>
              <a:ext cx="0" cy="200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11480" y="3945240"/>
              <a:ext cx="230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000000"/>
                  </a:solidFill>
                  <a:latin typeface="Tahoma"/>
                </a:rPr>
                <a:t>1 единица = 1 пиксел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77480" y="2276640"/>
              <a:ext cx="252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ffffff"/>
                  </a:solidFill>
                  <a:latin typeface="Tahoma"/>
                </a:rPr>
                <a:t>Дисплейна повърхност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53200" y="2759400"/>
              <a:ext cx="40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07680" y="5004000"/>
              <a:ext cx="40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88200" y="227664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(0,0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56120" y="5278680"/>
              <a:ext cx="109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M_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702480" y="2273400"/>
            <a:ext cx="2262240" cy="23079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389280" y="1989000"/>
            <a:ext cx="2493720" cy="2648880"/>
            <a:chOff x="6389280" y="1989000"/>
            <a:chExt cx="2493720" cy="2648880"/>
          </a:xfrm>
        </p:grpSpPr>
        <p:sp>
          <p:nvSpPr>
            <p:cNvPr id="134" name=""/>
            <p:cNvSpPr/>
            <p:nvPr/>
          </p:nvSpPr>
          <p:spPr>
            <a:xfrm>
              <a:off x="7027560" y="2657520"/>
              <a:ext cx="15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27560" y="2668680"/>
              <a:ext cx="0" cy="17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79800" y="2449440"/>
              <a:ext cx="40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99400" y="4300560"/>
              <a:ext cx="40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89280" y="198900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(0,0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19920" y="4300560"/>
              <a:ext cx="183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00720" y="2817720"/>
              <a:ext cx="1223640" cy="1079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72640" y="2327400"/>
              <a:ext cx="142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enterPoint().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27560" y="3363840"/>
              <a:ext cx="1366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19920" y="2643120"/>
              <a:ext cx="0" cy="125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6152040" y="3186360"/>
              <a:ext cx="142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enterPoint().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99120" y="3321000"/>
              <a:ext cx="7272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89680" y="2614680"/>
              <a:ext cx="7272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2708280"/>
            <a:ext cx="2232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3573360"/>
            <a:ext cx="2232000" cy="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3141720"/>
            <a:ext cx="223200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59280" y="4005360"/>
            <a:ext cx="2232000" cy="0"/>
          </a:xfrm>
          <a:prstGeom prst="line">
            <a:avLst/>
          </a:prstGeom>
          <a:ln w="572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59280" y="4437000"/>
            <a:ext cx="2304720" cy="0"/>
          </a:xfrm>
          <a:prstGeom prst="line">
            <a:avLst/>
          </a:prstGeom>
          <a:ln w="5724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67320" y="249228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S_SOL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61920" y="292428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S_DA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68760" y="33577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S_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51120" y="37893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S_DASH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9440" y="422100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S_DASHDOT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53640" y="4653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S_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53280" y="51577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S_INSIDEFR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59280" y="5373720"/>
            <a:ext cx="2232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rus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74960" y="328464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S_BDIAG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83680" y="465300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S_CRO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25640" y="60213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S_DIAGCRO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20760" y="32846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S_FDIAG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57760" y="46530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S_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4520" y="60148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S_VERT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03280" y="2492280"/>
            <a:ext cx="1008000" cy="79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63280" y="189216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ahoma"/>
              </a:rPr>
              <a:t>Стилове щрих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9640" y="2492280"/>
            <a:ext cx="100800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3280" y="3860640"/>
            <a:ext cx="1008000" cy="7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19640" y="3860640"/>
            <a:ext cx="1008000" cy="79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5157720"/>
            <a:ext cx="1008000" cy="79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5157720"/>
            <a:ext cx="1008000" cy="792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8360" y="333360"/>
            <a:ext cx="835164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ing a rect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ou can override OnPaint event of your form to draw an rectangle. The LinearGradientBrush encapsulates a brush and linear gradien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tected override void OnPaint(PaintEventArgs pe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aphics g = pe.Graphics 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tangle rect = new Rectangle(50, 30, 100, 100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nearGradientBrush lBrush = new LinearGradientBrush(rect, Color.Red, Color.Yellow, LinearGradientMode.BackwardDiagonal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.FillRectangle(lBrush, rect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003640" y="36450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31840" y="423720"/>
            <a:ext cx="89121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ing an Ar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wAr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unction draws an arc. This function takes four argument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 is the Pen. You create a pen by using th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las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en constructor takes at least one argument, the color or the brush of the p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argument width of the pen or brush is option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 pn = new Pen( Color.Blue ); or Pen pn = new Pen( Color.Blue, 100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econd argument is a rectangle. You can create a rectangle by u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tangle structure. The Rectangle constructor takes four int type arg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they are left and right corners of the rectangl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tangle rect = new Rectangle(50, 50, 200, 100);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cted override void OnPaint(PaintEventArgs pe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phics g = pe.Graphics 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 pn = new Pen( Color.Blue 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tangle rect = new Rectangle(50, 50, 200, 100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.DrawArc( pn, rect, 12, 84 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286680" y="3716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36160" y="63360"/>
            <a:ext cx="75157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ing a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awLine function of the Graphics class draws a lin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takes three parameters, a pen, and two Point class parameter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ing and ending points. Point class  constructor takes x, y argu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ected override void OnPaint(PaintEventArgs pe)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{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phics g = pe.Graphics ;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n pn = new Pen( Color.Blue );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/ Rectangle rect = new Rectangle(50, 50, 200, 100);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 pt1 = new Point( 30, 30);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 pt2 = new Point( 110, 100);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.DrawLine( pn, pt1, pt2 );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003640" y="37893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10320" y="496800"/>
            <a:ext cx="700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wing an Ellip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ellipse( or a circle)  can be drawn by using DrawEllipse metho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method takes only two parameters, Pen and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ected override void OnPaint(PaintEventArgs pe)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{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phics g = pe.Graphics ;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n pn = new Pen( Color.Blue, 100 );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tangle rect = new Rectangle(50, 50, 200, 100);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.DrawEllipse( pn, rect );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724360" y="4049640"/>
            <a:ext cx="2857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40840" y="279360"/>
            <a:ext cx="87699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ill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awing bazier curves is little more complex than other object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cted override void OnPaint(PaintEventArgs pe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phics g = pe.Graphics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.FillRectangle(new SolidBrush(Color.White), ClientRectangle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phicsPath path = new GraphicsPath(new Point[]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Point(40, 140), new Point(275, 200)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Point(105, 225), new Point(190, 300)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Point(50, 350), new Point(20, 180), }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byte[]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byte)PathPointType.Start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byte)PathPointType.Bezier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byte)PathPointType.Bezier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byte)PathPointType.Bezier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byte)PathPointType.Line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byte)PathPointType.Line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hGradientBrush pgb = new PathGradientBrush(path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gb.SurroundColors = new Color[] { Color.Green,Color.Yellow,Color.Red, Color.Blue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or.Orange, Color.White, }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.FillPath(pgb, path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580000" y="24210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76200" y="28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5394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36560" y="20808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phics class's method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6915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System.Draw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8600" y="423720"/>
            <a:ext cx="7524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ing Text and Str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an override OnPaint event of your form to draw an rectangl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LinearGradientBrush encapsulates a brush and linear gradien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ected override void OnPaint(PaintEventArgs pe)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nt fnt = new Font("Verdana", 16);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phics g = pe.Graphics;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.DrawString("GDI+ World", fnt, new SolidBrush(Color.Red), 14,10);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427640" y="364500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267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Graphics Object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5614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-177120"/>
            <a:ext cx="8325000" cy="51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ff9999"/>
                </a:solidFill>
                <a:latin typeface="Verdana"/>
              </a:rPr>
              <a:t>Pen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 pen draws a line of specified width and style. You always use Pen constructor to create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en. The constructor initializes a new instance of the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en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ass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You can initialize it wit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 color or brus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itializes a new instance of the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en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class with the specified colo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Pen(Colo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nitializes a new instance of the Pen class with the specified Brus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Pen(Brush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nitializes a new instance of the Pen class with the specified Brush and widt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Pen(Brush, </a:t>
            </a: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float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nitializes a new instance of the Pen class with the specified Color and Widt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Pen(Color, </a:t>
            </a: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float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ere is one exampl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n pn = </a:t>
            </a: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new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Pen( Color.Blue ); or Pen pn = </a:t>
            </a: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new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Pen( Color.Blue, 100 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ome of its most commonly used properties ar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4360" y="5157720"/>
          <a:ext cx="7272360" cy="1470240"/>
        </p:xfrm>
        <a:graphic>
          <a:graphicData uri="http://schemas.openxmlformats.org/drawingml/2006/table">
            <a:tbl>
              <a:tblPr/>
              <a:tblGrid>
                <a:gridCol w="858600"/>
                <a:gridCol w="64137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ign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Gets or sets the alignment for objects drawn with this Pen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us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Gets or sets the Brush that determines attributes of this Pen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Gets or sets the color of this Pen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Gets or sets the width of this Pen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267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raphics Clas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rivate void form1_Paint(object sender, PaintEventArgs e)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{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Graphics g = e.Graphics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-------------------------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rotected override void OnPaint(PaintEventArgs e)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Graphics g = e.Graphics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35480" y="518760"/>
            <a:ext cx="659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Color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Color structure represents an ARGB color. Here are ARG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perties of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9640" y="2276640"/>
          <a:ext cx="6767640" cy="1368360"/>
        </p:xfrm>
        <a:graphic>
          <a:graphicData uri="http://schemas.openxmlformats.org/drawingml/2006/table">
            <a:tbl>
              <a:tblPr/>
              <a:tblGrid>
                <a:gridCol w="532080"/>
                <a:gridCol w="6235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Gets the alpha component value for this </a:t>
                      </a:r>
                      <a:r>
                        <a:rPr b="1" lang="en-US" sz="16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Color</a:t>
                      </a:r>
                      <a:r>
                        <a:rPr b="0" lang="en-US" sz="16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Gets the blue component value for this </a:t>
                      </a:r>
                      <a:r>
                        <a:rPr b="1" lang="en-US" sz="16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Color</a:t>
                      </a:r>
                      <a:r>
                        <a:rPr b="0" lang="en-US" sz="16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Gets the green component value for this </a:t>
                      </a:r>
                      <a:r>
                        <a:rPr b="1" lang="en-US" sz="16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Color</a:t>
                      </a:r>
                      <a:r>
                        <a:rPr b="0" lang="en-US" sz="16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Gets the red component value for this </a:t>
                      </a:r>
                      <a:r>
                        <a:rPr b="1" lang="en-US" sz="16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Color</a:t>
                      </a:r>
                      <a:r>
                        <a:rPr b="0" lang="en-US" sz="16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923040" y="4008600"/>
            <a:ext cx="62326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You can call the Color members. Each color name (say Blue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s a member of the Color structu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ere is how to use a Color structur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Pen pn = new Pen( Color.</a:t>
            </a:r>
            <a:r>
              <a:rPr b="1" lang="en-US" sz="1600" spc="-1" strike="noStrike">
                <a:solidFill>
                  <a:srgbClr val="038997"/>
                </a:solidFill>
                <a:latin typeface="Verdana"/>
              </a:rPr>
              <a:t>Blue</a:t>
            </a: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 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5280" y="421560"/>
            <a:ext cx="8510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he Font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e Font class defines a particular format for text such as font typ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ze, and style attributes. You use font constructor to create a fon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itializes a new instance of the Font class with the specified attribu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public Font(string, floa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itializes a new instance of the Font class from the specified exist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nt and FontSty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public Font(Font, FontStyl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Where FontStyle is an enumeration and here are its member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00000" y="3860640"/>
          <a:ext cx="6003720" cy="2457360"/>
        </p:xfrm>
        <a:graphic>
          <a:graphicData uri="http://schemas.openxmlformats.org/drawingml/2006/table">
            <a:tbl>
              <a:tblPr/>
              <a:tblGrid>
                <a:gridCol w="1106280"/>
                <a:gridCol w="48974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mber Nam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Bold text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ali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Italic text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g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Normal text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rikeo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Text with a line through the middl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er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Underlined text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188640"/>
            <a:ext cx="6624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ere is one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raphics g ;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ont font = new Font("Times New Roman", 26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me of its most commonly used properti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11280" y="2133720"/>
          <a:ext cx="8064360" cy="3547800"/>
        </p:xfrm>
        <a:graphic>
          <a:graphicData uri="http://schemas.openxmlformats.org/drawingml/2006/table">
            <a:tbl>
              <a:tblPr/>
              <a:tblGrid>
                <a:gridCol w="1873080"/>
                <a:gridCol w="6191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Bo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Gets a value indicating whether this </a:t>
                      </a: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Font</a:t>
                      </a: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 is bol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FontFami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Gets the FontFamily of this </a:t>
                      </a: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Font</a:t>
                      </a: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Hei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Gets the height of this </a:t>
                      </a: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Font</a:t>
                      </a: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Itali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Gets a value indicating whether this </a:t>
                      </a: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Font</a:t>
                      </a: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 is Itali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Na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Gets the face name of this </a:t>
                      </a: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Font</a:t>
                      </a: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Siz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Gets the size of this </a:t>
                      </a: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Font</a:t>
                      </a: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SizeInPoi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Gets the size, in points, of this </a:t>
                      </a: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Font</a:t>
                      </a: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Strikeo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Gets a value indicating whether this </a:t>
                      </a: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Font</a:t>
                      </a: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 is strikeout (has a line through it)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Sty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Gets style information for this </a:t>
                      </a: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Font</a:t>
                      </a: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Under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Gets a value indicating whether this </a:t>
                      </a: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Font</a:t>
                      </a: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 is underlined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10199"/>
                          </a:solidFill>
                          <a:latin typeface="Verdana"/>
                        </a:rPr>
                        <a:t>Un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Gets the unit of measure for this </a:t>
                      </a: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Font</a:t>
                      </a: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8760" y="351000"/>
            <a:ext cx="8661240" cy="62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rush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us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lass  is an abstract base class and cannot be instantiate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lways use its derived classes to instantiate a brush objec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idBrush, TextureBrush, RectangleGradientBrush, and LinearGradientBrus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one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nearGradientBrush lBrush = new LinearGradientBrush(rect, Color.Red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or.Yellow, LinearGradientMode.BackwardDiagonal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ush brsh = new SolidBrush(Color.Red), 40, 40, 140, 140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SolidBrush class defines  a brush made up of a single color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ushes are used to fill graphics shapes such as rectangles, ellipses, pies, polygons, and path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ureBrus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ncapsulates a Brush that uses an fills the interior of a shape with an ima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nearGradiantBrus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ncapsulates both two-color gradients and custom multi-color gradien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4:46:07Z</dcterms:created>
  <dc:creator>fallen angel</dc:creator>
  <dc:description/>
  <dc:language>en-US</dc:language>
  <cp:lastModifiedBy>fallen angel</cp:lastModifiedBy>
  <dcterms:modified xsi:type="dcterms:W3CDTF">2010-03-10T08:01:51Z</dcterms:modified>
  <cp:revision>14</cp:revision>
  <dc:subject/>
  <dc:title>GDI +</dc:title>
</cp:coreProperties>
</file>