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4FC-8DC8-42DF-9AAD-872CFCF9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FEC-31D8-422F-ACD2-72CB68EF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440-460A-43A4-A07F-CFDBC804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C99-5873-45ED-9CB1-94A4DB1E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A184-F325-4C9B-90C1-2D31AABB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3CA-3AFD-444F-84F8-4B648563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385-BB36-403D-9CB0-0AB70FA1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89F-5C56-4949-9B96-07F312EE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175F-7FCD-4110-81B6-B704FADB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5D80-08F8-43B6-A8B8-682C6AF5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BE1-1630-412A-9DBA-5FA7F7AB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2984-EDB4-462E-8109-44C7720E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B1B5-C43C-4D55-BB14-B02FF13C9CC0}" type="slidenum">
              <a:rPr b="0" lang="bg-BG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ndows For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Лекция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e3ebf1"/>
                </a:solidFill>
                <a:latin typeface="Arial"/>
              </a:rPr>
              <a:t>Използване на Таймер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Създаване на прило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Добавяне на контрол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Основни събития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Основни свойства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erties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Примери използващ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r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контр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e3ebf1"/>
                </a:solidFill>
                <a:latin typeface="Arial"/>
              </a:rPr>
              <a:t>Приложение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46" name="Object 4"/>
          <p:cNvGraphicFramePr/>
          <p:nvPr/>
        </p:nvGraphicFramePr>
        <p:xfrm>
          <a:off x="179280" y="1165320"/>
          <a:ext cx="8964720" cy="52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65320"/>
                    <a:ext cx="8964720" cy="52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e3ebf1"/>
                </a:solidFill>
                <a:latin typeface="Arial"/>
              </a:rPr>
              <a:t>Примери с таймер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49" name="Object 6"/>
          <p:cNvGraphicFramePr/>
          <p:nvPr/>
        </p:nvGraphicFramePr>
        <p:xfrm>
          <a:off x="971640" y="1628640"/>
          <a:ext cx="215568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628640"/>
                    <a:ext cx="21556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8"/>
          <p:cNvGraphicFramePr/>
          <p:nvPr/>
        </p:nvGraphicFramePr>
        <p:xfrm>
          <a:off x="3564000" y="1557360"/>
          <a:ext cx="3249720" cy="21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1557360"/>
                    <a:ext cx="3249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10"/>
          <p:cNvGraphicFramePr/>
          <p:nvPr/>
        </p:nvGraphicFramePr>
        <p:xfrm>
          <a:off x="3924360" y="4149720"/>
          <a:ext cx="259704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4149720"/>
                    <a:ext cx="259704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e3ebf1"/>
                </a:solidFill>
                <a:latin typeface="Arial"/>
              </a:rPr>
              <a:t>Използване на таймер за визуализация на дигитален часовник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Добавяме контрол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el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Добавяме контрол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r</a:t>
            </a:r>
            <a:br>
              <a:rPr sz="1800"/>
            </a:b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Задаваме интервал 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r – 1000ms=1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Определяме функционалността на таймера, която ще се изпълнява на всяка 1 секун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тартирам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Object 4"/>
          <p:cNvGraphicFramePr/>
          <p:nvPr/>
        </p:nvGraphicFramePr>
        <p:xfrm>
          <a:off x="4211640" y="1413000"/>
          <a:ext cx="146052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13000"/>
                    <a:ext cx="14605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6"/>
          <p:cNvGraphicFramePr/>
          <p:nvPr/>
        </p:nvGraphicFramePr>
        <p:xfrm>
          <a:off x="4211640" y="2133720"/>
          <a:ext cx="134604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2133720"/>
                    <a:ext cx="13460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8"/>
          <p:cNvGraphicFramePr/>
          <p:nvPr/>
        </p:nvGraphicFramePr>
        <p:xfrm>
          <a:off x="6588000" y="1413000"/>
          <a:ext cx="2160720" cy="177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0" y="1413000"/>
                    <a:ext cx="21607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9"/>
          <p:cNvGraphicFramePr/>
          <p:nvPr/>
        </p:nvGraphicFramePr>
        <p:xfrm>
          <a:off x="3276720" y="3716280"/>
          <a:ext cx="5054400" cy="73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3716280"/>
                    <a:ext cx="505440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0"/>
          <p:cNvGraphicFramePr/>
          <p:nvPr/>
        </p:nvGraphicFramePr>
        <p:xfrm>
          <a:off x="900000" y="4941720"/>
          <a:ext cx="3672000" cy="455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00000" y="4941720"/>
                    <a:ext cx="36720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e3ebf1"/>
                </a:solidFill>
                <a:latin typeface="Arial"/>
              </a:rPr>
              <a:t>Използване на таймер за анимация и 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lideShow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68" name="Object 4"/>
          <p:cNvGraphicFramePr/>
          <p:nvPr/>
        </p:nvGraphicFramePr>
        <p:xfrm>
          <a:off x="1047600" y="2349360"/>
          <a:ext cx="704880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0" y="2349360"/>
                    <a:ext cx="70488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7:43:26Z</dcterms:created>
  <dc:creator>LB</dc:creator>
  <dc:description/>
  <dc:language>en-US</dc:language>
  <cp:lastModifiedBy>koko</cp:lastModifiedBy>
  <dcterms:modified xsi:type="dcterms:W3CDTF">2011-05-23T12:41:27Z</dcterms:modified>
  <cp:revision>5</cp:revision>
  <dc:subject/>
  <dc:title>Windows Forms</dc:title>
</cp:coreProperties>
</file>