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70.jpeg" ContentType="image/jpeg"/>
  <Override PartName="/ppt/media/image35.png" ContentType="image/png"/>
  <Override PartName="/ppt/media/image26.png" ContentType="image/png"/>
  <Override PartName="/ppt/media/image63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27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BB4-8954-4D00-9CCF-66EDD1EE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73B-97C1-431A-B9A0-C2282DC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D28-6772-47C8-9F75-07AD8D17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8EE-544E-40E8-A9AB-97E3203C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0110-CC3A-4214-B49F-68C57D49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A108-A1B8-43AC-AC3D-6341A66B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D365-199F-4191-A227-9DE04C77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C4D2-1BB8-431B-92E4-2CA9C981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DF5-A701-4959-BAFF-216EE47F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9ED2-7420-4C70-9D3E-87CAD0FF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FE1D-E952-48A6-8E23-6DF3FD21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821-E8B6-438D-A1D5-A8C9480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81F2-7C73-4D97-B15E-CE88A251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CE66-7655-4B54-8DD6-A5C4D30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6A2F-488A-4312-8AB5-8CD5E0F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47DB-B1FB-4956-801D-C11CCD46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F892-D5B2-4B9B-B61E-281BA0C3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B97-FF1A-41B5-B9CB-3FC91FC4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0CD-2D5E-4187-BC39-768EA72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C10-C0B4-455F-A30A-4FCAF8CF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381-7757-483C-9D59-5F2D7D80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882-CD2A-4204-923D-2080367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A40-B9B5-4217-A124-F8683360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E7B-9A21-4E57-AE20-17A26DF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9A3-BF28-4960-A1F4-FA777F5956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CDD0-0CBE-458C-B38A-1A5C3E2385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microsoft.com/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80680" y="2421000"/>
            <a:ext cx="545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ndows Forms - G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ve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469880"/>
            <a:ext cx="70567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de – Save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cc66"/>
                </a:solidFill>
                <a:latin typeface="Arial"/>
              </a:rPr>
              <a:t>dlgSaveFile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.FileName = "mydoc" + m_intDocNumber.ToString() + ".txt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dlgResult = dlgSaveFile.</a:t>
            </a:r>
            <a:r>
              <a:rPr b="1" sz="1600" spc="-1" strike="noStrike">
                <a:solidFill>
                  <a:srgbClr val="99ff33"/>
                </a:solidFill>
                <a:latin typeface="Arial"/>
              </a:rPr>
              <a:t>ShowDialog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if (dlgResult == DialogResult.Canc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_strFileName = dlgSaveFile.File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_sw = new StreamWriter(m_strFile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_sw.Write(txtBody.Tex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_sw.Clos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_intDocNumber++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_bModified = fals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this.Text = "C# Simple Notepad: " + m_strFile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catch (Exception er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MessageBox.Show(err.Message, "Error", MessageBoxButtons.OK, </a:t>
            </a:r>
            <a:br>
              <a:rPr sz="1600"/>
            </a:br>
            <a:r>
              <a:rPr b="1" sz="1600" spc="-1" strike="noStrike">
                <a:solidFill>
                  <a:srgbClr val="ffffff"/>
                </a:solidFill>
                <a:latin typeface="Arial"/>
              </a:rPr>
              <a:t>MessageBoxIcon.Erro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lor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3040" y="1484280"/>
            <a:ext cx="3517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de – Color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0" sz="2000" spc="-1" strike="noStrike">
                <a:solidFill>
                  <a:srgbClr val="99ff33"/>
                </a:solidFill>
                <a:latin typeface="Arial"/>
              </a:rPr>
              <a:t>colorDialog1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.ShowDialog() == DialogResult.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txtBody.BackColor = </a:t>
            </a:r>
            <a:r>
              <a:rPr b="0" sz="2000" spc="-1" strike="noStrike">
                <a:solidFill>
                  <a:srgbClr val="ffcc66"/>
                </a:solidFill>
                <a:latin typeface="Arial"/>
              </a:rPr>
              <a:t>colorDialog1.Color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nt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7610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de – Font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0" sz="1600" spc="-1" strike="noStrike">
                <a:solidFill>
                  <a:srgbClr val="ffcc66"/>
                </a:solidFill>
                <a:latin typeface="Arial"/>
              </a:rPr>
              <a:t>dlgFont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.ShowDialog() == </a:t>
            </a:r>
            <a:r>
              <a:rPr b="0" sz="1600" spc="-1" strike="noStrike">
                <a:solidFill>
                  <a:srgbClr val="99ff33"/>
                </a:solidFill>
                <a:latin typeface="Arial"/>
              </a:rPr>
              <a:t>DialogResult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.Canc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6699"/>
                </a:solidFill>
                <a:latin typeface="Arial"/>
              </a:rPr>
              <a:t>FontFamily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 fmFontName = dlgFont.Font.FontFamil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float fFontSize = dlgFont.Font.Siz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6699"/>
                </a:solidFill>
                <a:latin typeface="Arial"/>
              </a:rPr>
              <a:t>FontStyle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 fsStyle = dlgFont.Font.Styl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Font fon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600" spc="-1" strike="noStrike">
                <a:solidFill>
                  <a:srgbClr val="ffffcc"/>
                </a:solidFill>
                <a:latin typeface="Arial"/>
              </a:rPr>
              <a:t>font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= new Font(fmFontName, fFontSize, txtBody.Font.Style ^ fsStyl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txtBody.Font = fon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catch (ArgumentExcep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n New For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1739880"/>
            <a:ext cx="62643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de – Show For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Arial"/>
              </a:rPr>
              <a:t>Form2 frmNew = new Form2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Arial"/>
              </a:rPr>
              <a:t>frmNew.</a:t>
            </a:r>
            <a:r>
              <a:rPr b="0" sz="3200" spc="-1" strike="noStrike">
                <a:solidFill>
                  <a:srgbClr val="ffcc66"/>
                </a:solidFill>
                <a:latin typeface="Arial"/>
              </a:rPr>
              <a:t>ShowDialog</a:t>
            </a:r>
            <a:r>
              <a:rPr b="0" sz="3200" spc="-1" strike="noStrike">
                <a:solidFill>
                  <a:srgbClr val="ffffff"/>
                </a:solidFill>
                <a:latin typeface="Arial"/>
              </a:rPr>
              <a:t>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ff33"/>
                </a:solidFill>
                <a:latin typeface="Arial"/>
              </a:rPr>
              <a:t>( parameter from Form2 to Form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3200" spc="-1" strike="noStrike">
                <a:solidFill>
                  <a:srgbClr val="ffffff"/>
                </a:solidFill>
                <a:latin typeface="Arial"/>
              </a:rPr>
              <a:t>string myString = frmNew.MySt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3200" spc="-1" strike="noStrike">
                <a:solidFill>
                  <a:srgbClr val="ffffff"/>
                </a:solidFill>
                <a:latin typeface="Arial"/>
              </a:rPr>
              <a:t>label1.Text = mySt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rm 2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// para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-92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public partial class Form2 :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private string _MyStr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public string MySt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get { return _MyString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// close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sz="1600" spc="-1" strike="noStrike">
                <a:solidFill>
                  <a:srgbClr val="ffffff"/>
                </a:solidFill>
                <a:latin typeface="Arial"/>
              </a:rPr>
              <a:t>_MyString = textBox1.Tex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ff6699"/>
                </a:solidFill>
                <a:latin typeface="Arial"/>
              </a:rPr>
              <a:t>Close 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sz="1600" spc="-1" strike="noStrike">
                <a:solidFill>
                  <a:srgbClr val="ffffcc"/>
                </a:solidFill>
                <a:latin typeface="Arial"/>
              </a:rPr>
              <a:t>//</a:t>
            </a:r>
            <a:r>
              <a:rPr b="0" i="1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sz="1600" spc="-1" strike="noStrike">
                <a:solidFill>
                  <a:srgbClr val="ffffcc"/>
                </a:solidFill>
                <a:latin typeface="Arial"/>
              </a:rPr>
              <a:t>Application.Exit();</a:t>
            </a:r>
            <a:r>
              <a:rPr b="0" i="1" lang="en-US" sz="1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99ff33"/>
                </a:solidFill>
                <a:latin typeface="Arial"/>
              </a:rPr>
              <a:t>//- Close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Други 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контроли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1600" y="1625400"/>
            <a:ext cx="62848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PictureBox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изобразява картинки. По-важни свой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Imag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картинк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izeMod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дали картинката да се разшири / намали или центри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Panel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представлява контейнер, който съдържа група други контро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TabControl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TabPage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осигуряват ползване на табове със страниц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959520" y="1482840"/>
            <a:ext cx="1690920" cy="1461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66000" y="3724200"/>
            <a:ext cx="1684440" cy="13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993000" y="5205240"/>
            <a:ext cx="1657440" cy="13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5718240" y="5793840"/>
            <a:ext cx="1141200" cy="3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188040" y="4424400"/>
            <a:ext cx="66996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тандартни диалогови кут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MessageBox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позволява извеждане на стандартни диалогови кут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общения към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ъпросителни диало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е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00" y="3516480"/>
            <a:ext cx="4935600" cy="8114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MessageBox.Show("Няма връзка с Интернет.", "Предупреждение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27800" y="3166920"/>
            <a:ext cx="2050920" cy="1263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5564160" y="3816000"/>
            <a:ext cx="711360" cy="136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6280" y="4635360"/>
            <a:ext cx="4935600" cy="21218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bool confirmed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MessageBox.Show("Наистина ли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ще изтриете това?"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"Въпрос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MessageBoxButtons.YesN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MessageBoxIcon.Question) =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DialogResult.Y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02240" y="5621400"/>
            <a:ext cx="72396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94600" y="5024520"/>
            <a:ext cx="24573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Други 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контроли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1600" y="1625400"/>
            <a:ext cx="6912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ListBox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изобразява списък с низове. По-важни свой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Item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списъ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ionMod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разрешава / забранява селектиране на няколко елемента едновремен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edIndex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edIndice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edItem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връща избрания елемент (или избраните елемент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CheckedListBox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списък от възможности за избор "да/не"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Item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възможности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heckedItem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връща избрани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85040" y="1268280"/>
            <a:ext cx="1343160" cy="1743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265880" y="4876920"/>
            <a:ext cx="145728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абота с някои контр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2216160"/>
            <a:ext cx="6416640" cy="464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62440" y="3510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80320" y="3414600"/>
            <a:ext cx="195408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Други 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контроли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ComboBox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кутия за редакция на текст с възможност за drop-down алтернативен избор. По-важни свой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въведения тек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Item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възможни стой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ropDownStyl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стил – дали само се избира стойност от списъка или може да се въвежда друга стойно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TreeView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изобразява дървовидни данни. Основни свой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Node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съдържа дървото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(списък от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reeNod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обект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edNod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избрания възе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07320" y="2125800"/>
            <a:ext cx="1730160" cy="1085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081920" y="5003640"/>
            <a:ext cx="156528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Други 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контроли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LinkLabel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               – препратка (hyperlink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съдържание на връзк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LinkClick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активира се при щракване върху препратк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RichTextBox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кутия за редакция на текст с форматиране (Rich Text Forma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LoadFil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aveFil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режда/записва RT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151920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4913280"/>
            <a:ext cx="6554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ionFon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ionColo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electionAlignmen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т шрифт, цвят и подравняване на избрания тек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659640" y="515772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500" spc="-1" strike="noStrike">
                <a:solidFill>
                  <a:srgbClr val="b2b2b2"/>
                </a:solidFill>
                <a:latin typeface="Arial"/>
              </a:rPr>
              <a:t>Менюта</a:t>
            </a:r>
            <a:endParaRPr b="0" lang="en-US" sz="4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MainMenu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                           – падащо мен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ъдържа списък о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MenuItem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елемен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MenuItem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елемент от мен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заглавие на елемента, например “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&amp;New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” или “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Op&amp;en…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ShortCu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кратък клави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Click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събитие “избиране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ContextMenu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контекстно меню (popup мен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ъдържа списък о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MenuItem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елемен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882880" cy="601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59640" y="4365720"/>
            <a:ext cx="182880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500" spc="-1" strike="noStrike">
                <a:solidFill>
                  <a:srgbClr val="b2b2b2"/>
                </a:solidFill>
                <a:latin typeface="Arial"/>
              </a:rPr>
              <a:t>Ленти с инструменти</a:t>
            </a:r>
            <a:endParaRPr b="0" lang="en-US" sz="4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ToolBar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лента с инструменти (с бутони)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Buttons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съдържа списък о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ToolBarButton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елемен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ImageLis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задава картинките за бутон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ButtonClick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активира се при натискане на бу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ава се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ToolBarButtonClickEventArg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с информация кой бутон е бил натис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ToolBarButton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бутон в лен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ImageList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списък с карти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25296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татус лен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StatusBar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                              – лента за състояние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Panels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съдържа секциите на лен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ShowPanels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включва / изключва показване на панел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StatusBarPanel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секция в лен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ъдържание на пан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c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кона на пан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3306960" cy="3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иалог за избор на фай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OpenFileDialog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диалог за избор на файл (при отварян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Titl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заглавие на диа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InitialDirectory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начална дире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ilter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задава възможните файлови разши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ilterIndex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задава активния филтъ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Multiselec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избор на много файло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ileName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ileNames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– избрания фай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Save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FileDialog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– диалог за избор на файл (при записван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айлов диалог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4960" y="1114560"/>
            <a:ext cx="8096400" cy="596232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ttonLoadFile_Click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bject sender, System.EventArgs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penFileDialog openFileDialog = new OpenFileDialo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penFileDialog.Filter = "Text files (*.txt)|*.tx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Log files (*.log)|*.log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penFileDialog.Title = "Choose text file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openFileDialog.ShowDialog() == DialogResult.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fileName = openFileDialog.File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(StreamReader reader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ile.OpenText(fileName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 fileContents = reader.ReadToE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.Text = fileCont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абота с файлов ди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76200" y="1860480"/>
            <a:ext cx="5618160" cy="406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23880" y="3537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700520" y="3460680"/>
            <a:ext cx="402444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Извикване на диалогови кутии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1400" indent="-49140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требителските диалогови кутии се извикват та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ShowDialog()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показва модално диа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1400" indent="-49140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ипът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DialogResult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съдържа резултата (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Ye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No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Cancel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1400" indent="-49140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Задаване на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DialogResult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втоматично – чрез свойството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DialogResul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на бутон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ъчно – преди затваряне на диалога чрез свойството му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DialogRes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565360"/>
            <a:ext cx="8001000" cy="5673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DialogResult result = dialog.ShowDialog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DI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MDI (Multiple Document Interface) приложенията поддържат работа с няколко документа едновремен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MDI контейнери (MDI parent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ъдържат други фор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Задава им се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IsMdiContaine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r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Обикновено имат меню Window за смяна на активната форма (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diLis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ru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MDI формите (MDI childre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ъдържат се в контейнер-форм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Задава им се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diParen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&lt;контейнер&g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2041560"/>
            <a:ext cx="6658200" cy="4816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Мултидокументов текстов реда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47960" y="1992240"/>
            <a:ext cx="48675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Валидация на данн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Валидацията е необходима, когато в дадена контрола трябва да се допуска въвеждане само на коректни дан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В Windows Forms има стандартни средства за валидаци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Validating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събитие за валидация на данните в класа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ава се параметър от тип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ancelEventAr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ко се зададе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ncel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 пуска потребителя да напусне контро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ErrorProvide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отбелязва графично контроли с невалидни дан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Валидация на данни – пример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360" y="1165320"/>
            <a:ext cx="8096040" cy="53910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TextBox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tBox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ErrorProvider errorProvi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tBox1_Validating(object send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ystem.ComponentModel.CancelEventArgs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32.Parse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tBox1.Tex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rrorProvider.SetError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tBox1, "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atch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cep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rrorProvider.SetError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tBox1, "Integer number expecte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.Cancel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алидация на дан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3440" y="1862280"/>
            <a:ext cx="6416640" cy="4641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089760" y="3855960"/>
            <a:ext cx="2476440" cy="2357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269040" y="2273400"/>
            <a:ext cx="200484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вързване на данн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вързването на данните (Data Bind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сигурява автоматично прехвърляне на данни между контроли и източници на дан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ример: свързване на масив съдържащ имена на градове с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omboBo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нтр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зточници на дан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ILis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масиви и коле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IBindingLis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оддържа се от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Data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ддържа нотификация за промя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троли, поддържащи data 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ички Windows Forms конт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TextBox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ComboBox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ListBox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DataGr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вързване на данн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Видове свързва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сто свързван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binding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1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вързване на контрола с единичен обек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1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вързване на контрола с единичен (текущ) елемент от списъ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1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extBox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heckBo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ложно свързван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omplex bind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1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вързване на списъчна контрола със списъ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1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ListBox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omboBox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ataGr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1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оддържа се текущо избран елемент (активен) от списъ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вързването е еднопосочно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8680" indent="-508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мяна на дадено свързано свойство от дадена контрола променя данните в източника, към който то е свърза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8680" indent="-508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братното не е вяр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4120" indent="-41436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ри промяна на източника на данни свързаните към него контроли не си променят свойств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08680" indent="-508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лед промяна на данните в източника на данни за отразяване на промените в свързаните с него контроли се прав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4120" indent="-41436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махване (изтриване) на свързване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4120" indent="-41436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авяне на свързването отн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о свързван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вързване на контрола към об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 промяна на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xtBox1.Tex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е променя свързаният об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2633760"/>
            <a:ext cx="7034400" cy="39006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class Custo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private string m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public string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get { return mNam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set { mName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Customer cust = new Custom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cust.Name = "Бай Иван"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extBox1.DataBindings.Add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new Binding("Text", cust, "Name"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вързване на контрола към об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3480" y="1893960"/>
            <a:ext cx="6416640" cy="4641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54480" y="4206960"/>
            <a:ext cx="3110040" cy="2444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269120" y="4815000"/>
            <a:ext cx="140652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иалогови кутии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640" y="996840"/>
            <a:ext cx="8132760" cy="4012560"/>
            <a:chOff x="485640" y="996840"/>
            <a:chExt cx="8132760" cy="4012560"/>
          </a:xfrm>
        </p:grpSpPr>
        <p:sp>
          <p:nvSpPr>
            <p:cNvPr id="111" name=""/>
            <p:cNvSpPr/>
            <p:nvPr/>
          </p:nvSpPr>
          <p:spPr>
            <a:xfrm>
              <a:off x="485640" y="1355400"/>
              <a:ext cx="8132760" cy="36540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1440" bIns="109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private void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uttonCallDialog_Click(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object sender, System.EventArgs e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DialogForm dialog = new DialogForm(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if (dialog.ShowDialog() == DialogResult.OK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string userName = dialog.UserName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MessageBox.Show("You entered: " + userName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el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MessageBox.Show("You canceled the dialog."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5640" y="996840"/>
              <a:ext cx="8132760" cy="3553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0000" bIns="54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r>
                <a:rPr b="1" lang="bg-BG" sz="2000" spc="-1" strike="noStrike">
                  <a:solidFill>
                    <a:srgbClr val="ffffff"/>
                  </a:solidFill>
                  <a:latin typeface="Courier New"/>
                </a:rPr>
                <a:t>MainForm</a:t>
              </a:r>
              <a:r>
                <a:rPr b="1" lang="bg-BG" sz="2000" spc="-1" strike="noStrike">
                  <a:solidFill>
                    <a:srgbClr val="ffffff"/>
                  </a:solidFill>
                  <a:latin typeface="Arial"/>
                </a:rPr>
                <a:t> клас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7440" y="5241960"/>
            <a:ext cx="8132760" cy="1328400"/>
            <a:chOff x="487440" y="5241960"/>
            <a:chExt cx="8132760" cy="1328400"/>
          </a:xfrm>
        </p:grpSpPr>
        <p:sp>
          <p:nvSpPr>
            <p:cNvPr id="114" name=""/>
            <p:cNvSpPr/>
            <p:nvPr/>
          </p:nvSpPr>
          <p:spPr>
            <a:xfrm>
              <a:off x="487440" y="5587920"/>
              <a:ext cx="8132760" cy="98244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1440" bIns="109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public string UserName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get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{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return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extBoxName.Text;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440" y="5241960"/>
              <a:ext cx="8132760" cy="342720"/>
            </a:xfrm>
            <a:prstGeom prst="rect">
              <a:avLst/>
            </a:prstGeom>
            <a:solidFill>
              <a:srgbClr val="99ccff">
                <a:alpha val="70000"/>
              </a:srgbClr>
            </a:solid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0000" bIns="54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r>
                <a:rPr b="1" lang="bg-BG" sz="2000" spc="-1" strike="noStrike">
                  <a:solidFill>
                    <a:srgbClr val="ffffff"/>
                  </a:solidFill>
                  <a:latin typeface="Courier New"/>
                </a:rPr>
                <a:t>DialogForm</a:t>
              </a:r>
              <a:r>
                <a:rPr b="1" lang="bg-BG" sz="2000" spc="-1" strike="noStrike">
                  <a:solidFill>
                    <a:srgbClr val="ffffff"/>
                  </a:solidFill>
                  <a:latin typeface="Arial"/>
                </a:rPr>
                <a:t> класа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о свързван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Свързване на контрола към списъ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Свързване на контрола към таблиц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844640"/>
            <a:ext cx="8244000" cy="11163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string[] towns = {"София", "Пловдив", "Варна"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extBoxTowns.DataBindings.Add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new Binding("Text", towns, ""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0440" y="3633840"/>
            <a:ext cx="8242200" cy="30592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Courier New"/>
              </a:rPr>
              <a:t>// Имаме DataSet ds с таблица Towns с колони id и n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DataTable towns = new DataTable("Town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towns.Columns.Add(new DataColumn("id", typeof(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towns.Columns.Add(new DataColumn("name", typeof(string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DataSet ds = new DataSe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ds.Tables.Add(town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extBoxTowns.DataBindings.Add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new Binding("Text", ds, "Towns.name"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о свързване с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S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вързването може да става и по време на дизайн с VS.NET (ако използваме за източник DataS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2800" y="2711520"/>
            <a:ext cx="2500200" cy="370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344840" y="2679840"/>
            <a:ext cx="4160880" cy="3867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322800" y="4395960"/>
            <a:ext cx="718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71840" y="3309840"/>
            <a:ext cx="396720" cy="51120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BindingContex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ормата пази информация за свързаните контроли в своя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BindingContext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об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urrencyManag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за контроли свързани към списък. Съдържа позицията в списъка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PropertyManag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за контроли свързани към об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92440" y="4648320"/>
            <a:ext cx="1177920" cy="60948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Binding</a:t>
            </a:r>
            <a:br>
              <a:rPr sz="1800"/>
            </a:br>
            <a:r>
              <a:rPr b="1" sz="18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38760" y="3441600"/>
            <a:ext cx="1359000" cy="60984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Currency</a:t>
            </a:r>
            <a:br>
              <a:rPr sz="1800"/>
            </a:br>
            <a:r>
              <a:rPr b="1" sz="18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38760" y="4254480"/>
            <a:ext cx="1359000" cy="60948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Currency</a:t>
            </a:r>
            <a:br>
              <a:rPr sz="1800"/>
            </a:br>
            <a:r>
              <a:rPr b="1" sz="18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38760" y="5079960"/>
            <a:ext cx="1359000" cy="60948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Currency</a:t>
            </a:r>
            <a:br>
              <a:rPr sz="1800"/>
            </a:br>
            <a:r>
              <a:rPr b="1" sz="18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02440" y="3595680"/>
            <a:ext cx="1357200" cy="304920"/>
          </a:xfrm>
          <a:prstGeom prst="rect">
            <a:avLst/>
          </a:prstGeom>
          <a:solidFill>
            <a:srgbClr val="ff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02440" y="5234040"/>
            <a:ext cx="1357200" cy="304920"/>
          </a:xfrm>
          <a:prstGeom prst="rect">
            <a:avLst/>
          </a:prstGeom>
          <a:solidFill>
            <a:srgbClr val="ff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Data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02440" y="4421160"/>
            <a:ext cx="1357200" cy="304920"/>
          </a:xfrm>
          <a:prstGeom prst="rect">
            <a:avLst/>
          </a:prstGeom>
          <a:solidFill>
            <a:srgbClr val="ff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959280" y="3725640"/>
            <a:ext cx="730080" cy="1012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952800" y="4576680"/>
            <a:ext cx="747720" cy="309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7480" y="5027760"/>
            <a:ext cx="744840" cy="338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91360" y="3746520"/>
            <a:ext cx="718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91360" y="4572000"/>
            <a:ext cx="718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91360" y="5384880"/>
            <a:ext cx="718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38760" y="5905440"/>
            <a:ext cx="1359000" cy="60984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roperty</a:t>
            </a:r>
            <a:br>
              <a:rPr sz="1800"/>
            </a:br>
            <a:r>
              <a:rPr b="1" sz="18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02440" y="6059520"/>
            <a:ext cx="1357200" cy="304920"/>
          </a:xfrm>
          <a:prstGeom prst="rect">
            <a:avLst/>
          </a:prstGeom>
          <a:solidFill>
            <a:srgbClr val="ffffcc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91360" y="6210360"/>
            <a:ext cx="718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5167440"/>
            <a:ext cx="744840" cy="1054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4040" y="4649760"/>
            <a:ext cx="1003320" cy="60948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0080" y="4967280"/>
            <a:ext cx="719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Навигация с </a:t>
            </a:r>
            <a:r>
              <a:rPr b="0" lang="bg-BG" sz="4200" spc="-1" strike="noStrike">
                <a:solidFill>
                  <a:srgbClr val="b2b2b2"/>
                </a:solidFill>
                <a:latin typeface="Courier New"/>
              </a:rPr>
              <a:t>CurrencyManager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urrencyManag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ласът пази текущата позиция в списъка – източник на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Positio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ъдържа позиция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u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ъдържа размера на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вигация по източника на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вличане н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urrencyManage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об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вигация по списъ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3789360"/>
            <a:ext cx="7531200" cy="18694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urrencyManager cm = (Currenc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1.DataBindings["Text"].BindingManagerBa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//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Може и та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urrencyManager cm = (Currenc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orm1.BindingContext[dataTableCustom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1320" y="6094440"/>
            <a:ext cx="7531200" cy="4482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m.Position+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вързване на контрола към списък и навигация по списъ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2205000"/>
            <a:ext cx="6013440" cy="4349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557680" y="4749840"/>
            <a:ext cx="2860920" cy="15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ложно свързван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вързване на контрола към списъ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зползва се при списъчни контро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ListBo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omboBo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Задават се свойства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DataSourc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списък с дан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DisplayMemb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ът до полето, което да се визуализ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ValueMemb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ът до полето, от което се получава резул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04760" y="5530680"/>
            <a:ext cx="7209000" cy="10245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mboBox1.DataSource = dataSetCountries; comboBox1.DisplayMember = "Countries.CountryCode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mboBox1.ValueMember = "Countries.Name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ложно свързване на контрола към списъ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44640" y="2185920"/>
            <a:ext cx="6013440" cy="4349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77000" y="4667400"/>
            <a:ext cx="2382840" cy="16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ложно свързване с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S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вързването може да става и по време на дизайн 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NET (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ако ползваме за източник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DataS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04720" y="3733920"/>
            <a:ext cx="1854360" cy="2735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585880" y="3668760"/>
            <a:ext cx="1870200" cy="2873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700520" y="3835440"/>
            <a:ext cx="1870200" cy="251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816600" y="3711600"/>
            <a:ext cx="1870200" cy="2752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364000" y="2637000"/>
            <a:ext cx="187200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нтролата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DataGr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DataGrid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контролата визуализира таблични дан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Осигурява навигация по редове и коло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озволява редактиране на даннит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лаба функционално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5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Ще бъде заменена в бъдещи версии на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Използва се най-често с ADO.NET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ataSe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ataT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ataSourc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източника на дан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ataMembe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пътя до данните в рамките на източни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DataGrid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9440" y="1139760"/>
            <a:ext cx="7867440" cy="54010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void MainForm_Load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bject sender, System.EventArgs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Create table "Town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ataTable towns = new DataTable("Town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owns.Columns.Add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DataColumn("id", typeof(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owns.Columns.Add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DataColumn("name", typeof(string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Add some rows in the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ataRow row = towns.NewRow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id"]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name"] = "София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owns.Rows.Add(r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 = towns.NewRow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id"] = 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name"] = "Пловдив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owns.Rows.Add(r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Други 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100" spc="-1" strike="noStrike">
                <a:solidFill>
                  <a:srgbClr val="b2b2b2"/>
                </a:solidFill>
                <a:latin typeface="Arial"/>
              </a:rPr>
              <a:t>контроли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CheckBox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             – кутия за избор в стил "да/не". По-важни свой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heck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дали е избра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RadioButton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 –               – контрола за алтернативен избо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heck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дали е избра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heckedChang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активира се при промяна на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heck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свойство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1255680" cy="39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1357200" cy="398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4941720"/>
            <a:ext cx="66834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Използва се в груп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мо един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RadioButton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е избран в даден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ставят се в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GroupBo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Pane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Tab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039080" y="4859280"/>
            <a:ext cx="16873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DataGrid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440" y="1076400"/>
            <a:ext cx="7867440" cy="50774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 = towns.NewRow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id"] = 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name"] = "Варна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owns.Rows.Add(r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 = towns.NewRow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id"] = 4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ow["name"] = "Русе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owns.Rows.Add(r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Add table "Towns" to the 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ataSet ds = new DataSe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s.Tables.Add(town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Bind the DataGrid to the 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taGridTowns.DataSource = 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taGridTowns.DataMember = "Town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абота с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DataGrid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контрол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47600" y="1890720"/>
            <a:ext cx="6417000" cy="4641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183280" y="3841920"/>
            <a:ext cx="295092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нтролата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DataGr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-важни свойства на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Data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ReadOnl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азрешава / забранява реда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aptionVisibl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оказва / скрива заглавие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ColumnHeadersVisibl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оказва / скрива заглавията на коло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RowHeadersVisibl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оказва / скрива колоната вляво от редов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TableStyle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задава стилове за таблиц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5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Активен е само първият ст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5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MappingName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– задава таблицата, за която се отнася дефинираният ст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5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GridColum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bg-BG" sz="2200" spc="-1" strike="noStrike">
                <a:solidFill>
                  <a:srgbClr val="ffffff"/>
                </a:solidFill>
                <a:latin typeface="Courier New"/>
              </a:rPr>
              <a:t>Styles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– задава форматирането на отделните колони – заглавие, ширина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ster-Details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навигац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Master-Deta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вигацията отразява взаимоотношения тип "1 към много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пример: 1 регион има много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 ADO.NET </a:t>
            </a:r>
            <a:r>
              <a:rPr b="0" lang="bg-BG" sz="1800" spc="-1" strike="noStrike">
                <a:solidFill>
                  <a:srgbClr val="ffffff"/>
                </a:solidFill>
                <a:latin typeface="Courier New"/>
              </a:rPr>
              <a:t>DataSet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обектите се поддържат релации тип "главен/подчинен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зползват се DataRelation обектите в Data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Windows Forms поддържа Master-Deta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виг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главната контрола се задава за източник на данните главната табли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подчинената контрола се задава за източник на данните релацията на таблиц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Контролите се свързват с един и същ </a:t>
            </a:r>
            <a:r>
              <a:rPr b="0" lang="bg-BG" sz="1800" spc="-1" strike="noStrike">
                <a:solidFill>
                  <a:srgbClr val="ffffff"/>
                </a:solidFill>
                <a:latin typeface="Courier New"/>
              </a:rPr>
              <a:t>Data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ster-Details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9440" y="2876400"/>
            <a:ext cx="7867440" cy="36579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Bind the master grid to the mast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ataGridCountries.DataSource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datasetCountriesAndTow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ataGridCountries.DataMember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"Countries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Bind the detail grid to the relation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ataGridTowns.DataSource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datasetCountriesAndTow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ataGridTowns.DataMember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"Countries.CountriesTowns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82640" y="1154160"/>
            <a:ext cx="568332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-Details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навиг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1280" y="2101680"/>
            <a:ext cx="6575400" cy="47563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521160" y="2451240"/>
            <a:ext cx="5067360" cy="1352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755880" y="4133880"/>
            <a:ext cx="44769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Релации "много към много"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елации тип "много към много" не се поддържат о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ata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DataGr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огат да бъдат сведени до Master-Detai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рез добавяне на изглед в базата от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58760" y="3129120"/>
            <a:ext cx="7047000" cy="1144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00200" y="4640400"/>
            <a:ext cx="7867440" cy="17100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REATE VIEW View_StudentsCourses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ELECT StudentId, StudentName, CourseId, Course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ROM Students, Courses, StudentsCour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HERE Students.StudentsId = StudentsCourses.Student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ND Courses.CourseId = StudentsCourses.Cours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Релации "много към много"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439040" cy="16444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708360" y="3068640"/>
            <a:ext cx="4380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Наследяване на форм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Наследяването на фор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зволява повторно използване на части от потребителския интерфей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ъзможно е да се променят наведнъж общите части на много 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Чрез подмяна на единиче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L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файл може да се променят всички 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ормите-наследници могат да добавят функционал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87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ртуални методи могат да реализират специфичната за наследниците функционалност, достъпна от базовата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Наследяване на форм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азовата форма е най-обикновена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Контролите, които могат да се променят, се обявят като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prot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Останалите контроли не могат да се променят от формите-наследниц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За наследяване на форма се наследява класът на базовата фор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Формите-наследници се създават се от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ual Studio .NET (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чрез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Add New Item 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Inherited For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 промяна на базовата форма приложението трябва да се прекомпил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oolbox and Control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06680" y="1052640"/>
            <a:ext cx="2330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следяване на фор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351080" y="1898640"/>
            <a:ext cx="6416640" cy="4641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300480" y="1725480"/>
            <a:ext cx="2573280" cy="2573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68440" y="3675240"/>
            <a:ext cx="2573280" cy="2573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6073920" y="3625920"/>
            <a:ext cx="2573280" cy="2573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flipH="1">
            <a:off x="1802880" y="2863800"/>
            <a:ext cx="2514600" cy="130356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19680" y="2868480"/>
            <a:ext cx="2649600" cy="127800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ечатане на принт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Използват се 3 ключови кла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PrintDi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тандартен диалог за печатане на прин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Print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 процеса на печатане и активира събития, свързани с 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оставя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повърхност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Print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исва характеристиките на отпечатвания доку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държа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PrinterSettings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ърнати от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PrintDia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483640" y="253692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Document/View – MFC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Програмна архит</a:t>
            </a:r>
            <a:r>
              <a:rPr b="0" lang="bg-BG" sz="3600" spc="-1" strike="noStrike">
                <a:solidFill>
                  <a:srgbClr val="b2b2b2"/>
                </a:solidFill>
                <a:latin typeface="Arial"/>
              </a:rPr>
              <a:t>ектура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Document/View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8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801360" y="1989000"/>
            <a:ext cx="7715160" cy="3456000"/>
            <a:chOff x="801360" y="1989000"/>
            <a:chExt cx="7715160" cy="3456000"/>
          </a:xfrm>
        </p:grpSpPr>
        <p:sp>
          <p:nvSpPr>
            <p:cNvPr id="321" name=""/>
            <p:cNvSpPr/>
            <p:nvPr/>
          </p:nvSpPr>
          <p:spPr>
            <a:xfrm>
              <a:off x="3296520" y="1989000"/>
              <a:ext cx="1944000" cy="581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199"/>
                  </a:solidFill>
                  <a:latin typeface="Tahoma"/>
                </a:rPr>
                <a:t>обект –прил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199"/>
                  </a:solidFill>
                  <a:latin typeface="Tahoma"/>
                </a:rPr>
                <a:t>(цикъл на съобщ</a:t>
              </a:r>
              <a:r>
                <a:rPr b="1" lang="bg-BG" sz="1400" spc="-1" strike="noStrike">
                  <a:solidFill>
                    <a:srgbClr val="010199"/>
                  </a:solidFill>
                  <a:latin typeface="Tahoma"/>
                </a:rPr>
                <a:t>.)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914560" y="3429000"/>
              <a:ext cx="2665440" cy="2016000"/>
              <a:chOff x="2914560" y="3429000"/>
              <a:chExt cx="2665440" cy="2016000"/>
            </a:xfrm>
          </p:grpSpPr>
          <p:sp>
            <p:nvSpPr>
              <p:cNvPr id="323" name=""/>
              <p:cNvSpPr/>
              <p:nvPr/>
            </p:nvSpPr>
            <p:spPr>
              <a:xfrm>
                <a:off x="2914560" y="3429000"/>
                <a:ext cx="2665440" cy="2016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4920" y="3789000"/>
                <a:ext cx="1944720" cy="1368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74920" y="4291920"/>
                <a:ext cx="194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600" spc="-1" strike="noStrike">
                    <a:solidFill>
                      <a:srgbClr val="010199"/>
                    </a:solidFill>
                    <a:latin typeface="Tahoma"/>
                  </a:rPr>
                  <a:t>Изглед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54560" y="3933720"/>
              <a:ext cx="2233440" cy="1008000"/>
              <a:chOff x="6154560" y="3933720"/>
              <a:chExt cx="2233440" cy="1008000"/>
            </a:xfrm>
          </p:grpSpPr>
          <p:sp>
            <p:nvSpPr>
              <p:cNvPr id="327" name=""/>
              <p:cNvSpPr/>
              <p:nvPr/>
            </p:nvSpPr>
            <p:spPr>
              <a:xfrm>
                <a:off x="6154560" y="3933720"/>
                <a:ext cx="2233440" cy="1008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97480" y="4149720"/>
                <a:ext cx="1944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600" spc="-1" strike="noStrike">
                    <a:solidFill>
                      <a:srgbClr val="010199"/>
                    </a:solidFill>
                    <a:latin typeface="Tahoma"/>
                  </a:rPr>
                  <a:t>Документен обект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801360" y="2658960"/>
              <a:ext cx="27853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съобщенията се изпомпва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към рамка и изглед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8120" y="2996640"/>
              <a:ext cx="28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обект на прозореца – рамка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1164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9640" y="4221000"/>
              <a:ext cx="9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19640" y="4653000"/>
              <a:ext cx="9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580000" y="3357360"/>
              <a:ext cx="1656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19640" y="306864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96520" y="1861560"/>
            <a:ext cx="6598440" cy="47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ViewCountDoc* pDoc 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ynamic_cast&lt;CViewCountDoc*&gt;(GetDocument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обре е в прил. да има собствена реал. на GetDocument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iewCountDoc* CViewCountView::GetDocumet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ViewCountDoc* pDoc  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ynamic_cast&lt;CViewCountDoc*&gt;(GetDocument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SSERT_VALID( pDoc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turn pDoc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oid CMyView::OnDraw(CDC* pDC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MyDoc* pDoc = GetDocument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String string = pDoc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String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ect r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ClientRect(&amp;rec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DC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rawText( string, rect,…………….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OnDraw();  OnInitialUpdate();  OnUpdate()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Document class:</a:t>
            </a:r>
            <a:br>
              <a:rPr sz="2000"/>
            </a:b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GetFirstViewPosition(); GetNextView();OnNewDocument();OnOpenDocument(); Serialize()</a:t>
            </a:r>
            <a:br>
              <a:rPr sz="16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View clas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Main Frame &amp; Child Frame Windows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OnClose(); </a:t>
            </a:r>
            <a:r>
              <a:rPr b="0" lang="bg-BG" sz="1600" spc="-1" strike="noStrike">
                <a:solidFill>
                  <a:srgbClr val="b2b2b2"/>
                </a:solidFill>
                <a:latin typeface="Arial"/>
              </a:rPr>
              <a:t>преоразмеряване; работа с 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toolbar..</a:t>
            </a:r>
            <a:br>
              <a:rPr sz="1600"/>
            </a:br>
            <a:r>
              <a:rPr b="0" lang="bg-BG" sz="1600" spc="-1" strike="noStrike">
                <a:solidFill>
                  <a:srgbClr val="b2b2b2"/>
                </a:solidFill>
                <a:latin typeface="Arial"/>
              </a:rPr>
              <a:t>Произхождат от 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CFrameWnd </a:t>
            </a:r>
            <a:r>
              <a:rPr b="0" lang="bg-BG" sz="1600" spc="-1" strike="noStrike">
                <a:solidFill>
                  <a:srgbClr val="b2b2b2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CMDIFrameWnd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14560" y="2516040"/>
            <a:ext cx="3531240" cy="2858040"/>
            <a:chOff x="1114560" y="2516040"/>
            <a:chExt cx="3531240" cy="2858040"/>
          </a:xfrm>
        </p:grpSpPr>
        <p:sp>
          <p:nvSpPr>
            <p:cNvPr id="340" name=""/>
            <p:cNvSpPr/>
            <p:nvPr/>
          </p:nvSpPr>
          <p:spPr>
            <a:xfrm>
              <a:off x="1258560" y="2516040"/>
              <a:ext cx="2952720" cy="19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58560" y="2804760"/>
              <a:ext cx="29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25520" y="2516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File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51000" y="2548800"/>
              <a:ext cx="215640" cy="21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14560" y="3452760"/>
              <a:ext cx="2233440" cy="1295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63640" y="3884400"/>
              <a:ext cx="57564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114560" y="3092040"/>
              <a:ext cx="504360" cy="360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348000" y="3092040"/>
              <a:ext cx="504360" cy="360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114560" y="4388760"/>
              <a:ext cx="504360" cy="360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348000" y="4388760"/>
              <a:ext cx="504360" cy="360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00640" y="503676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Vie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83480" y="503676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MainFr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95280" y="474804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95640" y="4460760"/>
              <a:ext cx="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003640" y="2514600"/>
            <a:ext cx="3747600" cy="2931120"/>
            <a:chOff x="5003640" y="2514600"/>
            <a:chExt cx="3747600" cy="2931120"/>
          </a:xfrm>
        </p:grpSpPr>
        <p:sp>
          <p:nvSpPr>
            <p:cNvPr id="355" name=""/>
            <p:cNvSpPr/>
            <p:nvPr/>
          </p:nvSpPr>
          <p:spPr>
            <a:xfrm>
              <a:off x="6305400" y="4746600"/>
              <a:ext cx="14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ChildFr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88920" y="510840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MainFr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4459320"/>
              <a:ext cx="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003640" y="2514600"/>
              <a:ext cx="2952720" cy="2014200"/>
              <a:chOff x="5003640" y="2514600"/>
              <a:chExt cx="2952720" cy="20142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5003640" y="2514600"/>
                <a:ext cx="2952720" cy="1942920"/>
                <a:chOff x="5003640" y="2514600"/>
                <a:chExt cx="2952720" cy="19429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003640" y="2514600"/>
                  <a:ext cx="2952720" cy="194292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003640" y="2803320"/>
                  <a:ext cx="295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070240" y="25146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File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695720" y="2547000"/>
                  <a:ext cx="215640" cy="213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5316480" y="3017880"/>
                <a:ext cx="1992240" cy="1314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61480" y="30178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File…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19640" y="3651120"/>
                <a:ext cx="1506600" cy="8762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57760" y="3943440"/>
                <a:ext cx="388800" cy="29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219640" y="3408480"/>
                <a:ext cx="339840" cy="24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726240" y="3408480"/>
                <a:ext cx="341280" cy="24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219640" y="4284360"/>
                <a:ext cx="339840" cy="24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726240" y="4284360"/>
                <a:ext cx="341280" cy="24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64000" y="3290760"/>
                <a:ext cx="194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4280" y="3050640"/>
                <a:ext cx="216000" cy="213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92720" y="4314600"/>
              <a:ext cx="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847800" y="5516640"/>
            <a:ext cx="810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ожем да модифицираме поведението на  MDI child frame (CChildFrame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OOL CChildFrame::PreCreateWindow( CREATESTRUCT&amp; cs) {…}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42600" y="19162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S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0" y="1916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M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Application class: </a:t>
            </a: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наследява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CWinApp. </a:t>
            </a:r>
            <a:br>
              <a:rPr sz="2000"/>
            </a:b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Инициализации; стартиране; качване на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doc. Template…</a:t>
            </a:r>
            <a:br>
              <a:rPr sz="2000"/>
            </a:b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Document Templat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00" y="1989000"/>
            <a:ext cx="8640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ави връзка м/ду ( при това само по 1) document class , view, frame. Има CSingleDocTemplate и CMultipleDocTemplate.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Съдърж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окументен низ (7 полета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\nMy_app\My_app\n\n\nMy_app.Document\nMy_app Documen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коната на изображението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енюто при активно изображение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DI документния шаблон се създава още в InitInstanse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SingleDocTemplate * pDocTempla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DocTemplate = new CSingleDocTemplate( IDR_MAINFRAME, RUNTIME_CLASS( CMyDoc)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UNTIME_CLASS( CMainFrame), RUNTIME_CLASS( CMyView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ddDocTemplate(pDocTempla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 следват редове за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рег. на док. типове в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G, създаване обектите от шаблона, показване рамката и изгле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ключва се цикълът за обр. съобщения, като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командните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ъобщения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(от меню, акселер. ,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oolbar) се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насочват за обработк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към обектите  -  изглед</a:t>
            </a:r>
            <a:r>
              <a:rPr b="1" lang="bg-BG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документ</a:t>
            </a:r>
            <a:r>
              <a:rPr b="1" lang="bg-BG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шаблон</a:t>
            </a:r>
            <a:r>
              <a:rPr b="1" lang="bg-BG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рамка</a:t>
            </a:r>
            <a:r>
              <a:rPr b="1" lang="bg-BG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риложение</a:t>
            </a:r>
            <a:r>
              <a:rPr b="1" lang="bg-BG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DefWindowProc()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(command routing)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42920" y="260280"/>
            <a:ext cx="69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Ако MDI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има повече документи и изображени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(CDocManager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16000" y="620640"/>
            <a:ext cx="6048360" cy="1582920"/>
            <a:chOff x="1116000" y="620640"/>
            <a:chExt cx="6048360" cy="1582920"/>
          </a:xfrm>
        </p:grpSpPr>
        <p:sp>
          <p:nvSpPr>
            <p:cNvPr id="382" name=""/>
            <p:cNvSpPr/>
            <p:nvPr/>
          </p:nvSpPr>
          <p:spPr>
            <a:xfrm>
              <a:off x="3780000" y="1052640"/>
              <a:ext cx="3384360" cy="11509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16000" y="981000"/>
              <a:ext cx="1584360" cy="576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44960" y="1123560"/>
              <a:ext cx="11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WinApp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22800" y="1699560"/>
              <a:ext cx="25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ocumet Template list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067280" y="1413000"/>
              <a:ext cx="2882880" cy="216000"/>
              <a:chOff x="4067280" y="1413000"/>
              <a:chExt cx="2882880" cy="216000"/>
            </a:xfrm>
          </p:grpSpPr>
          <p:sp>
            <p:nvSpPr>
              <p:cNvPr id="387" name=""/>
              <p:cNvSpPr/>
              <p:nvPr/>
            </p:nvSpPr>
            <p:spPr>
              <a:xfrm>
                <a:off x="4067280" y="1413000"/>
                <a:ext cx="504720" cy="216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61080" y="1413000"/>
                <a:ext cx="504720" cy="216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53080" y="1413000"/>
                <a:ext cx="504720" cy="216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45080" y="1413000"/>
                <a:ext cx="505080" cy="216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64000" y="1557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56360" y="155736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2000" y="1557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4474080" y="620640"/>
              <a:ext cx="21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ocumet Templ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076720" y="908280"/>
              <a:ext cx="432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08720" y="908280"/>
              <a:ext cx="431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8720" y="908280"/>
              <a:ext cx="1224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284720" y="908280"/>
              <a:ext cx="122400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0360" y="1339920"/>
              <a:ext cx="10796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12320" y="227592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реме на живот на документа и изображениет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60040" y="26622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S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57040" y="263700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M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90720" y="3296520"/>
            <a:ext cx="4166640" cy="2654280"/>
            <a:chOff x="990720" y="3296520"/>
            <a:chExt cx="4166640" cy="2654280"/>
          </a:xfrm>
        </p:grpSpPr>
        <p:sp>
          <p:nvSpPr>
            <p:cNvPr id="404" name=""/>
            <p:cNvSpPr/>
            <p:nvPr/>
          </p:nvSpPr>
          <p:spPr>
            <a:xfrm>
              <a:off x="1350360" y="3296520"/>
              <a:ext cx="155232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truc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59120" y="4029840"/>
              <a:ext cx="204444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OnNewDocument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90720" y="4818960"/>
              <a:ext cx="212364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OnCloseDocument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7600" y="5582520"/>
              <a:ext cx="143496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struc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18040" y="4030920"/>
              <a:ext cx="1939320" cy="5806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reate addit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ocu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24000" y="365760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52720" y="444996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2720" y="524196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32000" y="5025960"/>
              <a:ext cx="10083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40360" y="4593960"/>
              <a:ext cx="0" cy="4316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123640" y="3801960"/>
              <a:ext cx="20163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3801960"/>
              <a:ext cx="0" cy="21600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292720" y="3153960"/>
            <a:ext cx="3311640" cy="3391920"/>
            <a:chOff x="5292720" y="3153960"/>
            <a:chExt cx="3311640" cy="3391920"/>
          </a:xfrm>
        </p:grpSpPr>
        <p:sp>
          <p:nvSpPr>
            <p:cNvPr id="417" name=""/>
            <p:cNvSpPr/>
            <p:nvPr/>
          </p:nvSpPr>
          <p:spPr>
            <a:xfrm>
              <a:off x="5292720" y="3153960"/>
              <a:ext cx="3311640" cy="33732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reate additional Docu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6400" y="3891600"/>
              <a:ext cx="155232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truc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15160" y="4625280"/>
              <a:ext cx="204444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OnNewDocument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6760" y="5414040"/>
              <a:ext cx="212364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OnCloseDocument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73640" y="6177600"/>
              <a:ext cx="1434960" cy="3682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struc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80400" y="425304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08760" y="504504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08760" y="583740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6920" y="3500280"/>
              <a:ext cx="0" cy="3603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000" y="326880"/>
            <a:ext cx="86407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WinApp::OnFileNew(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bg-BG" sz="1400" spc="-1" strike="noStrike">
                <a:solidFill>
                  <a:srgbClr val="ffffff"/>
                </a:solidFill>
                <a:latin typeface="Tahoma"/>
              </a:rPr>
              <a:t>създава док от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late; OnNewDocument()</a:t>
            </a:r>
            <a:r>
              <a:rPr b="1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eteContent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WinAp::OnFileOpen()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bg-BG" sz="1400" spc="-1" strike="noStrike">
                <a:solidFill>
                  <a:srgbClr val="ffffff"/>
                </a:solidFill>
                <a:latin typeface="Tahoma"/>
              </a:rPr>
              <a:t>диалог;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Document::OnOpenDocument()</a:t>
            </a:r>
            <a:r>
              <a:rPr b="1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eteContents(),</a:t>
            </a:r>
            <a:r>
              <a:rPr b="1" lang="bg-BG" sz="1400" spc="-1" strike="noStrike">
                <a:solidFill>
                  <a:srgbClr val="ffffff"/>
                </a:solidFill>
                <a:latin typeface="Tahoma"/>
              </a:rPr>
              <a:t>сер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Updating Document &amp; Vie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класовете документи и изображения си взаимодействат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1480" y="1915560"/>
            <a:ext cx="8698320" cy="1080000"/>
            <a:chOff x="141480" y="1915560"/>
            <a:chExt cx="8698320" cy="1080000"/>
          </a:xfrm>
        </p:grpSpPr>
        <p:sp>
          <p:nvSpPr>
            <p:cNvPr id="428" name=""/>
            <p:cNvSpPr/>
            <p:nvPr/>
          </p:nvSpPr>
          <p:spPr>
            <a:xfrm>
              <a:off x="4643280" y="1916280"/>
              <a:ext cx="1656000" cy="1079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ahoma"/>
                </a:rPr>
                <a:t>CVie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56000" y="1916280"/>
              <a:ext cx="2016000" cy="1079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ahoma"/>
                </a:rPr>
                <a:t>C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835280" y="24192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56360" y="2131920"/>
              <a:ext cx="7920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300720" y="2418840"/>
              <a:ext cx="6476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27640" y="270828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1480" y="222696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ahoma"/>
                </a:rPr>
                <a:t>UpdateAllVie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55200" y="1915560"/>
              <a:ext cx="188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OnInitialUpdat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9800" y="2202840"/>
              <a:ext cx="12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ahoma"/>
                </a:rPr>
                <a:t>OnUpdate</a:t>
              </a:r>
              <a:r>
                <a:rPr b="0" lang="en-US" sz="1800" spc="-1" strike="noStrike">
                  <a:solidFill>
                    <a:srgbClr val="ff0066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3760" y="2491560"/>
              <a:ext cx="164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GetDocument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35360" y="3140640"/>
            <a:ext cx="445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ahoma"/>
              </a:rPr>
              <a:t>Основни View класове към MF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42920" y="3641400"/>
            <a:ext cx="7777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View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тандартен дъщерен прозорец за вашето изображ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ScrollView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авя scroll възможности към CView 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FormView –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достявя диалог за вграждане на контроли в изображение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RecordView –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изводен на горния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използва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 с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 работа с ODBC БД – изобразява запис от ODBC база дан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DaoRecordView –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добен на горния, но за работа с DAO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EditView 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ъдържа edit control, който попълва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лиентската област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TreeView 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ъдържа tree view control, койо попълва клиентската област на изображениет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RichEditView 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ъдържа rich edit control, който попълва клиентската област на изображениет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ListView 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ъдържа list contro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CHtmlView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ъздава изгледи от html формати и други формати, поддържани от контрола WebBrouser на Microsoft Internet Explorer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Н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аследствени връзки м</a:t>
            </a: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ежду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тези класов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971640" y="1988280"/>
            <a:ext cx="7993080" cy="4177440"/>
            <a:chOff x="971640" y="1988280"/>
            <a:chExt cx="7993080" cy="4177440"/>
          </a:xfrm>
        </p:grpSpPr>
        <p:grpSp>
          <p:nvGrpSpPr>
            <p:cNvPr id="442" name=""/>
            <p:cNvGrpSpPr/>
            <p:nvPr/>
          </p:nvGrpSpPr>
          <p:grpSpPr>
            <a:xfrm>
              <a:off x="1116000" y="1988280"/>
              <a:ext cx="1368360" cy="432360"/>
              <a:chOff x="1116000" y="1988280"/>
              <a:chExt cx="1368360" cy="432360"/>
            </a:xfrm>
          </p:grpSpPr>
          <p:sp>
            <p:nvSpPr>
              <p:cNvPr id="443" name=""/>
              <p:cNvSpPr/>
              <p:nvPr/>
            </p:nvSpPr>
            <p:spPr>
              <a:xfrm>
                <a:off x="1116000" y="1989000"/>
                <a:ext cx="136836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48560" y="198828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403280" y="2780640"/>
              <a:ext cx="2016360" cy="432360"/>
              <a:chOff x="1403280" y="2780640"/>
              <a:chExt cx="2016360" cy="432360"/>
            </a:xfrm>
          </p:grpSpPr>
          <p:sp>
            <p:nvSpPr>
              <p:cNvPr id="446" name=""/>
              <p:cNvSpPr/>
              <p:nvPr/>
            </p:nvSpPr>
            <p:spPr>
              <a:xfrm>
                <a:off x="1403280" y="2781360"/>
                <a:ext cx="201636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41960" y="2780640"/>
                <a:ext cx="15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Scroll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627280" y="3572640"/>
              <a:ext cx="2016000" cy="432720"/>
              <a:chOff x="2627280" y="3572640"/>
              <a:chExt cx="2016000" cy="432720"/>
            </a:xfrm>
          </p:grpSpPr>
          <p:sp>
            <p:nvSpPr>
              <p:cNvPr id="449" name=""/>
              <p:cNvSpPr/>
              <p:nvPr/>
            </p:nvSpPr>
            <p:spPr>
              <a:xfrm>
                <a:off x="2627280" y="3573360"/>
                <a:ext cx="2016000" cy="432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57680" y="3572640"/>
                <a:ext cx="153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Form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971640" y="4507920"/>
              <a:ext cx="2016000" cy="432360"/>
              <a:chOff x="971640" y="4507920"/>
              <a:chExt cx="2016000" cy="432360"/>
            </a:xfrm>
          </p:grpSpPr>
          <p:sp>
            <p:nvSpPr>
              <p:cNvPr id="452" name=""/>
              <p:cNvSpPr/>
              <p:nvPr/>
            </p:nvSpPr>
            <p:spPr>
              <a:xfrm>
                <a:off x="971640" y="4508640"/>
                <a:ext cx="201600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11400" y="4507920"/>
                <a:ext cx="173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Record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987640" y="5733360"/>
              <a:ext cx="2521080" cy="432360"/>
              <a:chOff x="2987640" y="5733360"/>
              <a:chExt cx="2521080" cy="432360"/>
            </a:xfrm>
          </p:grpSpPr>
          <p:sp>
            <p:nvSpPr>
              <p:cNvPr id="455" name=""/>
              <p:cNvSpPr/>
              <p:nvPr/>
            </p:nvSpPr>
            <p:spPr>
              <a:xfrm>
                <a:off x="2987640" y="5734080"/>
                <a:ext cx="252108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27760" y="5733360"/>
                <a:ext cx="218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DaoRecord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124000" y="5157000"/>
              <a:ext cx="2016000" cy="432360"/>
              <a:chOff x="2124000" y="5157000"/>
              <a:chExt cx="2016000" cy="432360"/>
            </a:xfrm>
          </p:grpSpPr>
          <p:sp>
            <p:nvSpPr>
              <p:cNvPr id="458" name=""/>
              <p:cNvSpPr/>
              <p:nvPr/>
            </p:nvSpPr>
            <p:spPr>
              <a:xfrm>
                <a:off x="2124000" y="5157720"/>
                <a:ext cx="201600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49720" y="5157000"/>
                <a:ext cx="150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Html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5724360" y="3717360"/>
              <a:ext cx="2016360" cy="432360"/>
              <a:chOff x="5724360" y="3717360"/>
              <a:chExt cx="2016360" cy="432360"/>
            </a:xfrm>
          </p:grpSpPr>
          <p:sp>
            <p:nvSpPr>
              <p:cNvPr id="461" name=""/>
              <p:cNvSpPr/>
              <p:nvPr/>
            </p:nvSpPr>
            <p:spPr>
              <a:xfrm>
                <a:off x="5724360" y="3718080"/>
                <a:ext cx="201636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54400" y="3717360"/>
                <a:ext cx="1355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Ctrl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4427640" y="2780640"/>
              <a:ext cx="2016000" cy="432360"/>
              <a:chOff x="4427640" y="2780640"/>
              <a:chExt cx="2016000" cy="432360"/>
            </a:xfrm>
          </p:grpSpPr>
          <p:sp>
            <p:nvSpPr>
              <p:cNvPr id="464" name=""/>
              <p:cNvSpPr/>
              <p:nvPr/>
            </p:nvSpPr>
            <p:spPr>
              <a:xfrm>
                <a:off x="4427640" y="2781360"/>
                <a:ext cx="201600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63800" y="2780640"/>
                <a:ext cx="137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Edit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427640" y="4652280"/>
              <a:ext cx="2305080" cy="432360"/>
              <a:chOff x="4427640" y="4652280"/>
              <a:chExt cx="2305080" cy="432360"/>
            </a:xfrm>
          </p:grpSpPr>
          <p:sp>
            <p:nvSpPr>
              <p:cNvPr id="467" name=""/>
              <p:cNvSpPr/>
              <p:nvPr/>
            </p:nvSpPr>
            <p:spPr>
              <a:xfrm>
                <a:off x="4427640" y="4653000"/>
                <a:ext cx="230508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70280" y="4652280"/>
                <a:ext cx="186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RichEdit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948360" y="4652280"/>
              <a:ext cx="2016360" cy="432360"/>
              <a:chOff x="6948360" y="4652280"/>
              <a:chExt cx="2016360" cy="432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948360" y="4653000"/>
                <a:ext cx="201636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82720" y="4652280"/>
                <a:ext cx="14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Tree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6948360" y="2780640"/>
              <a:ext cx="2016360" cy="432360"/>
              <a:chOff x="6948360" y="2780640"/>
              <a:chExt cx="2016360" cy="432360"/>
            </a:xfrm>
          </p:grpSpPr>
          <p:sp>
            <p:nvSpPr>
              <p:cNvPr id="473" name=""/>
              <p:cNvSpPr/>
              <p:nvPr/>
            </p:nvSpPr>
            <p:spPr>
              <a:xfrm>
                <a:off x="6948360" y="2781360"/>
                <a:ext cx="2016360" cy="431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80200" y="2780640"/>
                <a:ext cx="134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199"/>
                    </a:solidFill>
                    <a:latin typeface="Tahoma"/>
                  </a:rPr>
                  <a:t>CListView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 flipV="1">
              <a:off x="2124000" y="4005360"/>
              <a:ext cx="1440000" cy="503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132000" y="4005000"/>
              <a:ext cx="503280" cy="1152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3708000" y="4005360"/>
              <a:ext cx="576360" cy="1728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2339640" y="3212640"/>
              <a:ext cx="1368360" cy="360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1834920" y="2420640"/>
              <a:ext cx="433080" cy="360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4000" y="3213000"/>
              <a:ext cx="1295640" cy="503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04000" y="3213000"/>
              <a:ext cx="1152720" cy="503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435640" y="4149720"/>
              <a:ext cx="1224000" cy="503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6804000" y="4149720"/>
              <a:ext cx="1152720" cy="503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H="1" flipV="1">
            <a:off x="2484000" y="2349360"/>
            <a:ext cx="33829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sign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6040" y="1197000"/>
            <a:ext cx="82519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79280" y="2054160"/>
            <a:ext cx="8713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oid CMyView::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OnInitialUpdate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ScrollView::OnInitialUpdat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tScrollSizes(MM_TEXT, CSize(1280,1024));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//+стъпка скролир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61720" y="3068640"/>
            <a:ext cx="7212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ahoma"/>
              </a:rPr>
              <a:t>Основни ф-ии на клас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Point pos = GetScrollPosition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);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rollToPosition(CPoint(100,100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Size size = GetTotalSize();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връща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лог. размер на изгл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t nWidth = size.c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t nHeight = size.c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tScaleToFitSize(GetTotalSize());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мащабира лог. изгле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tScrollSize(….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//за динамична корекция на лог изгле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4786200"/>
            <a:ext cx="871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OnDraw(&amp;d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реди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nDraw(),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във ф-ия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nPaint():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PaintDC dc(thi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); OnPrepareDC(&amp;dc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nDraw(&amp;dc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Ако искат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OnDraw()  да прерисува само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инвалидизирани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правоъгълник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ect r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DC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ClipBox(&amp;rect);//попълва размера на инвалид. правоъгълник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Scroll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8388360" y="24922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8360" y="2781360"/>
            <a:ext cx="28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HTML изгледи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HtmlView:</a:t>
            </a:r>
            <a:r>
              <a:rPr b="0" lang="bg-BG" sz="1600" spc="-1" strike="noStrike">
                <a:solidFill>
                  <a:srgbClr val="b2b2b2"/>
                </a:solidFill>
                <a:latin typeface="Arial"/>
              </a:rPr>
              <a:t>обвивка на 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IWebBrouser2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181296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Tahoma"/>
              </a:rPr>
              <a:t>Невиртуални операции (готови методи) на класа</a:t>
            </a:r>
            <a:r>
              <a:rPr b="1" lang="bg-BG" sz="1600" spc="-1" strike="noStrike">
                <a:solidFill>
                  <a:srgbClr val="b2b2b2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Busy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оказва дали в момета е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ownlo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LocatinURL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извлич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URL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адресана текущата стран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oBack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oForward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fre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top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реустановява зареждане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vigate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о зададен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RL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адрес изобразява текуща стран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ето приме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N_COMMAND(ID_BACK, OnBack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 message map на CMy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N_COMMAND) ID_REFRESH, OnRefre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oid CMyView::OnBack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 GoBack(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еход към друга страница можете да направит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vigate( _T(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://www.microsoft.com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тънки клиенти”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oid CHtmlClockView::OnInitialUpdate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 ….Navigate(string);…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Дървовидни </a:t>
            </a: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и списъчни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изгледи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920" y="1486440"/>
            <a:ext cx="85327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ahoma"/>
              </a:rPr>
              <a:t>CTre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CTreeCtrl&amp; CTreeView::GetTreeCtrl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нтересни методи на клас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SetImageList(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свързва текста с карти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InsertItem(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  вмъкване,  корен, подред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б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 картинка и т.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DeleteItem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SetItemText(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SortChildren(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GetSelectedItem(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0920" y="3456360"/>
            <a:ext cx="8642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ahoma"/>
              </a:rPr>
              <a:t>CListView: 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получава функционалност от съответния контр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Създаване на изгледи, базирани на контроли (наследници на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CtrlView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*  да се декларира клас, наследник на напр.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CtrlView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, като в конструктора на базовия се подава името на създа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*  да се опише ф-ия (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TabCtrl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() или подобна) връщаща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 към обхващания контро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TabCtrl&amp; GetTabCtrl() const {return (CTabCtrl*) this;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да се предефинират поне 2 мето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MyView::PreCreateWindow(..)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//на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Wnd;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указва стил; инициализира библ. за общи контрол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::InitCommonControls()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::OnInitialUpdate(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//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начално изобраз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осле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tTabCtrl().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метод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_tab_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контрола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ъздаване на много документи  и много изгледи в прилo</a:t>
            </a:r>
            <a:r>
              <a:rPr b="0" lang="bg-BG" sz="3200" spc="-1" strike="noStrike">
                <a:solidFill>
                  <a:srgbClr val="b2b2b2"/>
                </a:solidFill>
                <a:latin typeface="Arial"/>
              </a:rPr>
              <a:t>жението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1609560"/>
            <a:ext cx="7201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DI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- разлики с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D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Много отворени докумен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Различни типове документи в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D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DI</a:t>
            </a: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 поддържа меню-опция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ow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Много менюта в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D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Много прозорци-рамки в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D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D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аследява главната рамка не от CFrameWnd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а от CMDIFrameW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аследява дъщерните рамки от CMDIChildW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а шаблони на документа се използва не CSingleDocTemplate  а CMultiDocTemplate с указан параметър в конструктора му (където се указваше прозорецът рамка) не главния, а класът на дъщерния проз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орец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– рам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DI имат поне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дв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ресурса за меню – когато няма отворен док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умен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и когато има поне 1 отворен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Превключване на менюта; изгледи, отворени документи… се поемат от генериран к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Различни типове документи в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MDI</a:t>
            </a:r>
            <a:r>
              <a:rPr b="0" lang="bg-BG" sz="2000" spc="-1" strike="noStrike">
                <a:solidFill>
                  <a:srgbClr val="b2b2b2"/>
                </a:solidFill>
                <a:latin typeface="Arial"/>
              </a:rPr>
              <a:t> приложени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280" y="1352160"/>
            <a:ext cx="87537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За да създадем прил. Обработващо 2 типа документи( при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ile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ew)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Създаваме нов клас за документ  и нов клас за изглед – например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PiramDoc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PiramView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.  Класовете да са динамично създавае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За новия тип създайте 4 нови ресурса – икона, меню, таблица с акселератори ( ако трябва) и документен низ.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сички те имат общ ID – напр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имер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IDR_PIRAMTYP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Ако е нужно се създава и собствена дъщерна рамка за новия тип д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одифицира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InitInstance()  за 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добавяне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овия документен шаблон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MultiDocTemplate* pDocTempla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DocTemplate = new CMultiDocTemplate( описаните по-долу 4 парам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ресурсен 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Указател към CRuntime class (RUNTIME_CLASS() ) </a:t>
            </a:r>
            <a:r>
              <a:rPr b="1" i="1" lang="bg-BG" sz="16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 докумен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Указател към CRuntime class  за </a:t>
            </a:r>
            <a:r>
              <a:rPr b="1" i="1" lang="bg-BG" sz="1600" spc="-1" strike="noStrike">
                <a:solidFill>
                  <a:srgbClr val="ffffcc"/>
                </a:solidFill>
                <a:latin typeface="Tahoma"/>
              </a:rPr>
              <a:t>рамката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Указател към CRuntime class </a:t>
            </a:r>
            <a:r>
              <a:rPr b="1" i="1" lang="bg-BG" sz="1600" spc="-1" strike="noStrike">
                <a:solidFill>
                  <a:srgbClr val="ffffcc"/>
                </a:solidFill>
                <a:latin typeface="Tahoma"/>
              </a:rPr>
              <a:t>за изгл</a:t>
            </a: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еда ( CPiramView</a:t>
            </a: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гистрирате новия шаблон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AddDocTemplate( pDocTempla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Ако имате повече документни типове – за всеки  в InitInstance() подобен код. CMultiDocTemplate има грижа да организира списъка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Това може да се направи и в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DI</a:t>
            </a: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, ако искате да работите с повете документни типове (но едва ли е нужн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Разцепени изображ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12680" y="1988640"/>
            <a:ext cx="617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Ето връзката между елментите на split изображението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476360" y="2492280"/>
            <a:ext cx="6571440" cy="2405160"/>
            <a:chOff x="1476360" y="2492280"/>
            <a:chExt cx="6571440" cy="2405160"/>
          </a:xfrm>
        </p:grpSpPr>
        <p:sp>
          <p:nvSpPr>
            <p:cNvPr id="503" name=""/>
            <p:cNvSpPr/>
            <p:nvPr/>
          </p:nvSpPr>
          <p:spPr>
            <a:xfrm>
              <a:off x="6585480" y="278136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MainFr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932360" y="2997360"/>
              <a:ext cx="158436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979640" y="2492280"/>
              <a:ext cx="2952720" cy="1943280"/>
              <a:chOff x="1979640" y="2492280"/>
              <a:chExt cx="2952720" cy="1943280"/>
            </a:xfrm>
          </p:grpSpPr>
          <p:sp>
            <p:nvSpPr>
              <p:cNvPr id="506" name=""/>
              <p:cNvSpPr/>
              <p:nvPr/>
            </p:nvSpPr>
            <p:spPr>
              <a:xfrm>
                <a:off x="1979640" y="2492280"/>
                <a:ext cx="2952720" cy="1943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9640" y="2781360"/>
                <a:ext cx="295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1440" y="2517840"/>
                <a:ext cx="22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ahoma"/>
                  </a:rPr>
                  <a:t>File</a:t>
                </a:r>
                <a:r>
                  <a:rPr b="1" lang="bg-BG" sz="1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ahoma"/>
                  </a:rPr>
                  <a:t>Edit View Window Hel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1720" y="2525040"/>
                <a:ext cx="215640" cy="213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292480" y="2995560"/>
              <a:ext cx="2208240" cy="131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46840" y="29955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File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476360" y="4005360"/>
              <a:ext cx="1506600" cy="876240"/>
              <a:chOff x="1476360" y="4005360"/>
              <a:chExt cx="1506600" cy="876240"/>
            </a:xfrm>
          </p:grpSpPr>
          <p:sp>
            <p:nvSpPr>
              <p:cNvPr id="513" name=""/>
              <p:cNvSpPr/>
              <p:nvPr/>
            </p:nvSpPr>
            <p:spPr>
              <a:xfrm>
                <a:off x="1476360" y="4005360"/>
                <a:ext cx="1506600" cy="8762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14480" y="4297320"/>
                <a:ext cx="388800" cy="29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2987640" y="4292640"/>
              <a:ext cx="1440000" cy="604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68360" y="3284640"/>
              <a:ext cx="223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11640" y="3028680"/>
              <a:ext cx="216000" cy="21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00720" y="4005360"/>
              <a:ext cx="136656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987640" y="3716280"/>
              <a:ext cx="1440000" cy="31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547640" y="3789360"/>
              <a:ext cx="863640" cy="1713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45640" y="453708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Vie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68360" y="3716280"/>
              <a:ext cx="223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63960" y="3933720"/>
              <a:ext cx="14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Tahoma"/>
                </a:rPr>
                <a:t>CChildFr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53320" y="4076640"/>
              <a:ext cx="152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ahoma"/>
                </a:rPr>
                <a:t>CSplitterW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ъздаване на прил</a:t>
            </a: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ожение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, поддържащо  динамични сплитери</a:t>
            </a: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b2b2b2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max 2 </a:t>
            </a:r>
            <a:r>
              <a:rPr b="0" lang="bg-BG" sz="1400" spc="-1" strike="noStrike">
                <a:solidFill>
                  <a:srgbClr val="b2b2b2"/>
                </a:solidFill>
                <a:latin typeface="Arial"/>
              </a:rPr>
              <a:t>части, указани при създаване; имат обща лента за скролиранае; по подразбиране се базират на общ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view, </a:t>
            </a:r>
            <a:r>
              <a:rPr b="0" lang="bg-BG" sz="1400" spc="-1" strike="noStrike">
                <a:solidFill>
                  <a:srgbClr val="b2b2b2"/>
                </a:solidFill>
                <a:latin typeface="Arial"/>
              </a:rPr>
              <a:t>но ако създадете наследник на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SplitterWnd</a:t>
            </a:r>
            <a:r>
              <a:rPr b="0" lang="bg-BG" sz="1400" spc="-1" strike="noStrike">
                <a:solidFill>
                  <a:srgbClr val="b2b2b2"/>
                </a:solidFill>
                <a:latin typeface="Arial"/>
              </a:rPr>
              <a:t> и предефинирате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::CreateView() – </a:t>
            </a:r>
            <a:r>
              <a:rPr b="0" lang="bg-BG" sz="1400" spc="-1" strike="noStrike">
                <a:solidFill>
                  <a:srgbClr val="b2b2b2"/>
                </a:solidFill>
                <a:latin typeface="Arial"/>
              </a:rPr>
              <a:t>то може и на различен)</a:t>
            </a: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50920" y="1971720"/>
            <a:ext cx="864216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клариране на нова пром.  към CChildFrame ( или CMainFrame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Tahoma"/>
              </a:rPr>
              <a:t>// Imple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riva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SplitterWnd   m_wndSplitt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. предефиниране на виртуалната OnCreateClient() на рамката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BOOL CChildFrame:: OnCreateClient( LPCREATESTRUCT lpcs, CCreateContext* pContext)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{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Size size (10, 10);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Return m_wndSplitter.Create(this,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2,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1,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size, 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Context);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араметър1: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одителя на прозореца със сплитери – прозорец- рам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араметър2</a:t>
            </a:r>
            <a:r>
              <a:rPr b="1" lang="bg-BG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аксималния брой панели на които може да се раздел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араметър4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акс. ширина и височина при които панелите се създав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Параметър5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тандартна структура, едно от полетата й е име на класа на изгледа, използван за панелите, *doc; *doc_templa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CSplitView::OnDraw(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SplitterWnd </a:t>
            </a: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има методи за придвижване на раздел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Може създаване вложени прозорци с дин. Сплитери , в прозорец-статич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Tahoma"/>
              </a:rPr>
              <a:t>Синхронизиране с промените в документа става както беше описа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ъздаване на прил</a:t>
            </a: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ожение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, поддържащо статично split изображение</a:t>
            </a:r>
            <a:r>
              <a:rPr b="0" lang="bg-BG" sz="2400" spc="-1" strike="noStrike">
                <a:solidFill>
                  <a:srgbClr val="b2b2b2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max 16 X 16</a:t>
            </a:r>
            <a:r>
              <a:rPr b="0" lang="bg-BG" sz="1400" spc="-1" strike="noStrike">
                <a:solidFill>
                  <a:srgbClr val="b2b2b2"/>
                </a:solidFill>
                <a:latin typeface="Arial"/>
              </a:rPr>
              <a:t>, създадени при начално изобразяване; променят се само размерите; базират се на разл. Изображения: пр.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Windows Explorer)</a:t>
            </a: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9280" y="1983960"/>
            <a:ext cx="8785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ff0066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Ако в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AppWizard 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укажете създаване не с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MFC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-базиран стил на прил., а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Windows Explorer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базирано, то се структурират 2 статични сплите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 класа на прозореца рамка (CMainFrame или CChildFrame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SplitterWnd m_wndSplitt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едефиниране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OOL CChildFrame::OnCreateClient(LPCREATESTRUCT lpc, CreateContext* pContex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f (m_wndSplitter.CreateStatic(this, 2, 1) == FALSE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{..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  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явно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,</a:t>
            </a:r>
            <a:r>
              <a:rPr b="1" lang="bg-BG" sz="1600" spc="-1" strike="noStrike">
                <a:solidFill>
                  <a:srgbClr val="ff0066"/>
                </a:solidFill>
                <a:latin typeface="Tahoma"/>
              </a:rPr>
              <a:t> динамично 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създаване  на изглед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за всеки статичен  панел от прозорец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OOL bCreated = m_wndSplitter.CreateView(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ред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_0,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кол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_0,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нач.координа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UNTIME_CLASS(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клас изглед)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за панеларазмери на панела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Created = m_wndsplitter.CreateView( 1, 0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,…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// коорд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инатите са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олу ляво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, указва се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и изглед за втория split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tActiveView((CView*) m_wndsplitter.GetPanel(0,0); //</a:t>
            </a:r>
            <a:r>
              <a:rPr b="1" lang="bg-BG" sz="1600" spc="-1" strike="noStrike">
                <a:solidFill>
                  <a:srgbClr val="ffffff"/>
                </a:solidFill>
                <a:latin typeface="Tahoma"/>
              </a:rPr>
              <a:t>активен пан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turn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92560" y="42372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ter Contr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6048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47840" y="835200"/>
            <a:ext cx="8445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'Splitter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'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Splitter1.Location = New System.Drawing.Point(0, 0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Splitter1.Name = "Splitter1"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Splitter1.Size = New System.Drawing.Size(3, 266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Splitter1.TabIndex = 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Splitter1.TabStop = Fals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'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'TreeView1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'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TreeView1.Dock = System.Windows.Forms.DockStyle.Lef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TreeView1.Location = New System.Drawing.Point(3, 0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TreeView1.Name = "TreeView1"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TreeView1.Nodes.AddRange(New System.Windows.Forms.TreeNod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New System.Windows.Forms.TreeNode("A", New System.Windows.Forms.TreeNode()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New System.Windows.Forms.TreeNode("Visual Basic"), New System.Windows.Forms.TreeNode("Visual C++"), New System.Windows.Forms.TreeNode("Delphi"), New System.Windows.Forms.TreeNode("Java")}), New System.Windows.Forms.TreeNode("B", New System.Windows.Forms.TreeNode() {New System.Windows.Forms.TreeNode("1"), New System.Windows.Forms.TreeNode("2"), New System.Windows.Forms.TreeNode("3"), New System.Windows.Forms.TreeNode("4")})}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TreeView1.Size = New System.Drawing.Size(101, 266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       Me.TreeView1.TabIndex = 1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en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1469880"/>
            <a:ext cx="73454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2951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olbo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284720" y="981000"/>
            <a:ext cx="2712960" cy="554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46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529080" cy="26607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30495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335400" cy="35290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2406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de – Open Dialo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484280"/>
            <a:ext cx="804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dlgResult = </a:t>
            </a:r>
            <a:r>
              <a:rPr b="0" sz="1800" spc="-1" strike="noStrike">
                <a:solidFill>
                  <a:srgbClr val="ffcc66"/>
                </a:solidFill>
                <a:latin typeface="Arial"/>
              </a:rPr>
              <a:t>dlgOpenFile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.ShowDialo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if (dlgResult == </a:t>
            </a:r>
            <a:r>
              <a:rPr b="0" sz="1800" spc="-1" strike="noStrike">
                <a:solidFill>
                  <a:srgbClr val="99ff33"/>
                </a:solidFill>
                <a:latin typeface="Arial"/>
              </a:rPr>
              <a:t>DialogResult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.Canc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m_strFileName = dlgOpenFile.File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StreamReader sr = new StreamReader(m_str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txtBody.Text = sr.ReadToE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sr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m_bModified 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catch (Exception er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sz="1800" spc="-1" strike="noStrike">
                <a:solidFill>
                  <a:srgbClr val="ffcc66"/>
                </a:solidFill>
                <a:latin typeface="Arial"/>
              </a:rPr>
              <a:t>MessageBox.Show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(err.Message, "Error", MessageBoxButtons.OK, </a:t>
            </a:r>
            <a:br>
              <a:rPr sz="1800"/>
            </a:br>
            <a:r>
              <a:rPr b="0" sz="1800" spc="-1" strike="noStrike">
                <a:solidFill>
                  <a:srgbClr val="ffffff"/>
                </a:solidFill>
                <a:latin typeface="Arial"/>
              </a:rPr>
              <a:t>MessageBoxIcon.Erro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0:05:43Z</dcterms:created>
  <dc:creator>fallen angel</dc:creator>
  <dc:description/>
  <dc:language>en-US</dc:language>
  <cp:lastModifiedBy>nade</cp:lastModifiedBy>
  <dcterms:modified xsi:type="dcterms:W3CDTF">2011-03-09T05:00:02Z</dcterms:modified>
  <cp:revision>9</cp:revision>
  <dc:subject/>
  <dc:title>Slide 1</dc:title>
</cp:coreProperties>
</file>