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CEF0-79F3-43AF-8913-93A21CF4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38C8-1FC4-42C8-A2B8-39E23D4B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1336-C759-4DD3-B1F5-5B624921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72A8-2B38-44DE-B5A1-F435A95AB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CF0-FB0A-4260-A98B-67408B179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9F54-91CF-4EF4-B314-2417A72D8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8FA5-ECAA-4218-95B9-CE8DB1B1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4E7C-DADD-4CC4-9FAD-6B3B04249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0185-3827-4FDC-85AE-488EEC6B4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731F-DEBA-47E4-AFAC-4FEC9172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6B57-DFA6-448A-ADAC-ECB0BC6B7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EA54-83F6-48F2-AE94-3FD2C01FF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C66-6DCE-4F6B-9F37-0B11B389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1350-38A2-4F0E-923B-5A032E79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479F-54D9-48D9-AB22-BFE80965B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7B9-FFEA-49C8-93A7-DBE79AF8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6AB-C387-4B4A-8DD0-54FD0534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9115-2DCD-44C7-AD0F-4708E038F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74A2-C8CD-4889-AAF4-906D9985D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2D46-63D7-4B56-9A47-087E86D57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158A-7C5E-49C0-AE71-02C238E9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B9C7-B697-457A-88C6-36ED6E8F8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1E5A-2C94-47B9-A624-FE0586AD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8345-2A58-4C20-BC4F-F309AC23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1F7-D57C-44CE-865A-3A0A4CBD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67E9-C26C-484B-8BB3-9B6F0FA1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580C-6676-4674-892B-7FD20231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5FF0-90B5-4E62-8118-E6B88DE29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C8F2-D4DA-4BCE-9191-53619744F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909F-D7D1-46B6-9A5F-916B3E39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3270-7B06-4033-B7B5-9D07CE59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325F-135B-47CF-BBB6-123838F8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5667-2AA4-45C2-9D83-49914B65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3DEF-246B-4C65-9FBD-864F823B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38D-3354-4654-B4E9-BCBCDAFF8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45B1-39FB-4774-8AAB-4C3464106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24E7-6055-4E75-A408-BDA4A3E1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EA43-8EF1-43EB-83A3-EED81ABFA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DF4D-42EA-42D4-A80F-41F8BD03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FE5A-4A03-4C13-8F23-326A167C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FAD1-CBEB-4C9A-84D6-D2EFE3B05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838D-7102-40C4-A70C-922F9ACA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06E2-9871-4C10-94F5-D710A8DF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FD4F-5CE1-4BC8-B09E-32E90B7B7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3C5-F15A-4DAD-A0C8-AFFFD81B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DEA-BB66-4011-B896-5F6ECC9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4A4-ACE7-4427-A911-0B0AF726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D91-6B66-4B99-A240-25E06CEF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DB8A-F610-4E37-833A-17219EA5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90A2-98D6-409F-A887-4050F8A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69CE-F248-4C58-8B15-2BB45F00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40B5-611D-4233-BB78-ECDD0B91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5FE0-B442-44D4-8307-BC2AA298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FD76-9A24-4DED-92C3-67F2A30C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AC7-7327-49A2-B9C5-4EEF4C3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59A-49A8-4F65-A07D-22335FE4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DC2-040C-4278-AFC0-651EBE7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3150-1C37-4C35-A3E4-20D2CB83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A80-2153-4628-AE3B-74E512F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4865-9092-430B-8B65-DBBE8E0A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D467-4661-431D-B4F4-16741E32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560-F1DA-4D09-BCFB-EEEFF6F1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A1D-1BF4-483F-AA8A-7684C78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0E2-0929-40A9-84BD-13019303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BBC-380A-4102-A773-A1100FBA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B8F-C925-45D5-B59B-6C2C578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96E-4B2B-46AF-BC16-0EF34C16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F59-AD20-462A-BF7B-7B93E48B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5AAF-1F35-4603-9FAE-039854B4C6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079-3CCC-41F7-A0CB-EB73D2CF10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ъдърж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во е Windows For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ни компоненти. Компонентен модел на 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ен модел на Windown Fo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и класове. Йерархия на класо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Contro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Други базови контр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 на пречертаване на контрол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, прозорци и диалози – класът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и контроли –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TextBo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Labe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Butto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авяне на контроли във форм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на събития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Windows Forms редакторът на VS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омпонентен модел на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понентният модел дефини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тандарти за разработката и използване на програмни компонен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жизнен цикъл на компонент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понентният модел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NET Frame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лага правила за създаване и използване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мпоненти (програмен моде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финира класове и интерфейси, които поддържат описанието на компонен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омпонентен модел на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14080" indent="-514080">
              <a:lnSpc>
                <a:spcPct val="85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Компонентният модел на 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34560" indent="-418680">
              <a:lnSpc>
                <a:spcPct val="85000"/>
              </a:lnSpc>
              <a:spcBef>
                <a:spcPts val="7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позволява дефиниране на поведението на компонентит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327680" indent="-39132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 време на дизайн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-tim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680" indent="-39132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 време на работ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time behavio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4560" indent="-418680">
              <a:lnSpc>
                <a:spcPct val="85000"/>
              </a:lnSpc>
              <a:spcBef>
                <a:spcPts val="7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осигурява лесна преизползваемост (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usabilit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4560" indent="-418680">
              <a:lnSpc>
                <a:spcPct val="85000"/>
              </a:lnSpc>
              <a:spcBef>
                <a:spcPts val="77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дефинира компоненти и контейнер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14080" indent="-514080">
              <a:lnSpc>
                <a:spcPct val="85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R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осигурява междуезикова съвместимост на компонентит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080" indent="-514080">
              <a:lnSpc>
                <a:spcPct val="85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Основната функционалност на компонентния модел се намира в </a:t>
            </a:r>
            <a:r>
              <a:rPr b="0" sz="3000" spc="-1" strike="noStrike">
                <a:solidFill>
                  <a:srgbClr val="ffffff"/>
                </a:solidFill>
                <a:latin typeface="Courier New"/>
              </a:rPr>
              <a:t>System.Component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200" spc="-1" strike="noStrike">
                <a:solidFill>
                  <a:srgbClr val="b2b2b2"/>
                </a:solidFill>
                <a:latin typeface="Arial"/>
              </a:rPr>
              <a:t>и комп. модел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83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 базиран на компонентния модел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83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понентният модел дефинира компоненти и контейн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83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ефинира контроли и контейнер-контр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83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нтролите са видими за потребителя компонен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71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нтейнер-контроли (форми, диалози, панели, ...) – съдържат други контр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71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нтроли (бутони, текстови полета, ...) – съдържат се в контейнер контрол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b2b2b2"/>
                </a:solidFill>
                <a:latin typeface="Arial"/>
              </a:rPr>
              <a:t>Програмен модел на </a:t>
            </a:r>
            <a:r>
              <a:rPr b="0" lang="en-US" sz="4200" spc="-1" strike="noStrike">
                <a:solidFill>
                  <a:srgbClr val="b2b2b2"/>
                </a:solidFill>
                <a:latin typeface="Arial"/>
              </a:rPr>
              <a:t>WinForms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грамният модел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Form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дефини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орми (прозорци и диалоз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нтроли (текстови полета, бутони, менюта, ленти с инструменти, 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бития, които ги управляв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жизнен цикъл на приложения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одел на пречертаване на контрол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управление на фокуса и навиг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Жизненият цикъл на приложенията е базиран на съоб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нтролите получават съобщения за потребителските действия и реагират по специфичен н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b2b2b2"/>
                </a:solidFill>
                <a:latin typeface="Arial"/>
              </a:rPr>
              <a:t>Програмен модел на </a:t>
            </a:r>
            <a:r>
              <a:rPr b="0" lang="en-US" sz="4200" spc="-1" strike="noStrike">
                <a:solidFill>
                  <a:srgbClr val="b2b2b2"/>
                </a:solidFill>
                <a:latin typeface="Arial"/>
              </a:rPr>
              <a:t>WinForms</a:t>
            </a:r>
            <a:endParaRPr b="0" lang="en-US" sz="4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2920" indent="-50292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Главната нишка на всяк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приложение работи так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040" indent="-40968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остоянно слуша за съобщ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040" indent="-409680">
              <a:lnSpc>
                <a:spcPct val="85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ри получаване на съобщение (напр. преместване на мишката, натискане на клавиш или др.) го обработва так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98520" indent="-38268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мира контролата, за която се отнася съобщение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8520" indent="-38268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ава й съобщение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8520" indent="-382680">
              <a:lnSpc>
                <a:spcPct val="85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ко контролата е контейнер-контрола, тя търси в себе си за коя от нейните контроли е съобщението и й го пред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040" indent="-409680">
              <a:lnSpc>
                <a:spcPct val="85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При затваряне на главната форма на приложението, то спира изпълнението с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Основни класов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88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иблиотека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ефини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вкупност от базови класове за контролите и контейнер-контрол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ножество графични контр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8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новни базови класов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mpone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мпон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графична контрола (компонента с графичен образ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Scrollable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контрола, която поддържа скролиране на съдържанието 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ourier New"/>
              </a:rPr>
              <a:t>Container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контрола, която съдържа други контроли и управлява поведението на фок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Йерархия на класове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-2011" t="-3082" r="-2011" b="-3082"/>
          <a:stretch/>
        </p:blipFill>
        <p:spPr>
          <a:xfrm>
            <a:off x="468360" y="1314360"/>
            <a:ext cx="8324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ът </a:t>
            </a:r>
            <a:r>
              <a:rPr b="0" lang="en-US" sz="4400" spc="-1" strike="noStrike">
                <a:solidFill>
                  <a:srgbClr val="b2b2b2"/>
                </a:solidFill>
                <a:latin typeface="Courier New"/>
              </a:rPr>
              <a:t>Contr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88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ystem.Windows.Forms.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основа на всички графични Windows Forms контр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8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еговите свойства са типични за всички Windows Forms контр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8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-важните свойства на класа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Ancho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ock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т по какъв начин контролата се "закотвя" за контейнера 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Bound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размера и позицията на контролата в нейния контей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BackColo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цвета на ф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8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ntextMenu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контекстно меню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p menu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за контро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ът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Contr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-важните свойства на клас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ntrol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ъдържа колекция от вложените контроли (ако и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anFocu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връща дали контролата може да получава фок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Enable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озволява забраняване на контролата (тя става видима, но неактив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o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шрифта (име, стил, разм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oreColor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цвета на контро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Location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ъдържа позицията на контрола в нейния контей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ar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ва контейнер-контролата, съдържаща текущата контр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ът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Contr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-важните свойства на клас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iz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ъдържа размерите на контро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TabInde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определя реда при навигация с клавиш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[TA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TabStop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дали контролата може да се фокусира при навигация с 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[TA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задава текст, свързан с контро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isi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ва видимост на контро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-важни методи на класа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cus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окусира контро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Hide(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how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крива/показва контро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ъдържани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Стандартни диалогови кут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Извикване на диалогови кут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Други Windows Forms контроли. Менюта. Ленти с инструменти. Статус лен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Диалог за избор на фай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MDI прилож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Валидация на дан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Свързване на данни (Data Binding). Навигация с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urrencyMana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Контролата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ataGr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Master-Details навигац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Наследяване на фор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ът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Contr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91400" indent="-491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-важните събития на класа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Control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lick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настъпва при щракване с мишката върху контр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Enter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Leav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настъпват при активиране и деактивиране на контр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KeyDown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KeyUp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настъпват при натискане и отпускане на клавиш (или комбинац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KeyPress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при натискане на нефункционален клави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ouseDown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ouseUp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ouseHover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ouseEnter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ouseLeav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ouseMov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ouseWheel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настъпват при събития от мишката, настъпили върху контр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ласът </a:t>
            </a:r>
            <a:r>
              <a:rPr b="0" lang="bg-BG" sz="4400" spc="-1" strike="noStrike">
                <a:solidFill>
                  <a:srgbClr val="b2b2b2"/>
                </a:solidFill>
                <a:latin typeface="Courier New"/>
              </a:rPr>
              <a:t>Contr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-важните събития на класа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Control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Mov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настъпва при преместване на контр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Pain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настъпва при пречертаване на контр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Resiz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настъпва при промяна на размера на контр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extChanged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настъпва при промяна на свойството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на контр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Validat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използва се за валидация на данните, въведени в контр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ечертаване на контроли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91400" indent="-491400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нтролите често се пречертав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ри преместване на прозоре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ри смяна на активния прозоре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ри промяна на размера или позицията на някоя контро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1400" indent="-491400">
              <a:lnSpc>
                <a:spcPct val="90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Пречертаването става на два етап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Invalidate(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подготвя за пречертаване дадената контрола или неин участък и изпраща съобщение "пречертай"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93520" indent="-400320">
              <a:lnSpc>
                <a:spcPct val="90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Paint(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обработва съобщението "пречертай", изпратено от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Invalidate()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и обновява графично указания участъ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300" spc="-1" strike="noStrike">
                <a:solidFill>
                  <a:srgbClr val="b2b2b2"/>
                </a:solidFill>
                <a:latin typeface="Arial"/>
              </a:rPr>
              <a:t>Други базови контроли</a:t>
            </a:r>
            <a:endParaRPr b="0" lang="en-US" sz="43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4000"/>
              </a:lnSpc>
              <a:spcBef>
                <a:spcPts val="81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crollable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бавя функционалност за скроли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AutoScroll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задава дали при нужда контролата ще получи автоматично скролиращи лен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HScroll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VScroll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задават дали контролата да има хоризонтална и вертикална скролираща л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Bef>
                <a:spcPts val="81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ontainer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сигурява функционалност за управление на фок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4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ActiveControl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съдържа контролата, която е на фо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орми, прозорци и диалоз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System.Windows.Forms.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3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ставлява форма (прозорец или диалогова кутия) в GUI приложения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3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 него могат да се добавят контр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сновни свойства на класа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36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FormBorderStyl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указва типа на рамката на фор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izabl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тандартна разширяема рам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xedDialog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диалог с фиксирани разме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Non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без рам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ixedToolWindow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кутия с инструменти с фиксиран раз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орми, прозорци и диалоз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новни свойства на клас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ntrol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списък с контролите разположени във форм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главие на прозоре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Siz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размери на прозоре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lientSiz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размер на вътрешността на формата (без рамката 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AcceptButton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бутон по подразб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ActiveContro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контролата, която държи фок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ControlBo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дали формата да има контроли за затваряне, минимизация и т. 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орми, прозорци и диалоз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новни свойства на класа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Icon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икона на прозоре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KeyPreview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ако се зададе true, позволява формата да обработва събитията от клавиатурата преди да ги предаде на фокусираната контр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MinimumSiz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MaximumSiz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ограничения за размера на форм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Moda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дали формата е модал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Opacity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задава прозрачност (0.00 – 1.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MdiChildren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ffffff"/>
                </a:solidFill>
                <a:latin typeface="Courier New"/>
              </a:rPr>
              <a:t>MdiPare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извлича/задава подчинените форми/собственика на текущата форма в MDI ре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орми, прозорци и диалоз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7160" indent="-497160">
              <a:lnSpc>
                <a:spcPct val="89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Основни свойства на класа </a:t>
            </a:r>
            <a:r>
              <a:rPr b="0" lang="bg-BG" sz="32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9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TopMos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дава дали формата стои над всички други прозорци (always on top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9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WindowStat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извлича състоянието на формата (нормална, минимизирана или максимизиран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89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Основни методи на класа </a:t>
            </a: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9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lose()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затваря формата (скрива я и освобождава използваните ресурс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9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how()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показва формата и я активи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9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ShowDialog()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показва формата в модален режим и връща като резултат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ialogResult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свойствот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Форми, прозорци и диалоз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7160" indent="-497160">
              <a:lnSpc>
                <a:spcPct val="85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Основни методи на класа </a:t>
            </a: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LayoutMdi(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)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пренарежда дъщерните (MDI) форми (каскадно, хоризонтално, вертикално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85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Основни събития на класа </a:t>
            </a:r>
            <a:r>
              <a:rPr b="0" lang="bg-BG" sz="30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Activated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Deactivate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извиква при активиране / деактивиране на формата (получаване / загуба на фокус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Closing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извиква се при затваряне на формата. Реализацията може да предизвиква отказване на затварянет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405000">
              <a:lnSpc>
                <a:spcPct val="85000"/>
              </a:lnSpc>
              <a:spcBef>
                <a:spcPts val="81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Courier New"/>
              </a:rPr>
              <a:t>Load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 – извиква се еднократно при първото показване на формата. Често се ползва за инициализиране на състояниет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b2b2b2"/>
                </a:solidFill>
                <a:latin typeface="Arial"/>
              </a:rPr>
              <a:t>Основни контроли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Courier New"/>
              </a:rPr>
              <a:t>TextBox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–           – поле за въвеждане на текст. По-важни свойств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Courier New"/>
              </a:rPr>
              <a:t>Multiline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– задава дали да се допуска въвеждане на няколко ре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in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съдържа въведения тек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             – изобразява текст във формата. Важни свойств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текстът, който се изобразя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Butt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бутон за натискане По-важни свойства и събит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lic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активира се при натиск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Tex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задава текста върху бут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609840" cy="29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990360" cy="316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050920" y="3141720"/>
            <a:ext cx="838440" cy="3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ъдържание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(3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ът </a:t>
            </a:r>
            <a:r>
              <a:rPr b="0" lang="ru-RU" sz="2600" spc="-1" strike="noStrike">
                <a:solidFill>
                  <a:srgbClr val="ffffff"/>
                </a:solidFill>
                <a:latin typeface="Courier New"/>
              </a:rPr>
              <a:t>System.Drawing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и GDI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чатане на принте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требителски контрол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Хостинг на контроли в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net Explor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шки и Windows Fo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лачене (Drag and Drop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нфигурационен файл на приложениет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оставяне на контро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7160" indent="-497160">
              <a:lnSpc>
                <a:spcPct val="89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ставянето на контроли във формата става чрез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Controls.Add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89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Редът на контролите (т. нар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z-order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се определя от реда на поставянето им (последната контрола е най-отгоре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lnSpc>
                <a:spcPct val="89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дизайнерът на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sual Studio .NET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се грижи за правилното поставяне на контролит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421000"/>
            <a:ext cx="6408720" cy="17388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= new Form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Button button = new Butt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button.Text = "Close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form.</a:t>
            </a: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Controls.Add(button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Управление на събития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74480" indent="-474480">
              <a:lnSpc>
                <a:spcPct val="85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Прихващането на събития става так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lnSpc>
                <a:spcPct val="85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4480" indent="-4744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дизайнерът на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sual Studio .NET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генерира автоматично обработчиците на събит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8480" y="1697040"/>
            <a:ext cx="7059600" cy="346248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m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= new Form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Button button = new Butt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button.</a:t>
            </a: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Click += new EventHandler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this.</a:t>
            </a:r>
            <a:r>
              <a:rPr b="1" sz="2000" spc="-1" strike="noStrike">
                <a:solidFill>
                  <a:srgbClr val="ffff00"/>
                </a:solidFill>
                <a:latin typeface="Courier New"/>
              </a:rPr>
              <a:t>button_Cli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private void button_Click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object sender, EventArgs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// Handle the "click"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Управление на събития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ипове събития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Forms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EventHandl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роста нот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ез допълнителн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KeyEventHandl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събития от клавиату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дава се кой е натиснатият клавиш и състоянието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Ctrl], [Shift]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[Alt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MouseEventHandl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събития от мишк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дава се позицията на мишката и състоянието на бутоните 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ancel</a:t>
            </a:r>
            <a:r>
              <a:rPr b="0" lang="bg-BG" sz="2400" spc="-1" strike="noStrike">
                <a:solidFill>
                  <a:srgbClr val="ffffff"/>
                </a:solidFill>
                <a:latin typeface="Courier New"/>
              </a:rPr>
              <a:t>EventHandler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събит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ито могат да откажат започнало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ст калкулатор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6800" y="1177920"/>
            <a:ext cx="8150400" cy="53780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System.Draw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using System.Windows.For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CalculatorForm :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TextBox TextBoxNumber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TextBox TextBoxNumber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TextBox TextBoxSu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Button ButtonCal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Label LabelPlu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Label LabelEqual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alculatorForm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1 = new TextBox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1.Bounds = new Rectangle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Point(16, 16), new Size(72, 20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1.MaxLength = 1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ст калкулатор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6800" y="1127160"/>
            <a:ext cx="8150400" cy="54072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abelPlus = new Label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abelPlus.AutoSize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abelPlus.Location = new Point(94, 19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abelPlus.Text = "+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2 = new TextBox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2.Bounds = new Rectangle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Point(112, 16), new Size(72, 20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2.MaxLength = 1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abelEquals = new Label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abelEquals.AutoSize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abelEquals.Location = new Point(191, 1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LabelEquals.Text = "=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Sum = new TextBox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Sum.Bounds = new Rectangle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Point(208, 16), new Size(72, 20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Sum.ReadOnly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ffff"/>
                </a:solidFill>
                <a:latin typeface="Arial"/>
              </a:rPr>
              <a:t>(примерът продължа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ст калкулатор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6800" y="1050840"/>
            <a:ext cx="8150400" cy="549936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Calc = new Butto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Calc.Bounds = new Rectangle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Point(16, 48), new Size(264, 23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Calc.Text = "Calculate sum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Calc.Click += new EventHandler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ButtonCalc_Click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AcceptButton = ButtonCal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ClientSize = new Size(298, 87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Controls.Add(TextBoxNumber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Controls.Add(LabelPlu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Controls.Add(TextBoxNumber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Controls.Add(LabelEqual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Controls.Add(TextBoxSum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Controls.Add(ButtonCal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FormBorderStyle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FormBorderStyle.FixedDialo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MaximizeBox 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MinimizeBox 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his.Text = "Calculato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(примерът продължав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ст калкулатор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6800" y="1101600"/>
            <a:ext cx="8150400" cy="543492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void ButtonCalc_Click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bject aSender, EventArgs a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value1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32.Parse(TextBoxNumber1.Tex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value2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32.Parse(TextBoxNumber2.Tex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sum = value1 + value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Sum.Text = sum.ToString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atch 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xcep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Sum.Text = "Invalid!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1.SelectAll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2.SelectAll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(примерът продължав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ст калкулатор – 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800" y="1050840"/>
            <a:ext cx="8150400" cy="267048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xtBoxNumber1.Focu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alculatorFor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lcForm = new CalculatorForm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pplication.Run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lcForm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73360" y="4164120"/>
            <a:ext cx="579420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рост калкула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96960" y="1830240"/>
            <a:ext cx="6521400" cy="4705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194000" y="4460760"/>
            <a:ext cx="4348440" cy="16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S.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едакторът 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NET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озволя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ъздаване на фо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обавяне на контр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обавяне на неграфични компонен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стройка на свойств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обавяне на съб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ъздаване на форм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01480" y="5380200"/>
            <a:ext cx="2438640" cy="1123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59160" y="5321160"/>
            <a:ext cx="1982880" cy="120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781600" y="4127400"/>
            <a:ext cx="2987640" cy="2389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2997360" y="594360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410080" y="5967000"/>
            <a:ext cx="32256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акво е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Form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38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Windows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иблиотека за изграждане на прозоречно-ориентиран графичен потребителски интерфейс (GU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държа концепцията за Rapid Application Development (R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мпонентно-ориентирана архите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75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управление, базирано на съб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лича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средствата на Delphi и Visual Basic 6, с мощта на MF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ъдържа богат набор от контр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Data-aware компонен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S.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Добавяне на контрол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Добавяне на неграфични компонент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2635200" cy="2114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2628720" cy="21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4046400" y="2806200"/>
            <a:ext cx="77976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042920" y="5086440"/>
            <a:ext cx="2664000" cy="1771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148360" y="5081760"/>
            <a:ext cx="2604960" cy="177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V="1">
            <a:off x="4024440" y="5564160"/>
            <a:ext cx="77940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Forms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S.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6160" y="1599840"/>
            <a:ext cx="3638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стройка на свойства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2057400" cy="32288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861080" y="1114560"/>
            <a:ext cx="3522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обавяне на обработчици на събит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92720" y="2565360"/>
            <a:ext cx="205740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979800" y="5905440"/>
            <a:ext cx="4695840" cy="657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296120" y="3319560"/>
            <a:ext cx="687240" cy="2528640"/>
          </a:xfrm>
          <a:custGeom>
            <a:avLst/>
            <a:gdLst/>
            <a:ahLst/>
            <a:rect l="l" t="t" r="r" b="b"/>
            <a:pathLst>
              <a:path w="433" h="1593">
                <a:moveTo>
                  <a:pt x="0" y="3"/>
                </a:moveTo>
                <a:lnTo>
                  <a:pt x="433" y="0"/>
                </a:lnTo>
                <a:lnTo>
                  <a:pt x="426" y="1593"/>
                </a:ln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ъздаване на прост калкулатор 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едактора 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38360" y="2701800"/>
            <a:ext cx="5310000" cy="3841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2760" y="3940200"/>
            <a:ext cx="259056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37320" y="4908600"/>
            <a:ext cx="295416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Стандартни диалогови кут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0" lang="bg-BG" sz="2800" spc="-1" strike="noStrike">
                <a:solidFill>
                  <a:srgbClr val="ffffff"/>
                </a:solidFill>
                <a:latin typeface="Courier New"/>
              </a:rPr>
              <a:t>MessageBox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позволява извеждане на стандартни диалогови кут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ъобщения към потреб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ъпросителни диало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е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00" y="3516480"/>
            <a:ext cx="4935600" cy="8114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MessageBox.Show("Няма връзка с Интернет.", "Предупреждение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27800" y="3166920"/>
            <a:ext cx="2050920" cy="1263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V="1">
            <a:off x="5564160" y="3816000"/>
            <a:ext cx="711360" cy="136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6280" y="4635360"/>
            <a:ext cx="4935600" cy="212184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bool confirmed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MessageBox.Show("Наистина ли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ще изтриете това?"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"Въпрос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MessageBoxButtons.YesN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MessageBoxIcon.Question) =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DialogResult.Y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502240" y="5621400"/>
            <a:ext cx="72396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294600" y="5024520"/>
            <a:ext cx="245736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Какво е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Form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Windows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зволява наследяване и разширяване на форми и контр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държа ActiveX контр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държа печатане на прин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нтролите могат да се изпълняват в Internet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добно на Java аплет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ез предварителна регистрация (за разлика от ActiveX контролит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илна поддръжка на графика (GDI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indows Forms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 –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6800" y="1127160"/>
            <a:ext cx="8150400" cy="5688000"/>
          </a:xfrm>
          <a:prstGeom prst="rect">
            <a:avLst/>
          </a:prstGeom>
          <a:solidFill>
            <a:srgbClr val="000000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SampleForm : System.Windows.Forms.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ampleForm sampleForm = new SampleForm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ampleForm.Text = "Sample Form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 button = new Butto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.Text = "Close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.Click +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EventHandler(sampleForm.button_Click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ampleForm.Controls.Add(butto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ampleForm.ShowDialog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void button_Click(object sender, EventArgs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los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Демонстрация #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Forms 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при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280" y="2146320"/>
            <a:ext cx="6135480" cy="442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13280" y="32115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b2b2b2"/>
                </a:solidFill>
                <a:latin typeface="Arial"/>
              </a:rPr>
              <a:t>Пакетите от Windows Form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960" y="4311720"/>
            <a:ext cx="7620120" cy="198108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lin ang="5400000"/>
          </a:gra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System.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908600"/>
            <a:ext cx="3276720" cy="457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Drawing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518080"/>
            <a:ext cx="3276720" cy="457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Im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08600"/>
            <a:ext cx="3276360" cy="457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Pr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518080"/>
            <a:ext cx="3276360" cy="457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960" y="1467000"/>
            <a:ext cx="7620120" cy="251460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lin ang="5400000"/>
          </a:gra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System.Windows.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013120"/>
            <a:ext cx="327672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013120"/>
            <a:ext cx="327636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Component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81320" y="4556160"/>
            <a:ext cx="4668840" cy="1982880"/>
          </a:xfrm>
          <a:prstGeom prst="wedgeRoundRectCallout">
            <a:avLst>
              <a:gd name="adj1" fmla="val -59453"/>
              <a:gd name="adj2" fmla="val -46236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сигурява достъп д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DI+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функциите 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–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абота с точки, линии, геометрични фигури, изобразяване на картинки, текст, шрифтове, печатане на принтер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9400" y="2509920"/>
            <a:ext cx="4924440" cy="1727280"/>
          </a:xfrm>
          <a:prstGeom prst="wedgeRoundRectCallout">
            <a:avLst>
              <a:gd name="adj1" fmla="val 6319"/>
              <a:gd name="adj2" fmla="val -85476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сигурява средства за работа с прозорци, диалози, контроли за въвеждане на текст, за избор, менюта, ленти с инструменти, таблици, дървета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b2b2b2"/>
                </a:solidFill>
                <a:latin typeface="Arial"/>
              </a:rPr>
              <a:t>Програмни компонен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понен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ограмни единици (класове), които решават специфична зад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използваеми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s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мат ясно дефиниран интерфейс, който описва техни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в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ето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б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ползват се като част от други компоненти или прогр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6:05:48Z</dcterms:created>
  <dc:creator>fallen angel</dc:creator>
  <dc:description/>
  <dc:language>en-US</dc:language>
  <cp:lastModifiedBy>nade</cp:lastModifiedBy>
  <dcterms:modified xsi:type="dcterms:W3CDTF">2011-03-09T04:54:55Z</dcterms:modified>
  <cp:revision>3</cp:revision>
  <dc:subject/>
  <dc:title>Съдържание</dc:title>
</cp:coreProperties>
</file>