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gunshot.wav" ContentType="audio/x-wav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0FFF0-FCDE-430C-9FE8-DD28C8D3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540DA-BA21-4B12-9F51-AE840754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C2269-386B-411B-ACF0-10161A78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FFD73-A924-457D-8FDE-E8E7A252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5C56-F370-42F4-8C73-9F7713D2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3F1A-5A35-4B92-B96E-AB43694C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FF8B-F3B2-48FB-8855-4397A459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6232-82D5-4205-B4BF-9057897C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9760-833F-465E-B470-9E90A330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996E-329B-4D9A-899D-AD2A60E2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FB25-7B85-4030-B3D9-B33D160F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FA26D-6FA6-421D-8793-F1EC594B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7BFC-8636-4F14-B6CE-385EAF84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3F5B-4E8F-4607-8AE6-89E6BFA2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6A96-10E2-4AD4-AB59-8D53B5E1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E59D-0A0E-493C-8490-EB93D918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E5C1-F285-418B-B9A8-1BE57648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D3D9D-625B-4CAF-B0DD-DC4F3F12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F34EF-E2EF-4229-AA0F-4B0327F0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75966-C746-4CCC-B220-55D24EF7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A7F89-0FEA-4BE4-A1A8-7D861F1C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22857-2E92-48C6-B452-435371FB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2403D-DDE6-4279-BE48-B81444A4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BCCC6-3329-4CB7-91BD-ECE63D64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6BFE-6FAE-41EC-9DF8-AF464D7ECC5D}" type="slidenum">
              <a:rPr b="0" lang="en-US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A63E-232B-4500-B5E8-A99F82F72983}" type="slidenum">
              <a:rPr b="0" lang="en-US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Езикови средства за създаване на устойчив код</a:t>
            </a:r>
            <a:endParaRPr b="1" lang="en-US" sz="36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549000" y="155736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1. </a:t>
            </a:r>
            <a:r>
              <a:rPr b="1" lang="bg-BG" sz="1800" spc="-1" strike="noStrike">
                <a:solidFill>
                  <a:srgbClr val="4b2500"/>
                </a:solidFill>
                <a:latin typeface="Garamond"/>
              </a:rPr>
              <a:t>Въведение в </a:t>
            </a: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SEH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3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1989000"/>
            <a:ext cx="7416720" cy="2040840"/>
          </a:xfrm>
          <a:prstGeom prst="rect">
            <a:avLst/>
          </a:prstGeom>
          <a:noFill/>
          <a:ln w="9360">
            <a:solidFill>
              <a:srgbClr val="a69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int ConcStr( TCHAR* pszDest, TCHAR* pszSrc, int cDest )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{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TCHAR* pResult = NULL;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if( pszDest &amp;&amp;  pszSrc )</a:t>
            </a:r>
            <a:r>
              <a:rPr b="1" lang="bg-BG" sz="1600" spc="-1" strike="noStrike">
                <a:solidFill>
                  <a:srgbClr val="4b2500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{ int nDest = lstrlen( pszDest);</a:t>
            </a:r>
            <a:r>
              <a:rPr b="1" lang="bg-BG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int nSrc = lstrlen( pszSrc);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if(( nDest + nSrc) &lt; cDest )</a:t>
            </a:r>
            <a:r>
              <a:rPr b="1" lang="bg-BG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bg-BG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pResult = lstrcat( pszDest, pszSrc );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}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if ( pResult )</a:t>
            </a:r>
            <a:r>
              <a:rPr b="1" lang="bg-BG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bg-BG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return lstrlen (pResult) );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else</a:t>
            </a:r>
            <a:r>
              <a:rPr b="1" lang="bg-BG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bg-BG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return 0;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}</a:t>
            </a:r>
            <a:r>
              <a:rPr b="0" lang="en-US" sz="16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80" y="422028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Ето същия пример в по-доб</a:t>
            </a:r>
            <a:r>
              <a:rPr b="1" lang="bg-BG" sz="1800" spc="-1" strike="noStrike">
                <a:solidFill>
                  <a:srgbClr val="4b2500"/>
                </a:solidFill>
                <a:latin typeface="Garamond"/>
              </a:rPr>
              <a:t>р</a:t>
            </a: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а структура:</a:t>
            </a: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4653000"/>
            <a:ext cx="7416720" cy="2014200"/>
          </a:xfrm>
          <a:prstGeom prst="rect">
            <a:avLst/>
          </a:prstGeom>
          <a:noFill/>
          <a:ln w="9360">
            <a:solidFill>
              <a:srgbClr val="a69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int ConcStr( TCHAR* pszDest, TCHAR* pszSrc, int cDest )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{</a:t>
            </a: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__try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{</a:t>
            </a: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TCHAR* pResult =  lstrcat ( pszDest, pszSrc );return lstrlen( pResult );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}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__except( EXCEPTION_EXECUTE_HANDLER )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{</a:t>
            </a:r>
            <a:r>
              <a:rPr b="1" lang="bg-BG" sz="1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return 0;</a:t>
            </a: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}}</a:t>
            </a: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1" name="gunsho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260280"/>
            <a:ext cx="2016000" cy="360360"/>
          </a:xfrm>
          <a:prstGeom prst="rect">
            <a:avLst/>
          </a:prstGeom>
          <a:solidFill>
            <a:srgbClr val="ffffe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7920" y="270000"/>
            <a:ext cx="2388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Stack unwinding</a:t>
            </a: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1268280"/>
            <a:ext cx="87138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void function3()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throw ( runtime_error )</a:t>
            </a:r>
            <a:r>
              <a:rPr b="1" sz="1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Garamond"/>
              </a:rPr>
              <a:t>//</a:t>
            </a:r>
            <a:r>
              <a:rPr b="1" lang="bg-BG" sz="1400" spc="-1" strike="noStrike">
                <a:solidFill>
                  <a:srgbClr val="4b2500"/>
                </a:solidFill>
                <a:latin typeface="Garamond"/>
              </a:rPr>
              <a:t>explicitly specify a function could throw exceptions. Exception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             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//</a:t>
            </a:r>
            <a:r>
              <a:rPr b="1" lang="bg-BG" sz="1400" spc="-1" strike="noStrike">
                <a:solidFill>
                  <a:srgbClr val="4b2500"/>
                </a:solidFill>
                <a:latin typeface="Garamond"/>
              </a:rPr>
              <a:t> specifications are used in function declarations to indicate that a function could throw an exception. 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{   cout &lt;&lt; "In function 3" &lt;&lt; endl;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// no try block, stack unwinding occurs, return control to function2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throw runtime_error( "runtime_error in function3" );</a:t>
            </a: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}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// no print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void function2() </a:t>
            </a: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throw ( runtime_error )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{   cout &lt;&lt; "function3 is called inside function2" &lt;&lt; endl;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function3();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}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// stack unwinding occurs, return control to function1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void function1() </a:t>
            </a: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throw ( runtime_error )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{   cout &lt;&lt; "function2 is called inside function1" &lt;&lt; endl;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function2();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}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// stack unwinding occurs, return control to mai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n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// demonstrate stack unwinding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int main()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{   try 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{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   cout &lt;&lt; "function1 is called inside main" &lt;&lt; endl;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function1();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}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// call function1 which throws runtime_error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  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catch ( runtime_error &amp;error ) // handle runtime error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{      cout &lt;&lt; "Exception occurred: " &lt;&lt; </a:t>
            </a: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error.what()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&lt;&lt; endl;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 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  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cout &lt;&lt; "Exception handled in main" &lt;&lt; endl;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}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} // end main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19640" y="5064120"/>
            <a:ext cx="3924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	</a:t>
            </a: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Output: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10bc5"/>
                </a:solidFill>
                <a:latin typeface="Garamond"/>
              </a:rPr>
              <a:t>Function1 is called inside main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10bc5"/>
                </a:solidFill>
                <a:latin typeface="Garamond"/>
              </a:rPr>
              <a:t>Function2 is called inside function1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10bc5"/>
                </a:solidFill>
                <a:latin typeface="Garamond"/>
              </a:rPr>
              <a:t>Function3 is called inside function2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10bc5"/>
                </a:solidFill>
                <a:latin typeface="Garamond"/>
              </a:rPr>
              <a:t>In function3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10bc5"/>
                </a:solidFill>
                <a:latin typeface="Garamond"/>
              </a:rPr>
              <a:t>Exception occurred: runtime_error in function3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10bc5"/>
                </a:solidFill>
                <a:latin typeface="Garamond"/>
              </a:rPr>
              <a:t>Exception handled in main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464400" y="650880"/>
            <a:ext cx="978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2500"/>
                </a:solidFill>
                <a:latin typeface="Garamond"/>
              </a:rPr>
              <a:t>- An exception is thrown, but not caught in the scope. An attempt is made to catch the exception in the next outer try…catch.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2500"/>
                </a:solidFill>
                <a:latin typeface="Garamond"/>
              </a:rPr>
              <a:t>- The first function terminates, all local variables are destroyed 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1" name="gunshot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-249480" y="341280"/>
            <a:ext cx="965412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0bc5"/>
                </a:solidFill>
                <a:latin typeface="Garamond"/>
              </a:rPr>
              <a:t>Processing ‘new’ failures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The C++ standard specify when ‘new’ fails </a:t>
            </a:r>
            <a:r>
              <a:rPr b="1" lang="en-US" sz="1400" spc="-1" strike="noStrike">
                <a:solidFill>
                  <a:srgbClr val="4b25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bad_alloc exception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(defined in header &lt;new&gt;)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In old version of C++ </a:t>
            </a: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operator new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returned 0 when failed. The C++ standard specifies that compilers can 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continue to return 0 upon failure. For this purpose , header &lt;new&gt; defines </a:t>
            </a: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nothrow object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, which can be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used as follows: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en-US" sz="1600" spc="-1" strike="noStrike">
                <a:solidFill>
                  <a:srgbClr val="210bc5"/>
                </a:solidFill>
                <a:latin typeface="Garamond"/>
              </a:rPr>
              <a:t>double *ptr = new(nothrow) double[5000000];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233280" y="2133720"/>
            <a:ext cx="718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0bc5"/>
                </a:solidFill>
                <a:latin typeface="Garamond"/>
              </a:rPr>
              <a:t>Handling new failures using function set_new_handler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2511360"/>
            <a:ext cx="87854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// Demonstrating set_new_handler.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#include &lt;iostream&gt;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#include &lt;new&gt; // set_new_handler function prototype</a:t>
            </a: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 is there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#include &lt;cstdlib&gt; // abort function prototype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using namespace std;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void customNewHandler()                  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{      cerr &lt;&lt; "customNewHandler was called";   abort();  } // end function customNewHandler       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int main()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{   double *ptr[ 50 ];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// specify that customNewHandler should be called on  memory allocation failure                         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set_new_handler( customNewHandler );   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// aim each ptr[i] at a big block of memory; customNewHandler will be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called on failed memory allocation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for ( int i = 0; i &lt; 50; i++ )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{   ptr[ i ] = new double[ 50000000 ]; // may throw exception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cout &lt;&lt; "ptr[" &lt;&lt; i &lt;&lt; "] points to 50,000,000 new doubles\n";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} // end for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}  // end main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1" name="gunshot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690840" y="532080"/>
            <a:ext cx="103672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210bc5"/>
                </a:solidFill>
                <a:latin typeface="Garamond"/>
              </a:rPr>
              <a:t>Съвместяване двата механизма – </a:t>
            </a:r>
            <a:r>
              <a:rPr b="1" lang="en-US" sz="2000" spc="-1" strike="noStrike">
                <a:solidFill>
                  <a:srgbClr val="210bc5"/>
                </a:solidFill>
                <a:latin typeface="Garamond"/>
              </a:rPr>
              <a:t>Win</a:t>
            </a:r>
            <a:r>
              <a:rPr b="1" lang="bg-BG" sz="2000" spc="-1" strike="noStrike">
                <a:solidFill>
                  <a:srgbClr val="210bc5"/>
                </a:solidFill>
                <a:latin typeface="Garamond"/>
              </a:rPr>
              <a:t>32 </a:t>
            </a:r>
            <a:r>
              <a:rPr b="1" lang="en-US" sz="2000" spc="-1" strike="noStrike">
                <a:solidFill>
                  <a:srgbClr val="210bc5"/>
                </a:solidFill>
                <a:latin typeface="Garamond"/>
              </a:rPr>
              <a:t>SEH </a:t>
            </a:r>
            <a:r>
              <a:rPr b="1" lang="bg-BG" sz="2000" spc="-1" strike="noStrike">
                <a:solidFill>
                  <a:srgbClr val="210bc5"/>
                </a:solidFill>
                <a:latin typeface="Garamond"/>
              </a:rPr>
              <a:t> и </a:t>
            </a:r>
            <a:r>
              <a:rPr b="1" lang="en-US" sz="2000" spc="-1" strike="noStrike">
                <a:solidFill>
                  <a:srgbClr val="210bc5"/>
                </a:solidFill>
                <a:latin typeface="Garamond"/>
              </a:rPr>
              <a:t>C</a:t>
            </a:r>
            <a:r>
              <a:rPr b="1" lang="bg-BG" sz="2000" spc="-1" strike="noStrike">
                <a:solidFill>
                  <a:srgbClr val="210bc5"/>
                </a:solidFill>
                <a:latin typeface="Garamond"/>
              </a:rPr>
              <a:t>++ </a:t>
            </a:r>
            <a:r>
              <a:rPr b="1" lang="en-US" sz="2000" spc="-1" strike="noStrike">
                <a:solidFill>
                  <a:srgbClr val="210bc5"/>
                </a:solidFill>
                <a:latin typeface="Garamond"/>
              </a:rPr>
              <a:t>Exception</a:t>
            </a:r>
            <a:r>
              <a:rPr b="1" lang="bg-BG" sz="2000" spc="-1" strike="noStrike">
                <a:solidFill>
                  <a:srgbClr val="210bc5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210bc5"/>
                </a:solidFill>
                <a:latin typeface="Garamond"/>
              </a:rPr>
              <a:t>handling</a:t>
            </a: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b25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4b2500"/>
                </a:solidFill>
                <a:latin typeface="Garamond"/>
              </a:rPr>
              <a:t>При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SEH</a:t>
            </a:r>
            <a:r>
              <a:rPr b="1" lang="bg-BG" sz="1400" spc="-1" strike="noStrike">
                <a:solidFill>
                  <a:srgbClr val="4b2500"/>
                </a:solidFill>
                <a:latin typeface="Garamond"/>
              </a:rPr>
              <a:t> може да пропуснем деструкция на обект;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b25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4b2500"/>
                </a:solidFill>
                <a:latin typeface="Garamond"/>
              </a:rPr>
              <a:t>В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SEH</a:t>
            </a:r>
            <a:r>
              <a:rPr b="1" lang="bg-BG" sz="1400" spc="-1" strike="noStrike">
                <a:solidFill>
                  <a:srgbClr val="4b2500"/>
                </a:solidFill>
                <a:latin typeface="Garamond"/>
              </a:rPr>
              <a:t> ако не прихванем точните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exceptions</a:t>
            </a:r>
            <a:r>
              <a:rPr b="1" lang="bg-BG" sz="1400" spc="-1" strike="noStrike">
                <a:solidFill>
                  <a:srgbClr val="4b2500"/>
                </a:solidFill>
                <a:latin typeface="Garamond"/>
              </a:rPr>
              <a:t>, може да пропуснем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bg-BG" sz="1400" spc="-1" strike="noStrike">
                <a:solidFill>
                  <a:srgbClr val="4b2500"/>
                </a:solidFill>
                <a:latin typeface="Garamond"/>
              </a:rPr>
              <a:t>събитие;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b25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4b2500"/>
                </a:solidFill>
                <a:latin typeface="Garamond"/>
              </a:rPr>
              <a:t>Повечето С++ библиотечни ф-ии хвърлят  С++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exceptions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199520"/>
            <a:ext cx="766116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d0e3f"/>
                </a:solidFill>
                <a:latin typeface="Garamond"/>
              </a:rPr>
              <a:t>class CWin32Except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d0e3f"/>
                </a:solidFill>
                <a:latin typeface="Garamond"/>
              </a:rPr>
              <a:t>{</a:t>
            </a:r>
            <a:r>
              <a:rPr b="1" i="1" lang="en-US" sz="1600" spc="-1" strike="noStrike">
                <a:solidFill>
                  <a:srgbClr val="0d0e3f"/>
                </a:solidFill>
                <a:latin typeface="Garamond"/>
              </a:rPr>
              <a:t>	</a:t>
            </a:r>
            <a:r>
              <a:rPr b="1" i="1" lang="en-US" sz="1600" spc="-1" strike="noStrike">
                <a:solidFill>
                  <a:srgbClr val="0d0e3f"/>
                </a:solidFill>
                <a:latin typeface="Garamond"/>
              </a:rPr>
              <a:t>unsigned int m_nCode;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d0e3f"/>
                </a:solidFill>
                <a:latin typeface="Garamond"/>
              </a:rPr>
              <a:t>public: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d0e3f"/>
                </a:solidFill>
                <a:latin typeface="Garamond"/>
              </a:rPr>
              <a:t>	</a:t>
            </a:r>
            <a:r>
              <a:rPr b="1" i="1" lang="en-US" sz="1600" spc="-1" strike="noStrike">
                <a:solidFill>
                  <a:srgbClr val="0d0e3f"/>
                </a:solidFill>
                <a:latin typeface="Garamond"/>
              </a:rPr>
              <a:t>CWin32Except( unsigned int nCode ) : m_nCode(nCode)</a:t>
            </a:r>
            <a:r>
              <a:rPr b="1" i="1" lang="en-US" sz="1600" spc="-1" strike="noStrike">
                <a:solidFill>
                  <a:srgbClr val="0d0e3f"/>
                </a:solidFill>
                <a:latin typeface="Garamond"/>
              </a:rPr>
              <a:t>	</a:t>
            </a:r>
            <a:r>
              <a:rPr b="1" i="1" lang="en-US" sz="1600" spc="-1" strike="noStrike">
                <a:solidFill>
                  <a:srgbClr val="0d0e3f"/>
                </a:solidFill>
                <a:latin typeface="Garamond"/>
              </a:rPr>
              <a:t>{};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d0e3f"/>
                </a:solidFill>
                <a:latin typeface="Garamond"/>
              </a:rPr>
              <a:t>	</a:t>
            </a:r>
            <a:r>
              <a:rPr b="1" i="1" lang="en-US" sz="1600" spc="-1" strike="noStrike">
                <a:solidFill>
                  <a:srgbClr val="0d0e3f"/>
                </a:solidFill>
                <a:latin typeface="Garamond"/>
              </a:rPr>
              <a:t>unsigned int </a:t>
            </a:r>
            <a:r>
              <a:rPr b="1" i="1" lang="bg-BG" sz="1600" spc="-1" strike="noStrike">
                <a:solidFill>
                  <a:srgbClr val="0d0e3f"/>
                </a:solidFill>
                <a:latin typeface="Garamond"/>
              </a:rPr>
              <a:t>C</a:t>
            </a:r>
            <a:r>
              <a:rPr b="1" i="1" lang="en-US" sz="1600" spc="-1" strike="noStrike">
                <a:solidFill>
                  <a:srgbClr val="0d0e3f"/>
                </a:solidFill>
                <a:latin typeface="Garamond"/>
              </a:rPr>
              <a:t>ode() const {return m_nCode;};</a:t>
            </a:r>
            <a:r>
              <a:rPr b="1" i="1" lang="bg-BG" sz="1600" spc="-1" strike="noStrike">
                <a:solidFill>
                  <a:srgbClr val="0d0e3f"/>
                </a:solidFill>
                <a:latin typeface="Garamond"/>
              </a:rPr>
              <a:t>	</a:t>
            </a:r>
            <a:r>
              <a:rPr b="1" i="1" lang="bg-BG" sz="1600" spc="-1" strike="noStrike">
                <a:solidFill>
                  <a:srgbClr val="0d0e3f"/>
                </a:solidFill>
                <a:latin typeface="Garamond"/>
              </a:rPr>
              <a:t>	</a:t>
            </a:r>
            <a:r>
              <a:rPr b="1" i="1" lang="bg-BG" sz="1600" spc="-1" strike="noStrike">
                <a:solidFill>
                  <a:srgbClr val="0d0e3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d0e3f"/>
                </a:solidFill>
                <a:latin typeface="Garamond"/>
              </a:rPr>
              <a:t>}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използване: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0bc5"/>
                </a:solidFill>
                <a:latin typeface="Garamond"/>
              </a:rPr>
              <a:t>void SEH_MyFunc( unsigned int nCode, EXCEPTION_POINTERS* pExp )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0bc5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210bc5"/>
                </a:solidFill>
                <a:latin typeface="Garamond"/>
              </a:rPr>
              <a:t>{</a:t>
            </a:r>
            <a:r>
              <a:rPr b="1" lang="en-US" sz="1600" spc="-1" strike="noStrike">
                <a:solidFill>
                  <a:srgbClr val="210bc5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210bc5"/>
                </a:solidFill>
                <a:latin typeface="Garamond"/>
              </a:rPr>
              <a:t>throw CWin32Except( nCode );</a:t>
            </a:r>
            <a:r>
              <a:rPr b="1" lang="en-US" sz="1600" spc="-1" strike="noStrike">
                <a:solidFill>
                  <a:srgbClr val="210bc5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210bc5"/>
                </a:solidFill>
                <a:latin typeface="Garamond"/>
              </a:rPr>
              <a:t>}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b2500"/>
                </a:solidFill>
                <a:latin typeface="Garamond"/>
              </a:rPr>
              <a:t>void DoAccessViolation()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en-US" sz="1600" spc="-1" strike="noStrike">
                <a:solidFill>
                  <a:srgbClr val="4b2500"/>
                </a:solidFill>
                <a:latin typeface="Garamond"/>
              </a:rPr>
              <a:t>{</a:t>
            </a:r>
            <a:r>
              <a:rPr b="1" i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en-US" sz="1600" spc="-1" strike="noStrike">
                <a:solidFill>
                  <a:srgbClr val="4b2500"/>
                </a:solidFill>
                <a:latin typeface="Garamond"/>
              </a:rPr>
              <a:t>int* p =0;</a:t>
            </a:r>
            <a:r>
              <a:rPr b="1" i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en-US" sz="1600" spc="-1" strike="noStrike">
                <a:solidFill>
                  <a:srgbClr val="4b2500"/>
                </a:solidFill>
                <a:latin typeface="Garamond"/>
              </a:rPr>
              <a:t>*p = 32;</a:t>
            </a:r>
            <a:r>
              <a:rPr b="1" i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en-US" sz="1600" spc="-1" strike="noStrike">
                <a:solidFill>
                  <a:srgbClr val="4b2500"/>
                </a:solidFill>
                <a:latin typeface="Garamond"/>
              </a:rPr>
              <a:t>}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void main(void)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{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en-US" sz="1600" spc="-1" strike="noStrike">
                <a:solidFill>
                  <a:srgbClr val="4b2500"/>
                </a:solidFill>
                <a:latin typeface="Garamond"/>
              </a:rPr>
              <a:t>_se_translator_function   fn_old;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en-US" sz="1600" spc="-1" strike="noStrike">
                <a:solidFill>
                  <a:srgbClr val="4b2500"/>
                </a:solidFill>
                <a:latin typeface="Garamond"/>
              </a:rPr>
              <a:t>fn_old =  _set_se_translator( SEH_MyFunc );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try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{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DoAccessViolation();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}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catch( CWin32Except&amp; e )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{ cout &lt;&lt; “ изкл</a:t>
            </a:r>
            <a:r>
              <a:rPr b="1" lang="bg-BG" sz="1600" spc="-1" strike="noStrike">
                <a:solidFill>
                  <a:srgbClr val="4b2500"/>
                </a:solidFill>
                <a:latin typeface="Garamond"/>
              </a:rPr>
              <a:t>ючение 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с CWin32Except</a:t>
            </a:r>
            <a:r>
              <a:rPr b="1" lang="bg-BG" sz="1600" spc="-1" strike="noStrike">
                <a:solidFill>
                  <a:srgbClr val="4b2500"/>
                </a:solidFill>
                <a:latin typeface="Garamond"/>
              </a:rPr>
              <a:t> обект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 ” &lt;&lt; endl;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cout &lt;&lt; “Exception is “ &lt;&lt; e.Code() &lt;&lt; endl;}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b2500"/>
                </a:solidFill>
                <a:latin typeface="Garamond"/>
              </a:rPr>
              <a:t>_set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_se_translator( fn_old);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}</a:t>
            </a:r>
            <a:r>
              <a:rPr b="0" lang="en-US" sz="16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267080"/>
            <a:ext cx="5410440" cy="0"/>
          </a:xfrm>
          <a:prstGeom prst="line">
            <a:avLst/>
          </a:prstGeom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1" name="gunshot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MFC </a:t>
            </a:r>
            <a:r>
              <a:rPr b="1" lang="bg-BG" sz="4400" spc="-1" strike="noStrike">
                <a:solidFill>
                  <a:srgbClr val="a69564"/>
                </a:solidFill>
                <a:latin typeface="Garamond"/>
              </a:rPr>
              <a:t>класове в областта</a:t>
            </a: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9" name=""/>
          <p:cNvSpPr/>
          <p:nvPr/>
        </p:nvSpPr>
        <p:spPr>
          <a:xfrm>
            <a:off x="994680" y="1248480"/>
            <a:ext cx="688644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7520"/>
                <a:tab algn="l" pos="1827360"/>
                <a:tab algn="l" pos="2435400"/>
                <a:tab algn="l" pos="3044880"/>
                <a:tab algn="l" pos="3654360"/>
                <a:tab algn="l" pos="4262400"/>
                <a:tab algn="l" pos="4871880"/>
                <a:tab algn="l" pos="5479920"/>
                <a:tab algn="l" pos="6089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Garamond"/>
              </a:rPr>
              <a:t>// Normal program statements ...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7520"/>
                <a:tab algn="l" pos="1827360"/>
                <a:tab algn="l" pos="2435400"/>
                <a:tab algn="l" pos="3044880"/>
                <a:tab algn="l" pos="3654360"/>
                <a:tab algn="l" pos="4262400"/>
                <a:tab algn="l" pos="4871880"/>
                <a:tab algn="l" pos="5479920"/>
                <a:tab algn="l" pos="6089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7520"/>
                <a:tab algn="l" pos="1827360"/>
                <a:tab algn="l" pos="2435400"/>
                <a:tab algn="l" pos="3044880"/>
                <a:tab algn="l" pos="3654360"/>
                <a:tab algn="l" pos="4262400"/>
                <a:tab algn="l" pos="4871880"/>
                <a:tab algn="l" pos="5479920"/>
                <a:tab algn="l" pos="6089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Courier New"/>
                <a:ea typeface="Times New Roman"/>
              </a:rPr>
              <a:t>try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7520"/>
                <a:tab algn="l" pos="1827360"/>
                <a:tab algn="l" pos="2435400"/>
                <a:tab algn="l" pos="3044880"/>
                <a:tab algn="l" pos="3654360"/>
                <a:tab algn="l" pos="4262400"/>
                <a:tab algn="l" pos="4871880"/>
                <a:tab algn="l" pos="5479920"/>
                <a:tab algn="l" pos="6089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Courier New"/>
                <a:ea typeface="Times New Roman"/>
              </a:rPr>
              <a:t>{ // Execute some code that might throw an exception. }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7520"/>
                <a:tab algn="l" pos="1827360"/>
                <a:tab algn="l" pos="2435400"/>
                <a:tab algn="l" pos="3044880"/>
                <a:tab algn="l" pos="3654360"/>
                <a:tab algn="l" pos="4262400"/>
                <a:tab algn="l" pos="4871880"/>
                <a:tab algn="l" pos="5479920"/>
                <a:tab algn="l" pos="6089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Courier New"/>
                <a:ea typeface="Times New Roman"/>
              </a:rPr>
              <a:t>catch( CException* e )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7520"/>
                <a:tab algn="l" pos="1827360"/>
                <a:tab algn="l" pos="2435400"/>
                <a:tab algn="l" pos="3044880"/>
                <a:tab algn="l" pos="3654360"/>
                <a:tab algn="l" pos="4262400"/>
                <a:tab algn="l" pos="4871880"/>
                <a:tab algn="l" pos="5479920"/>
                <a:tab algn="l" pos="6089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Courier New"/>
                <a:ea typeface="Times New Roman"/>
              </a:rPr>
              <a:t>{ // Handle the exception;"e" contains information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7520"/>
                <a:tab algn="l" pos="1827360"/>
                <a:tab algn="l" pos="2435400"/>
                <a:tab algn="l" pos="3044880"/>
                <a:tab algn="l" pos="3654360"/>
                <a:tab algn="l" pos="4262400"/>
                <a:tab algn="l" pos="4871880"/>
                <a:tab algn="l" pos="5479920"/>
                <a:tab algn="l" pos="6089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Courier New"/>
                <a:ea typeface="Times New Roman"/>
              </a:rPr>
              <a:t>e-&gt;Delete(); }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7520"/>
                <a:tab algn="l" pos="1827360"/>
                <a:tab algn="l" pos="2435400"/>
                <a:tab algn="l" pos="3044880"/>
                <a:tab algn="l" pos="3654360"/>
                <a:tab algn="l" pos="4262400"/>
                <a:tab algn="l" pos="4871880"/>
                <a:tab algn="l" pos="5479920"/>
                <a:tab algn="l" pos="6089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Courier New"/>
                <a:ea typeface="Times New Roman"/>
              </a:rPr>
              <a:t>// Other normal program statements ...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7520"/>
                <a:tab algn="l" pos="1827360"/>
                <a:tab algn="l" pos="2435400"/>
                <a:tab algn="l" pos="3044880"/>
                <a:tab algn="l" pos="3654360"/>
                <a:tab algn="l" pos="4262400"/>
                <a:tab algn="l" pos="4871880"/>
                <a:tab algn="l" pos="5479920"/>
                <a:tab algn="l" pos="6089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7520"/>
                <a:tab algn="l" pos="1827360"/>
                <a:tab algn="l" pos="2435400"/>
                <a:tab algn="l" pos="3044880"/>
                <a:tab algn="l" pos="3654360"/>
                <a:tab algn="l" pos="4262400"/>
                <a:tab algn="l" pos="4871880"/>
                <a:tab algn="l" pos="5479920"/>
                <a:tab algn="l" pos="6089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0bc5"/>
                </a:solidFill>
                <a:latin typeface="Courier New"/>
                <a:ea typeface="Times New Roman"/>
              </a:rPr>
              <a:t>фрагмент прихващащ различни обекти – exceptions: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7520"/>
                <a:tab algn="l" pos="1827360"/>
                <a:tab algn="l" pos="2435400"/>
                <a:tab algn="l" pos="3044880"/>
                <a:tab algn="l" pos="3654360"/>
                <a:tab algn="l" pos="4262400"/>
                <a:tab algn="l" pos="4871880"/>
                <a:tab algn="l" pos="5479920"/>
                <a:tab algn="l" pos="6089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4b2500"/>
                </a:solidFill>
                <a:latin typeface="Courier New"/>
                <a:ea typeface="Times New Roman"/>
              </a:rPr>
              <a:t>try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7520"/>
                <a:tab algn="l" pos="1827360"/>
                <a:tab algn="l" pos="2435400"/>
                <a:tab algn="l" pos="3044880"/>
                <a:tab algn="l" pos="3654360"/>
                <a:tab algn="l" pos="4262400"/>
                <a:tab algn="l" pos="4871880"/>
                <a:tab algn="l" pos="5479920"/>
                <a:tab algn="l" pos="6089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Courier New"/>
                <a:ea typeface="Times New Roman"/>
              </a:rPr>
              <a:t>	</a:t>
            </a:r>
            <a:r>
              <a:rPr b="1" lang="bg-BG" sz="1600" spc="-1" strike="noStrike">
                <a:solidFill>
                  <a:srgbClr val="4b2500"/>
                </a:solidFill>
                <a:latin typeface="Courier New"/>
                <a:ea typeface="Times New Roman"/>
              </a:rPr>
              <a:t>{//Execute code that might throw an exception.}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7520"/>
                <a:tab algn="l" pos="1827360"/>
                <a:tab algn="l" pos="2435400"/>
                <a:tab algn="l" pos="3044880"/>
                <a:tab algn="l" pos="3654360"/>
                <a:tab algn="l" pos="4262400"/>
                <a:tab algn="l" pos="4871880"/>
                <a:tab algn="l" pos="5479920"/>
                <a:tab algn="l" pos="6089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4b2500"/>
                </a:solidFill>
                <a:latin typeface="Courier New"/>
                <a:ea typeface="Times New Roman"/>
              </a:rPr>
              <a:t>catch( CMemoryException* e )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7520"/>
                <a:tab algn="l" pos="1827360"/>
                <a:tab algn="l" pos="2435400"/>
                <a:tab algn="l" pos="3044880"/>
                <a:tab algn="l" pos="3654360"/>
                <a:tab algn="l" pos="4262400"/>
                <a:tab algn="l" pos="4871880"/>
                <a:tab algn="l" pos="5479920"/>
                <a:tab algn="l" pos="6089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Courier New"/>
                <a:ea typeface="Times New Roman"/>
              </a:rPr>
              <a:t>	</a:t>
            </a:r>
            <a:r>
              <a:rPr b="1" lang="bg-BG" sz="1600" spc="-1" strike="noStrike">
                <a:solidFill>
                  <a:srgbClr val="4b2500"/>
                </a:solidFill>
                <a:latin typeface="Courier New"/>
                <a:ea typeface="Times New Roman"/>
              </a:rPr>
              <a:t>{// Handle the out-of-memory exception here.}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7520"/>
                <a:tab algn="l" pos="1827360"/>
                <a:tab algn="l" pos="2435400"/>
                <a:tab algn="l" pos="3044880"/>
                <a:tab algn="l" pos="3654360"/>
                <a:tab algn="l" pos="4262400"/>
                <a:tab algn="l" pos="4871880"/>
                <a:tab algn="l" pos="5479920"/>
                <a:tab algn="l" pos="6089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4b2500"/>
                </a:solidFill>
                <a:latin typeface="Courier New"/>
                <a:ea typeface="Times New Roman"/>
              </a:rPr>
              <a:t>catch( CFileException* e )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7520"/>
                <a:tab algn="l" pos="1827360"/>
                <a:tab algn="l" pos="2435400"/>
                <a:tab algn="l" pos="3044880"/>
                <a:tab algn="l" pos="3654360"/>
                <a:tab algn="l" pos="4262400"/>
                <a:tab algn="l" pos="4871880"/>
                <a:tab algn="l" pos="5479920"/>
                <a:tab algn="l" pos="6089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Courier New"/>
                <a:ea typeface="Times New Roman"/>
              </a:rPr>
              <a:t>	</a:t>
            </a:r>
            <a:r>
              <a:rPr b="1" lang="bg-BG" sz="1600" spc="-1" strike="noStrike">
                <a:solidFill>
                  <a:srgbClr val="4b2500"/>
                </a:solidFill>
                <a:latin typeface="Courier New"/>
                <a:ea typeface="Times New Roman"/>
              </a:rPr>
              <a:t>{ // Handle the file exceptions here.}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7520"/>
                <a:tab algn="l" pos="1827360"/>
                <a:tab algn="l" pos="2435400"/>
                <a:tab algn="l" pos="3044880"/>
                <a:tab algn="l" pos="3654360"/>
                <a:tab algn="l" pos="4262400"/>
                <a:tab algn="l" pos="4871880"/>
                <a:tab algn="l" pos="5479920"/>
                <a:tab algn="l" pos="6089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4b2500"/>
                </a:solidFill>
                <a:latin typeface="Courier New"/>
                <a:ea typeface="Times New Roman"/>
              </a:rPr>
              <a:t>catch( CException* e )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7520"/>
                <a:tab algn="l" pos="1827360"/>
                <a:tab algn="l" pos="2435400"/>
                <a:tab algn="l" pos="3044880"/>
                <a:tab algn="l" pos="3654360"/>
                <a:tab algn="l" pos="4262400"/>
                <a:tab algn="l" pos="4871880"/>
                <a:tab algn="l" pos="5479920"/>
                <a:tab algn="l" pos="6089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Courier New"/>
                <a:ea typeface="Times New Roman"/>
              </a:rPr>
              <a:t>{// Handle all other types of exceptions here.}</a:t>
            </a:r>
            <a:r>
              <a:rPr b="0" lang="en-US" sz="16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1773360"/>
            <a:ext cx="6840720" cy="0"/>
          </a:xfrm>
          <a:prstGeom prst="line">
            <a:avLst/>
          </a:prstGeom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3429000"/>
            <a:ext cx="6840720" cy="0"/>
          </a:xfrm>
          <a:prstGeom prst="line">
            <a:avLst/>
          </a:prstGeom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1773360"/>
            <a:ext cx="0" cy="1655640"/>
          </a:xfrm>
          <a:prstGeom prst="line">
            <a:avLst/>
          </a:prstGeom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28000" y="1773360"/>
            <a:ext cx="0" cy="1655640"/>
          </a:xfrm>
          <a:prstGeom prst="line">
            <a:avLst/>
          </a:prstGeom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81080" y="5805360"/>
            <a:ext cx="517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10bc5"/>
                </a:solidFill>
                <a:latin typeface="Garamond"/>
              </a:rPr>
              <a:t>1.</a:t>
            </a:r>
            <a:r>
              <a:rPr b="1" lang="bg-BG" sz="1200" spc="-1" strike="noStrike">
                <a:solidFill>
                  <a:srgbClr val="210bc5"/>
                </a:solidFill>
                <a:latin typeface="Garamond"/>
              </a:rPr>
              <a:t>изкл.ситуация</a:t>
            </a:r>
            <a:r>
              <a:rPr b="1" lang="en-US" sz="1200" spc="-1" strike="noStrike">
                <a:solidFill>
                  <a:srgbClr val="210bc5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210bc5"/>
                </a:solidFill>
                <a:latin typeface="Wingdings"/>
                <a:ea typeface="Wingdings"/>
              </a:rPr>
              <a:t></a:t>
            </a:r>
            <a:r>
              <a:rPr b="1" lang="bg-BG" sz="1200" spc="-1" strike="noStrike">
                <a:solidFill>
                  <a:srgbClr val="210bc5"/>
                </a:solidFill>
                <a:latin typeface="Garamond"/>
              </a:rPr>
              <a:t>намиране на точен </a:t>
            </a:r>
            <a:r>
              <a:rPr b="1" lang="en-US" sz="1200" spc="-1" strike="noStrike">
                <a:solidFill>
                  <a:srgbClr val="210bc5"/>
                </a:solidFill>
                <a:latin typeface="Garamond"/>
              </a:rPr>
              <a:t>catch</a:t>
            </a:r>
            <a:r>
              <a:rPr b="1" lang="bg-BG" sz="1200" spc="-1" strike="noStrike">
                <a:solidFill>
                  <a:srgbClr val="210bc5"/>
                </a:solidFill>
                <a:latin typeface="Garamond"/>
              </a:rPr>
              <a:t> </a:t>
            </a:r>
            <a:r>
              <a:rPr b="1" lang="bg-BG" sz="1200" spc="-1" strike="noStrike">
                <a:solidFill>
                  <a:srgbClr val="210bc5"/>
                </a:solidFill>
                <a:latin typeface="Wingdings"/>
                <a:ea typeface="Wingdings"/>
              </a:rPr>
              <a:t></a:t>
            </a:r>
            <a:r>
              <a:rPr b="1" lang="bg-BG" sz="1200" spc="-1" strike="noStrike">
                <a:solidFill>
                  <a:srgbClr val="210bc5"/>
                </a:solidFill>
                <a:latin typeface="Garamond"/>
              </a:rPr>
              <a:t>предава ‘е’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210bc5"/>
                </a:solidFill>
                <a:latin typeface="Garamond"/>
              </a:rPr>
              <a:t>2. деструкция на локални обекти в обратен ред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210bc5"/>
                </a:solidFill>
                <a:latin typeface="Garamond"/>
              </a:rPr>
              <a:t>3. изпълнение на </a:t>
            </a:r>
            <a:r>
              <a:rPr b="1" lang="en-US" sz="1200" spc="-1" strike="noStrike">
                <a:solidFill>
                  <a:srgbClr val="210bc5"/>
                </a:solidFill>
                <a:latin typeface="Garamond"/>
              </a:rPr>
              <a:t>catch</a:t>
            </a:r>
            <a:r>
              <a:rPr b="1" lang="bg-BG" sz="1200" spc="-1" strike="noStrike">
                <a:solidFill>
                  <a:srgbClr val="210bc5"/>
                </a:solidFill>
                <a:latin typeface="Garamond"/>
              </a:rPr>
              <a:t> блока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210bc5"/>
                </a:solidFill>
                <a:latin typeface="Garamond"/>
              </a:rPr>
              <a:t>4. програмен оператор, следващ последния </a:t>
            </a:r>
            <a:r>
              <a:rPr b="1" lang="en-US" sz="1200" spc="-1" strike="noStrike">
                <a:solidFill>
                  <a:srgbClr val="210bc5"/>
                </a:solidFill>
                <a:latin typeface="Garamond"/>
              </a:rPr>
              <a:t>exception handler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1" name="gunshot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73600" y="153720"/>
            <a:ext cx="8806320" cy="16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0bc5"/>
                </a:solidFill>
                <a:latin typeface="Garamond"/>
              </a:rPr>
              <a:t>Termination Handler</a:t>
            </a:r>
            <a:r>
              <a:rPr b="1" lang="bg-BG" sz="2000" spc="-1" strike="noStrike">
                <a:solidFill>
                  <a:srgbClr val="210bc5"/>
                </a:solidFill>
                <a:latin typeface="Garamond"/>
              </a:rPr>
              <a:t> (не се изпълнява само при </a:t>
            </a:r>
            <a:r>
              <a:rPr b="1" lang="en-US" sz="2000" spc="-1" strike="noStrike">
                <a:solidFill>
                  <a:srgbClr val="210bc5"/>
                </a:solidFill>
                <a:latin typeface="Garamond"/>
              </a:rPr>
              <a:t>abort </a:t>
            </a:r>
            <a:r>
              <a:rPr b="1" lang="bg-BG" sz="2000" spc="-1" strike="noStrike">
                <a:solidFill>
                  <a:srgbClr val="210bc5"/>
                </a:solidFill>
                <a:latin typeface="Garamond"/>
              </a:rPr>
              <a:t>на </a:t>
            </a:r>
            <a:r>
              <a:rPr b="1" lang="en-US" sz="2000" spc="-1" strike="noStrike">
                <a:solidFill>
                  <a:srgbClr val="210bc5"/>
                </a:solidFill>
                <a:latin typeface="Garamond"/>
              </a:rPr>
              <a:t>thread)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BOOL Myfunc()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{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int* p = 0;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__try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{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// използва се p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}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__finally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{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delete p;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}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return fReturn;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}</a:t>
            </a: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/*</a:t>
            </a:r>
            <a:r>
              <a:rPr b="0" lang="bg-BG" sz="1800" spc="-1" strike="noStrike">
                <a:solidFill>
                  <a:srgbClr val="4b2500"/>
                </a:solidFill>
                <a:latin typeface="Garamond"/>
              </a:rPr>
              <a:t>ако има </a:t>
            </a: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exception- </a:t>
            </a:r>
            <a:r>
              <a:rPr b="0" lang="bg-BG" sz="1800" spc="-1" strike="noStrike">
                <a:solidFill>
                  <a:srgbClr val="4b2500"/>
                </a:solidFill>
                <a:latin typeface="Garamond"/>
              </a:rPr>
              <a:t>блокът </a:t>
            </a: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finally</a:t>
            </a:r>
            <a:r>
              <a:rPr b="0" lang="bg-BG" sz="1800" spc="-1" strike="noStrike">
                <a:solidFill>
                  <a:srgbClr val="4b2500"/>
                </a:solidFill>
                <a:latin typeface="Garamond"/>
              </a:rPr>
              <a:t> се изпълнява преди блока </a:t>
            </a: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__except */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625760"/>
            <a:ext cx="837576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0bc5"/>
                </a:solidFill>
                <a:latin typeface="Garamond"/>
              </a:rPr>
              <a:t>Ето един двусмислен код: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long CalcFactorial ( int n )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{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long lResult;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__try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{if( n&gt;2)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{for( lResult = 1; n &gt; 1; n-- ) lResult *=n; }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else  return (long)n; //</a:t>
            </a:r>
            <a:r>
              <a:rPr b="1" lang="bg-BG" sz="1400" spc="-1" strike="noStrike">
                <a:solidFill>
                  <a:srgbClr val="4b2500"/>
                </a:solidFill>
                <a:latin typeface="Garamond"/>
              </a:rPr>
              <a:t>междинно се съхранява и се връща след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handler</a:t>
            </a:r>
            <a:r>
              <a:rPr b="1" lang="bg-BG" sz="1400" spc="-1" strike="noStrike">
                <a:solidFill>
                  <a:srgbClr val="4b2500"/>
                </a:solidFill>
                <a:latin typeface="Garamond"/>
              </a:rPr>
              <a:t>, ако там има друг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}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__finally{</a:t>
            </a:r>
            <a:r>
              <a:rPr b="1" lang="bg-BG" sz="14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return lResult;</a:t>
            </a:r>
            <a:r>
              <a:rPr b="1" lang="bg-BG" sz="14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}}</a:t>
            </a:r>
            <a:r>
              <a:rPr b="1" lang="bg-BG" sz="1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bg-BG" sz="1400" spc="-1" strike="noStrike">
                <a:solidFill>
                  <a:srgbClr val="4b2500"/>
                </a:solidFill>
                <a:latin typeface="Garamond"/>
              </a:rPr>
              <a:t>// щом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return</a:t>
            </a:r>
            <a:r>
              <a:rPr b="1" lang="bg-BG" sz="1400" spc="-1" strike="noStrike">
                <a:solidFill>
                  <a:srgbClr val="4b2500"/>
                </a:solidFill>
                <a:latin typeface="Garamond"/>
              </a:rPr>
              <a:t> е в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handler’a</a:t>
            </a:r>
            <a:r>
              <a:rPr b="1" lang="bg-BG" sz="1400" spc="-1" strike="noStrike">
                <a:solidFill>
                  <a:srgbClr val="4b2500"/>
                </a:solidFill>
                <a:latin typeface="Garamond"/>
              </a:rPr>
              <a:t> , той ще се изпълни ефективно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4b2500"/>
                </a:solidFill>
                <a:latin typeface="Garamond"/>
              </a:rPr>
              <a:t>/*добър стил е 1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return</a:t>
            </a:r>
            <a:r>
              <a:rPr b="1" lang="bg-BG" sz="1400" spc="-1" strike="noStrike">
                <a:solidFill>
                  <a:srgbClr val="4b2500"/>
                </a:solidFill>
                <a:latin typeface="Garamond"/>
              </a:rPr>
              <a:t>; за предпочитане извън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__try   __finally</a:t>
            </a:r>
            <a:r>
              <a:rPr b="1" lang="bg-BG" sz="1400" spc="-1" strike="noStrike">
                <a:solidFill>
                  <a:srgbClr val="4b2500"/>
                </a:solidFill>
                <a:latin typeface="Garamond"/>
              </a:rPr>
              <a:t> блоковете</a:t>
            </a:r>
            <a:r>
              <a:rPr b="1" lang="bg-BG" sz="1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bg-BG" sz="1400" spc="-1" strike="noStrike">
                <a:solidFill>
                  <a:srgbClr val="4b2500"/>
                </a:solidFill>
                <a:latin typeface="Garamond"/>
              </a:rPr>
              <a:t>*/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08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4191120"/>
            <a:ext cx="7488000" cy="1067400"/>
          </a:xfrm>
          <a:prstGeom prst="rect">
            <a:avLst/>
          </a:prstGeom>
          <a:noFill/>
          <a:ln w="9360">
            <a:solidFill>
              <a:srgbClr val="a69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__try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{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…………..;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__leave;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……………}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// нищо след leave не оказва влияние.Excepion</a:t>
            </a:r>
            <a:r>
              <a:rPr b="1" lang="bg-BG" sz="16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handler</a:t>
            </a:r>
            <a:r>
              <a:rPr b="1" lang="bg-BG" sz="1600" spc="-1" strike="noStrike">
                <a:solidFill>
                  <a:srgbClr val="4b2500"/>
                </a:solidFill>
                <a:latin typeface="Garamond"/>
              </a:rPr>
              <a:t> би се изпълнил, обаче.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080" y="5015520"/>
            <a:ext cx="712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int main()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{ __try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{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__leave;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cout &lt;&lt; “never” &lt;&lt; endl;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}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__finally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{if (AbnormalTermination()  != FALSE )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bg-BG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bg-BG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cout &lt;&lt; “abnormal termination” &lt;&lt; endl;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else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cout &lt;&lt;  “</a:t>
            </a:r>
            <a:r>
              <a:rPr b="1" lang="en-US" sz="1600" spc="-1" strike="noStrike">
                <a:solidFill>
                  <a:srgbClr val="0d0e3f"/>
                </a:solidFill>
                <a:latin typeface="Garamond"/>
              </a:rPr>
              <a:t>normal termination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” &lt;&lt; endl;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}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return 0; }</a:t>
            </a:r>
            <a:r>
              <a:rPr b="0" lang="en-US" sz="16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bg-BG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bg-BG" sz="1600" spc="-1" strike="noStrike">
                <a:solidFill>
                  <a:srgbClr val="4b2500"/>
                </a:solidFill>
                <a:latin typeface="Garamond"/>
              </a:rPr>
              <a:t>//евентуален </a:t>
            </a:r>
            <a:r>
              <a:rPr b="0" lang="en-US" sz="1600" spc="-1" strike="noStrike">
                <a:solidFill>
                  <a:srgbClr val="4b2500"/>
                </a:solidFill>
                <a:latin typeface="Garamond"/>
              </a:rPr>
              <a:t>leave</a:t>
            </a:r>
            <a:r>
              <a:rPr b="0" lang="bg-BG" sz="1600" spc="-1" strike="noStrike">
                <a:solidFill>
                  <a:srgbClr val="4b2500"/>
                </a:solidFill>
                <a:latin typeface="Garamond"/>
              </a:rPr>
              <a:t> също се счита за нормален изход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971800" y="6248160"/>
            <a:ext cx="1143000" cy="152280"/>
          </a:xfrm>
          <a:prstGeom prst="line">
            <a:avLst/>
          </a:prstGeom>
          <a:ln w="93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1" name="gunshot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69564"/>
                </a:solidFill>
                <a:latin typeface="Garamond"/>
              </a:rPr>
              <a:t>Филтри</a:t>
            </a: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-4320" y="765720"/>
            <a:ext cx="753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EXCEPTION_EXECUTE_HANDLER </a:t>
            </a:r>
            <a:r>
              <a:rPr b="1" lang="bg-BG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term. handler (1)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EXCEPTION_CONTINUE_SEARCH </a:t>
            </a:r>
            <a:r>
              <a:rPr b="1" lang="bg-BG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(0) – dispatcher ще търси друг.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EXCEPTION_CONTINUE_EXECUTION 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пренебрегва (-1)</a:t>
            </a:r>
            <a:r>
              <a:rPr b="0" lang="en-US" sz="16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632600"/>
            <a:ext cx="8264520" cy="1191240"/>
          </a:xfrm>
          <a:prstGeom prst="rect">
            <a:avLst/>
          </a:prstGeom>
          <a:noFill/>
          <a:ln w="9360">
            <a:solidFill>
              <a:srgbClr val="a69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except ( </a:t>
            </a:r>
            <a:r>
              <a:rPr b="1" lang="en-US" sz="1800" spc="-1" strike="noStrike">
                <a:solidFill>
                  <a:srgbClr val="210bc5"/>
                </a:solidFill>
                <a:latin typeface="Garamond"/>
              </a:rPr>
              <a:t>GetExceptionCode()</a:t>
            </a: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 == EXCEPTION_ACCESS_VIOLATION )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{</a:t>
            </a: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cout &lt;&lt; “прихваната изкл. ситуация” &lt;&lt;endl;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}</a:t>
            </a: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4b2500"/>
                </a:solidFill>
                <a:latin typeface="Garamond"/>
              </a:rPr>
              <a:t>// опит за четене/запис без инициал. на указател или без съответни права. 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1240" y="2851920"/>
            <a:ext cx="23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или по-общ анализ:</a:t>
            </a: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8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3200400"/>
            <a:ext cx="7561440" cy="38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__ except( ExceptionFilter( GetExceptionCode()))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където 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int ExceptionFilter( int nException )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{</a:t>
            </a: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	</a:t>
            </a: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int nReturn;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switch( nException )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{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	</a:t>
            </a: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case EXCEPTION_INT_DIVIDE_BY_ZERO:</a:t>
            </a: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	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	</a:t>
            </a: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	</a:t>
            </a: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nReturn = EXCEPTION_EXECUTE_HANDLER;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	</a:t>
            </a: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	</a:t>
            </a: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break;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…………………</a:t>
            </a: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.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	</a:t>
            </a: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default: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	</a:t>
            </a: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	</a:t>
            </a: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nReturn = EXCEPTION_CONTINUE_SEARCH;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	</a:t>
            </a: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	</a:t>
            </a: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}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	</a:t>
            </a:r>
            <a:r>
              <a:rPr b="1" lang="en-US" sz="1400" spc="-1" strike="noStrike">
                <a:solidFill>
                  <a:srgbClr val="104a02"/>
                </a:solidFill>
                <a:latin typeface="Garamond"/>
              </a:rPr>
              <a:t>return nReturn; }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4b2500"/>
                </a:solidFill>
                <a:latin typeface="Garamond"/>
              </a:rPr>
              <a:t>/* инф. за събитието може да съберем и с </a:t>
            </a:r>
            <a:r>
              <a:rPr b="1" lang="en-US" sz="1200" spc="-1" strike="noStrike">
                <a:solidFill>
                  <a:srgbClr val="4b2500"/>
                </a:solidFill>
                <a:latin typeface="Garamond"/>
              </a:rPr>
              <a:t>GetExceptionInformation(). </a:t>
            </a:r>
            <a:r>
              <a:rPr b="1" lang="bg-BG" sz="1200" spc="-1" strike="noStrike">
                <a:solidFill>
                  <a:srgbClr val="4b2500"/>
                </a:solidFill>
                <a:latin typeface="Garamond"/>
              </a:rPr>
              <a:t>Попълва структура от тип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b2500"/>
                </a:solidFill>
                <a:uFillTx/>
                <a:latin typeface="Garamond"/>
              </a:rPr>
              <a:t>EXCEPTION_POINTERS</a:t>
            </a:r>
            <a:r>
              <a:rPr b="1" lang="bg-BG" sz="1200" spc="-1" strike="noStrike">
                <a:solidFill>
                  <a:srgbClr val="4b2500"/>
                </a:solidFill>
                <a:latin typeface="Garamond"/>
              </a:rPr>
              <a:t> с указатели към структурите: </a:t>
            </a: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EXCEPTION_RECORD</a:t>
            </a:r>
            <a:r>
              <a:rPr b="1" lang="bg-BG" sz="1400" spc="-1" strike="noStrike">
                <a:solidFill>
                  <a:srgbClr val="210bc5"/>
                </a:solidFill>
                <a:latin typeface="Garamond"/>
              </a:rPr>
              <a:t> и </a:t>
            </a: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CONTEXT</a:t>
            </a:r>
            <a:r>
              <a:rPr b="1" lang="bg-BG" sz="1400" spc="-1" strike="noStrike">
                <a:solidFill>
                  <a:srgbClr val="210bc5"/>
                </a:solidFill>
                <a:latin typeface="Garamond"/>
              </a:rPr>
              <a:t> (флагове …)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4520" y="2819520"/>
            <a:ext cx="2463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10bc5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breakpoint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10bc5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array_boundary_except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10bc5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/0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10bc5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access_violation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10bc5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float. point exceptions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10bc5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privilegd instruction or..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10bc5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…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1" name="gunshot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9564"/>
                </a:solidFill>
                <a:latin typeface="Garamond"/>
              </a:rPr>
              <a:t>C++ Exception Handling</a:t>
            </a: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1197000"/>
            <a:ext cx="6913800" cy="1554120"/>
          </a:xfrm>
          <a:prstGeom prst="rect">
            <a:avLst/>
          </a:prstGeom>
          <a:noFill/>
          <a:ln w="9360">
            <a:solidFill>
              <a:srgbClr val="a69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int Divide</a:t>
            </a:r>
            <a:r>
              <a:rPr b="1" lang="bg-BG" sz="1600" spc="-1" strike="noStrike">
                <a:solidFill>
                  <a:srgbClr val="4b2500"/>
                </a:solidFill>
                <a:latin typeface="Garamond"/>
              </a:rPr>
              <a:t>(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 int n1, int n2 )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{</a:t>
            </a:r>
            <a:r>
              <a:rPr b="1" lang="bg-BG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int nReturn = 0;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b6d47"/>
                </a:solidFill>
                <a:latin typeface="Garamond"/>
              </a:rPr>
              <a:t>try</a:t>
            </a:r>
            <a:r>
              <a:rPr b="1" lang="bg-BG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{if( !n2 ) </a:t>
            </a:r>
            <a:r>
              <a:rPr b="1" lang="en-US" sz="1600" spc="-1" strike="noStrike">
                <a:solidFill>
                  <a:srgbClr val="210bc5"/>
                </a:solidFill>
                <a:latin typeface="Garamond"/>
              </a:rPr>
              <a:t>throw range_error();</a:t>
            </a:r>
            <a:r>
              <a:rPr b="1" lang="bg-BG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nReturn = n1 / n2;</a:t>
            </a:r>
            <a:r>
              <a:rPr b="1" lang="bg-BG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}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0bc5"/>
                </a:solidFill>
                <a:latin typeface="Garamond"/>
              </a:rPr>
              <a:t>catch ( range_error&amp; e )</a:t>
            </a:r>
            <a:r>
              <a:rPr b="1" lang="bg-BG" sz="16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{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cout &lt;&lt; “опит за </a:t>
            </a:r>
            <a:r>
              <a:rPr b="1" lang="bg-BG" sz="1600" spc="-1" strike="noStrike">
                <a:solidFill>
                  <a:srgbClr val="4b2500"/>
                </a:solidFill>
                <a:latin typeface="Garamond"/>
              </a:rPr>
              <a:t>/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 на 0” &lt;&lt; endl;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}</a:t>
            </a:r>
            <a:r>
              <a:rPr b="1" lang="bg-BG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return nReturn;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4b2500"/>
                </a:solidFill>
                <a:latin typeface="Garamond"/>
              </a:rPr>
              <a:t>}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8640" y="2636280"/>
            <a:ext cx="630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b2500"/>
                </a:solidFill>
                <a:uFillTx/>
                <a:latin typeface="Garamond"/>
              </a:rPr>
              <a:t>Standard Exception Library Hierarchy </a:t>
            </a:r>
            <a:r>
              <a:rPr b="0" lang="en-US" sz="1800" spc="-1" strike="noStrike" u="sng">
                <a:solidFill>
                  <a:srgbClr val="4b2500"/>
                </a:solidFill>
                <a:uFillTx/>
                <a:latin typeface="Garamond"/>
              </a:rPr>
              <a:t> </a:t>
            </a:r>
            <a:r>
              <a:rPr b="0" lang="bg-BG" sz="1800" spc="-1" strike="noStrike" u="sng">
                <a:solidFill>
                  <a:srgbClr val="4b2500"/>
                </a:solidFill>
                <a:uFillTx/>
                <a:latin typeface="Garamond"/>
              </a:rPr>
              <a:t>(</a:t>
            </a:r>
            <a:r>
              <a:rPr b="0" lang="en-US" sz="1800" spc="-1" strike="noStrike" u="sng">
                <a:solidFill>
                  <a:srgbClr val="4b2500"/>
                </a:solidFill>
                <a:uFillTx/>
                <a:latin typeface="Garamond"/>
              </a:rPr>
              <a:t>ANSI </a:t>
            </a:r>
            <a:r>
              <a:rPr b="0" lang="bg-BG" sz="1800" spc="-1" strike="noStrike" u="sng">
                <a:solidFill>
                  <a:srgbClr val="4b2500"/>
                </a:solidFill>
                <a:uFillTx/>
                <a:latin typeface="Garamond"/>
              </a:rPr>
              <a:t>стандарт</a:t>
            </a:r>
            <a:r>
              <a:rPr b="0" lang="en-US" sz="1800" spc="-1" strike="noStrike" u="sng">
                <a:solidFill>
                  <a:srgbClr val="4b2500"/>
                </a:solidFill>
                <a:uFillTx/>
                <a:latin typeface="Garamond"/>
              </a:rPr>
              <a:t>)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9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0400" y="4450680"/>
            <a:ext cx="155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b25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4b25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3036960"/>
            <a:ext cx="6578640" cy="3821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6524640"/>
            <a:ext cx="1081080" cy="333360"/>
          </a:xfrm>
          <a:prstGeom prst="rect">
            <a:avLst/>
          </a:prstGeom>
          <a:solidFill>
            <a:srgbClr val="ffffe3"/>
          </a:solidFill>
          <a:ln w="9360">
            <a:solidFill>
              <a:srgbClr val="ffff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66560" y="3243240"/>
            <a:ext cx="25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2500"/>
                </a:solidFill>
                <a:latin typeface="Garamond"/>
              </a:rPr>
              <a:t>Defined in header &lt;stdexcept&gt;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579640" y="3429000"/>
            <a:ext cx="1368360" cy="720720"/>
          </a:xfrm>
          <a:prstGeom prst="line">
            <a:avLst/>
          </a:prstGeom>
          <a:ln w="93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410920" y="3429000"/>
            <a:ext cx="4537080" cy="936720"/>
          </a:xfrm>
          <a:prstGeom prst="line">
            <a:avLst/>
          </a:prstGeom>
          <a:ln w="93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70560" y="5853240"/>
            <a:ext cx="3833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2500"/>
                </a:solidFill>
                <a:latin typeface="Garamond"/>
              </a:rPr>
              <a:t>Thrown by: new;  dynamic_cast; typeid; 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2500"/>
                </a:solidFill>
                <a:latin typeface="Garamond"/>
              </a:rPr>
              <a:t>If included in throw.., unexpected exception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4b2500"/>
                </a:solidFill>
                <a:latin typeface="Garamond"/>
              </a:rPr>
              <a:t>throws bad_exception rather than terminating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4b2500"/>
                </a:solidFill>
                <a:latin typeface="Garamond"/>
              </a:rPr>
              <a:t>or calls another function specified by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4b2500"/>
                </a:solidFill>
                <a:latin typeface="Garamond"/>
              </a:rPr>
              <a:t>set_unexpected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484360" y="6021360"/>
            <a:ext cx="4175280" cy="0"/>
          </a:xfrm>
          <a:prstGeom prst="line">
            <a:avLst/>
          </a:prstGeom>
          <a:ln w="93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131640" y="6093000"/>
            <a:ext cx="4032360" cy="0"/>
          </a:xfrm>
          <a:prstGeom prst="line">
            <a:avLst/>
          </a:prstGeom>
          <a:ln w="93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427280" y="6093000"/>
            <a:ext cx="3384360" cy="72720"/>
          </a:xfrm>
          <a:prstGeom prst="line">
            <a:avLst/>
          </a:prstGeom>
          <a:ln w="93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580000" y="6237360"/>
            <a:ext cx="287280" cy="0"/>
          </a:xfrm>
          <a:prstGeom prst="line">
            <a:avLst/>
          </a:prstGeom>
          <a:ln w="93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42840" y="3795840"/>
            <a:ext cx="291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Catching a base-class objects 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before catching a derive-class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object is a logic error. The 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derive-class catch will never 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execute !!!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2" name="gunshot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4292640"/>
            <a:ext cx="8353440" cy="720720"/>
          </a:xfrm>
          <a:prstGeom prst="rect">
            <a:avLst/>
          </a:prstGeom>
          <a:solidFill>
            <a:srgbClr val="ffffe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10bc5"/>
                </a:solidFill>
                <a:latin typeface="Garamond"/>
              </a:rPr>
              <a:t>SomeFunc()</a:t>
            </a:r>
            <a:br>
              <a:rPr sz="1600"/>
            </a:br>
            <a:r>
              <a:rPr b="1" i="1" lang="en-US" sz="1600" spc="-1" strike="noStrike">
                <a:solidFill>
                  <a:srgbClr val="210bc5"/>
                </a:solidFill>
                <a:latin typeface="Garamond"/>
              </a:rPr>
              <a:t>{ try </a:t>
            </a:r>
            <a:br>
              <a:rPr sz="1600"/>
            </a:br>
            <a:r>
              <a:rPr b="1" i="1" lang="bg-BG" sz="1600" spc="-1" strike="noStrike">
                <a:solidFill>
                  <a:srgbClr val="210bc5"/>
                </a:solidFill>
                <a:latin typeface="Garamond"/>
              </a:rPr>
              <a:t>    </a:t>
            </a:r>
            <a:r>
              <a:rPr b="1" i="1" lang="en-US" sz="1600" spc="-1" strike="noStrike">
                <a:solidFill>
                  <a:srgbClr val="210bc5"/>
                </a:solidFill>
                <a:latin typeface="Garamond"/>
              </a:rPr>
              <a:t>{….</a:t>
            </a:r>
            <a:r>
              <a:rPr b="1" i="1" lang="bg-BG" sz="1600" spc="-1" strike="noStrike">
                <a:solidFill>
                  <a:srgbClr val="210bc5"/>
                </a:solidFill>
                <a:latin typeface="Garamond"/>
              </a:rPr>
              <a:t>  </a:t>
            </a:r>
            <a:r>
              <a:rPr b="1" i="1" lang="en-US" sz="1600" spc="-1" strike="noStrike">
                <a:solidFill>
                  <a:srgbClr val="210bc5"/>
                </a:solidFill>
                <a:latin typeface="Garamond"/>
              </a:rPr>
              <a:t>throw range_error( “ </a:t>
            </a:r>
            <a:r>
              <a:rPr b="1" i="1" lang="en-US" sz="1600" spc="-1" strike="noStrike">
                <a:solidFill>
                  <a:srgbClr val="210bc5"/>
                </a:solidFill>
                <a:latin typeface="Times New Roman"/>
              </a:rPr>
              <a:t>невъзможност за заделяне достатъчно памет</a:t>
            </a:r>
            <a:r>
              <a:rPr b="1" i="1" lang="en-US" sz="1600" spc="-1" strike="noStrike">
                <a:solidFill>
                  <a:srgbClr val="210bc5"/>
                </a:solidFill>
                <a:latin typeface="Garamond"/>
              </a:rPr>
              <a:t>”);……}</a:t>
            </a:r>
            <a:br>
              <a:rPr sz="1600"/>
            </a:br>
            <a:r>
              <a:rPr b="1" i="1" lang="en-US" sz="1600" spc="-1" strike="noStrike">
                <a:solidFill>
                  <a:srgbClr val="210bc5"/>
                </a:solidFill>
                <a:latin typeface="Garamond"/>
              </a:rPr>
              <a:t>catch( runtime_error e)</a:t>
            </a:r>
            <a:r>
              <a:rPr b="1" i="1" lang="bg-BG" sz="1600" spc="-1" strike="noStrike">
                <a:solidFill>
                  <a:srgbClr val="210bc5"/>
                </a:solidFill>
                <a:latin typeface="Garamond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210bc5"/>
                </a:solidFill>
                <a:latin typeface="Garamond"/>
              </a:rPr>
              <a:t>	</a:t>
            </a:r>
            <a:r>
              <a:rPr b="1" i="1" lang="en-US" sz="1600" spc="-1" strike="noStrike">
                <a:solidFill>
                  <a:srgbClr val="210bc5"/>
                </a:solidFill>
                <a:latin typeface="Garamond"/>
              </a:rPr>
              <a:t>{ cout &lt;&lt; e.what() &lt;&lt; endl ;</a:t>
            </a:r>
            <a:r>
              <a:rPr b="1" i="1" lang="bg-BG" sz="1600" spc="-1" strike="noStrike">
                <a:solidFill>
                  <a:srgbClr val="210bc5"/>
                </a:solidFill>
                <a:latin typeface="Garamond"/>
              </a:rPr>
              <a:t>	</a:t>
            </a:r>
            <a:r>
              <a:rPr b="1" i="1" lang="en-US" sz="1600" spc="-1" strike="noStrike">
                <a:solidFill>
                  <a:srgbClr val="210bc5"/>
                </a:solidFill>
                <a:latin typeface="Garamond"/>
              </a:rPr>
              <a:t>}</a:t>
            </a:r>
            <a:br>
              <a:rPr sz="1600"/>
            </a:br>
            <a:r>
              <a:rPr b="1" i="1" lang="en-US" sz="1600" spc="-1" strike="noStrike">
                <a:solidFill>
                  <a:srgbClr val="210bc5"/>
                </a:solidFill>
                <a:latin typeface="Garamond"/>
              </a:rPr>
              <a:t>}</a:t>
            </a:r>
            <a:br>
              <a:rPr sz="1600"/>
            </a:br>
            <a:br>
              <a:rPr sz="1600"/>
            </a:br>
            <a:r>
              <a:rPr b="1" i="1" lang="bg-BG" sz="1400" spc="-1" strike="noStrike" u="sng">
                <a:solidFill>
                  <a:srgbClr val="4b2500"/>
                </a:solidFill>
                <a:uFillTx/>
                <a:latin typeface="Times New Roman"/>
              </a:rPr>
              <a:t>Съображения при конструиране на обекти </a:t>
            </a:r>
            <a:br>
              <a:rPr sz="1400"/>
            </a:br>
            <a:r>
              <a:rPr b="1" i="1" lang="bg-BG" sz="1400" spc="-1" strike="noStrike">
                <a:solidFill>
                  <a:srgbClr val="4b2500"/>
                </a:solidFill>
                <a:latin typeface="Times New Roman"/>
              </a:rPr>
              <a:t>1. двуфазност на процеса;</a:t>
            </a:r>
            <a:br>
              <a:rPr sz="1400"/>
            </a:br>
            <a:r>
              <a:rPr b="1" i="1" lang="bg-BG" sz="1400" spc="-1" strike="noStrike">
                <a:solidFill>
                  <a:srgbClr val="4b2500"/>
                </a:solidFill>
                <a:latin typeface="Times New Roman"/>
              </a:rPr>
              <a:t>2. включване на </a:t>
            </a:r>
            <a:r>
              <a:rPr b="1" i="1" lang="en-US" sz="1400" spc="-1" strike="noStrike">
                <a:solidFill>
                  <a:srgbClr val="4b2500"/>
                </a:solidFill>
                <a:latin typeface="Times New Roman"/>
              </a:rPr>
              <a:t>exception </a:t>
            </a:r>
            <a:r>
              <a:rPr b="1" i="1" lang="bg-BG" sz="1400" spc="-1" strike="noStrike">
                <a:solidFill>
                  <a:srgbClr val="4b2500"/>
                </a:solidFill>
                <a:latin typeface="Times New Roman"/>
              </a:rPr>
              <a:t>механизма, поради невъзможност за връщане  код на грешка от конструктора</a:t>
            </a:r>
            <a:r>
              <a:rPr b="1" i="1" lang="bg-BG" sz="1400" spc="-1" strike="noStrike">
                <a:solidFill>
                  <a:srgbClr val="4b2500"/>
                </a:solidFill>
                <a:latin typeface="Garamond"/>
              </a:rPr>
              <a:t>  :</a:t>
            </a:r>
            <a:br>
              <a:rPr sz="1400"/>
            </a:br>
            <a:r>
              <a:rPr b="1" i="1" lang="en-US" sz="1400" spc="-1" strike="noStrike">
                <a:solidFill>
                  <a:srgbClr val="4b2500"/>
                </a:solidFill>
                <a:latin typeface="Garamond"/>
              </a:rPr>
              <a:t>CSafeCode::CSafeCode(intSize)</a:t>
            </a:r>
            <a:br>
              <a:rPr sz="1400"/>
            </a:br>
            <a:r>
              <a:rPr b="1" i="1" lang="en-US" sz="1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en-US" sz="1400" spc="-1" strike="noStrike">
                <a:solidFill>
                  <a:srgbClr val="4b2500"/>
                </a:solidFill>
                <a:latin typeface="Garamond"/>
              </a:rPr>
              <a:t>{ try</a:t>
            </a:r>
            <a:br>
              <a:rPr sz="1400"/>
            </a:br>
            <a:r>
              <a:rPr b="1" i="1" lang="en-US" sz="1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en-US" sz="1400" spc="-1" strike="noStrike">
                <a:solidFill>
                  <a:srgbClr val="4b2500"/>
                </a:solidFill>
                <a:latin typeface="Garamond"/>
              </a:rPr>
              <a:t>… = new…// </a:t>
            </a:r>
            <a:r>
              <a:rPr b="1" i="1" lang="bg-BG" sz="1400" spc="-1" strike="noStrike">
                <a:solidFill>
                  <a:srgbClr val="4b2500"/>
                </a:solidFill>
                <a:latin typeface="Times New Roman"/>
              </a:rPr>
              <a:t>събрани всички конструкции, където може да има провал</a:t>
            </a:r>
            <a:br>
              <a:rPr sz="1400"/>
            </a:br>
            <a:r>
              <a:rPr b="1" i="1" lang="bg-BG" sz="1400" spc="-1" strike="noStrike">
                <a:solidFill>
                  <a:srgbClr val="4b25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4b2500"/>
                </a:solidFill>
                <a:latin typeface="Times New Roman"/>
              </a:rPr>
              <a:t>}</a:t>
            </a:r>
            <a:br>
              <a:rPr sz="1400"/>
            </a:br>
            <a:r>
              <a:rPr b="1" i="1" lang="en-US" sz="1400" spc="-1" strike="noStrike">
                <a:solidFill>
                  <a:srgbClr val="4b2500"/>
                </a:solidFill>
                <a:latin typeface="Times New Roman"/>
              </a:rPr>
              <a:t>/* </a:t>
            </a:r>
            <a:r>
              <a:rPr b="1" i="1" lang="bg-BG" sz="1400" spc="-1" strike="noStrike">
                <a:solidFill>
                  <a:srgbClr val="4b2500"/>
                </a:solidFill>
                <a:latin typeface="Times New Roman"/>
              </a:rPr>
              <a:t>базовият конструктор вика горната ф-ия</a:t>
            </a:r>
            <a:r>
              <a:rPr b="1" i="1" lang="bg-BG" sz="1400" spc="-1" strike="noStrike">
                <a:solidFill>
                  <a:srgbClr val="4b2500"/>
                </a:solidFill>
                <a:latin typeface="Garamond"/>
              </a:rPr>
              <a:t> */</a:t>
            </a:r>
            <a:br>
              <a:rPr sz="1400"/>
            </a:br>
            <a:br>
              <a:rPr sz="1600"/>
            </a:br>
            <a:r>
              <a:rPr b="1" i="1" lang="en-US" sz="1400" spc="-1" strike="noStrike">
                <a:solidFill>
                  <a:srgbClr val="ff0000"/>
                </a:solidFill>
                <a:latin typeface="Garamond"/>
              </a:rPr>
              <a:t>(if a constructor include throw, containing error information in the process of object creation, </a:t>
            </a:r>
            <a:br>
              <a:rPr sz="1400"/>
            </a:br>
            <a:r>
              <a:rPr b="1" i="1" lang="en-US" sz="1400" spc="-1" strike="noStrike">
                <a:solidFill>
                  <a:srgbClr val="ff0000"/>
                </a:solidFill>
                <a:latin typeface="Garamond"/>
              </a:rPr>
              <a:t>when an exception occurs, but before the exception is thrown, destructors are called for any member objects built as part of object construction)</a:t>
            </a:r>
            <a:br>
              <a:rPr sz="1400"/>
            </a:br>
            <a:br>
              <a:rPr sz="1400"/>
            </a:br>
            <a:r>
              <a:rPr b="1" lang="bg-BG" sz="1400" spc="-1" strike="noStrike" u="sng">
                <a:solidFill>
                  <a:srgbClr val="0d0e3f"/>
                </a:solidFill>
                <a:uFillTx/>
                <a:latin typeface="Garamond"/>
              </a:rPr>
              <a:t>Интересен синтаксис е следния: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d0e3f"/>
                </a:solidFill>
                <a:latin typeface="Garamond"/>
              </a:rPr>
              <a:t>catch</a:t>
            </a:r>
            <a:r>
              <a:rPr b="1" lang="bg-BG" sz="1400" spc="-1" strike="noStrike">
                <a:solidFill>
                  <a:srgbClr val="0d0e3f"/>
                </a:solidFill>
                <a:latin typeface="Garamond"/>
              </a:rPr>
              <a:t>(…)</a:t>
            </a:r>
            <a:r>
              <a:rPr b="1" lang="bg-BG" sz="1400" spc="-1" strike="noStrike">
                <a:solidFill>
                  <a:srgbClr val="0d0e3f"/>
                </a:solidFill>
                <a:latin typeface="Garamond"/>
              </a:rPr>
              <a:t>	</a:t>
            </a:r>
            <a:r>
              <a:rPr b="1" lang="bg-BG" sz="1400" spc="-1" strike="noStrike">
                <a:solidFill>
                  <a:srgbClr val="0d0e3f"/>
                </a:solidFill>
                <a:latin typeface="Garamond"/>
              </a:rPr>
              <a:t>//прихваща за обработка всички </a:t>
            </a:r>
            <a:r>
              <a:rPr b="1" lang="en-US" sz="1400" spc="-1" strike="noStrike">
                <a:solidFill>
                  <a:srgbClr val="0d0e3f"/>
                </a:solidFill>
                <a:latin typeface="Garamond"/>
              </a:rPr>
              <a:t>exceptions</a:t>
            </a:r>
            <a:r>
              <a:rPr b="1" lang="bg-BG" sz="1400" spc="-1" strike="noStrike">
                <a:solidFill>
                  <a:srgbClr val="0d0e3f"/>
                </a:solidFill>
                <a:latin typeface="Garamond"/>
              </a:rPr>
              <a:t>, вдигани от съответстващия </a:t>
            </a:r>
            <a:r>
              <a:rPr b="1" lang="en-US" sz="1400" spc="-1" strike="noStrike">
                <a:solidFill>
                  <a:srgbClr val="0d0e3f"/>
                </a:solidFill>
                <a:latin typeface="Garamond"/>
              </a:rPr>
              <a:t>try</a:t>
            </a:r>
            <a:br>
              <a:rPr sz="1400"/>
            </a:br>
            <a:r>
              <a:rPr b="1" lang="bg-BG" sz="1400" spc="-1" strike="noStrike">
                <a:solidFill>
                  <a:srgbClr val="0d0e3f"/>
                </a:solidFill>
                <a:latin typeface="Garamond"/>
              </a:rPr>
              <a:t>{</a:t>
            </a:r>
            <a:r>
              <a:rPr b="1" lang="bg-BG" sz="1400" spc="-1" strike="noStrike">
                <a:solidFill>
                  <a:srgbClr val="0d0e3f"/>
                </a:solidFill>
                <a:latin typeface="Garamond"/>
              </a:rPr>
              <a:t>	</a:t>
            </a:r>
            <a:r>
              <a:rPr b="1" lang="en-US" sz="1400" spc="-1" strike="noStrike">
                <a:solidFill>
                  <a:srgbClr val="0d0e3f"/>
                </a:solidFill>
                <a:latin typeface="Garamond"/>
              </a:rPr>
              <a:t>cout</a:t>
            </a:r>
            <a:r>
              <a:rPr b="1" lang="bg-BG" sz="1400" spc="-1" strike="noStrike">
                <a:solidFill>
                  <a:srgbClr val="0d0e3f"/>
                </a:solidFill>
                <a:latin typeface="Garamond"/>
              </a:rPr>
              <a:t> &lt;&lt; “  ………</a:t>
            </a:r>
            <a:r>
              <a:rPr b="1" lang="en-US" sz="1400" spc="-1" strike="noStrike">
                <a:solidFill>
                  <a:srgbClr val="0d0e3f"/>
                </a:solidFill>
                <a:latin typeface="Garamond"/>
              </a:rPr>
              <a:t>some</a:t>
            </a:r>
            <a:r>
              <a:rPr b="1" lang="bg-BG" sz="1400" spc="-1" strike="noStrike">
                <a:solidFill>
                  <a:srgbClr val="0d0e3f"/>
                </a:solidFill>
                <a:latin typeface="Garamond"/>
              </a:rPr>
              <a:t>…</a:t>
            </a:r>
            <a:r>
              <a:rPr b="1" lang="en-US" sz="1400" spc="-1" strike="noStrike">
                <a:solidFill>
                  <a:srgbClr val="0d0e3f"/>
                </a:solidFill>
                <a:latin typeface="Garamond"/>
              </a:rPr>
              <a:t>message</a:t>
            </a:r>
            <a:r>
              <a:rPr b="1" lang="bg-BG" sz="1400" spc="-1" strike="noStrike">
                <a:solidFill>
                  <a:srgbClr val="0d0e3f"/>
                </a:solidFill>
                <a:latin typeface="Garamond"/>
              </a:rPr>
              <a:t> “ &lt;&lt; </a:t>
            </a:r>
            <a:r>
              <a:rPr b="1" lang="en-US" sz="1400" spc="-1" strike="noStrike">
                <a:solidFill>
                  <a:srgbClr val="0d0e3f"/>
                </a:solidFill>
                <a:latin typeface="Garamond"/>
              </a:rPr>
              <a:t>endl</a:t>
            </a:r>
            <a:r>
              <a:rPr b="1" lang="bg-BG" sz="1400" spc="-1" strike="noStrike">
                <a:solidFill>
                  <a:srgbClr val="0d0e3f"/>
                </a:solidFill>
                <a:latin typeface="Garamond"/>
              </a:rPr>
              <a:t>;</a:t>
            </a:r>
            <a:br>
              <a:rPr sz="1400"/>
            </a:br>
            <a:r>
              <a:rPr b="1" lang="bg-BG" sz="1400" spc="-1" strike="noStrike">
                <a:solidFill>
                  <a:srgbClr val="0d0e3f"/>
                </a:solidFill>
                <a:latin typeface="Garamond"/>
              </a:rPr>
              <a:t>	</a:t>
            </a:r>
            <a:r>
              <a:rPr b="1" lang="en-US" sz="1400" spc="-1" strike="noStrike">
                <a:solidFill>
                  <a:srgbClr val="0d0e3f"/>
                </a:solidFill>
                <a:latin typeface="Garamond"/>
              </a:rPr>
              <a:t>throw</a:t>
            </a:r>
            <a:r>
              <a:rPr b="1" lang="bg-BG" sz="1400" spc="-1" strike="noStrike">
                <a:solidFill>
                  <a:srgbClr val="0d0e3f"/>
                </a:solidFill>
                <a:latin typeface="Garamond"/>
              </a:rPr>
              <a:t>;</a:t>
            </a:r>
            <a:r>
              <a:rPr b="1" lang="bg-BG" sz="1400" spc="-1" strike="noStrike">
                <a:solidFill>
                  <a:srgbClr val="0d0e3f"/>
                </a:solidFill>
                <a:latin typeface="Garamond"/>
              </a:rPr>
              <a:t>	</a:t>
            </a:r>
            <a:br>
              <a:rPr sz="1400"/>
            </a:br>
            <a:r>
              <a:rPr b="1" lang="bg-BG" sz="1400" spc="-1" strike="noStrike">
                <a:solidFill>
                  <a:srgbClr val="0d0e3f"/>
                </a:solidFill>
                <a:latin typeface="Garamond"/>
              </a:rPr>
              <a:t>}}</a:t>
            </a:r>
            <a:endParaRPr b="1" lang="en-US" sz="1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2286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18560" y="2176560"/>
            <a:ext cx="278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2500"/>
                </a:solidFill>
                <a:latin typeface="Garamond"/>
              </a:rPr>
              <a:t>virtual </a:t>
            </a:r>
            <a:r>
              <a:rPr b="1" lang="bg-BG" sz="1200" spc="-1" strike="noStrike">
                <a:solidFill>
                  <a:srgbClr val="4b2500"/>
                </a:solidFill>
                <a:latin typeface="Garamond"/>
              </a:rPr>
              <a:t>метод на </a:t>
            </a:r>
            <a:r>
              <a:rPr b="1" lang="en-US" sz="1200" spc="-1" strike="noStrike">
                <a:solidFill>
                  <a:srgbClr val="4b2500"/>
                </a:solidFill>
                <a:latin typeface="Garamond"/>
              </a:rPr>
              <a:t>class ‘exception’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7280" y="1844640"/>
            <a:ext cx="1868400" cy="441360"/>
          </a:xfrm>
          <a:prstGeom prst="line">
            <a:avLst/>
          </a:prstGeom>
          <a:ln w="93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4365720"/>
            <a:ext cx="0" cy="57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1" name="gunshot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5280" y="836640"/>
            <a:ext cx="3672000" cy="360360"/>
          </a:xfrm>
          <a:prstGeom prst="rect">
            <a:avLst/>
          </a:prstGeom>
          <a:solidFill>
            <a:srgbClr val="ffffe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1700280"/>
            <a:ext cx="8497800" cy="4208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800" spc="-1" strike="noStrike">
                <a:solidFill>
                  <a:srgbClr val="4b2500"/>
                </a:solidFill>
                <a:latin typeface="Garamond"/>
              </a:rPr>
              <a:t>// Class DivideByZeroException definition.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800" spc="-1" strike="noStrike">
                <a:solidFill>
                  <a:srgbClr val="210bc5"/>
                </a:solidFill>
                <a:latin typeface="Garamond"/>
              </a:rPr>
              <a:t>#include &lt;stdexcept&gt; // stdexcept header file contains runtime_error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800" spc="-1" strike="noStrike">
                <a:solidFill>
                  <a:srgbClr val="4b2500"/>
                </a:solidFill>
                <a:latin typeface="Garamond"/>
              </a:rPr>
              <a:t>using namespace std;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800" spc="-1" strike="noStrike">
                <a:solidFill>
                  <a:srgbClr val="4b2500"/>
                </a:solidFill>
                <a:latin typeface="Garamond"/>
              </a:rPr>
              <a:t>// DivideByZeroException objects should be thrown by functions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800" spc="-1" strike="noStrike">
                <a:solidFill>
                  <a:srgbClr val="4b2500"/>
                </a:solidFill>
                <a:latin typeface="Garamond"/>
              </a:rPr>
              <a:t>// upon detecting division-by-zero exceptions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800" spc="-1" strike="noStrike">
                <a:solidFill>
                  <a:srgbClr val="210bc5"/>
                </a:solidFill>
                <a:latin typeface="Garamond"/>
              </a:rPr>
              <a:t>class DivideByZeroException : public runtime_error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sz="1800" spc="-1" strike="noStrike">
                <a:solidFill>
                  <a:srgbClr val="4b2500"/>
                </a:solidFill>
                <a:latin typeface="Garamond"/>
              </a:rPr>
              <a:t>{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sz="1800" spc="-1" strike="noStrike">
                <a:solidFill>
                  <a:srgbClr val="4b2500"/>
                </a:solidFill>
                <a:latin typeface="Garamond"/>
              </a:rPr>
              <a:t>public: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sz="18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i="1" sz="1800" spc="-1" strike="noStrike">
                <a:solidFill>
                  <a:srgbClr val="4b2500"/>
                </a:solidFill>
                <a:latin typeface="Garamond"/>
              </a:rPr>
              <a:t>// constructor specifies default error message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b2500"/>
                </a:solidFill>
                <a:latin typeface="Garamond"/>
              </a:rPr>
              <a:t>           </a:t>
            </a:r>
            <a:r>
              <a:rPr b="1" i="1" sz="18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i="1" sz="1800" spc="-1" strike="noStrike">
                <a:solidFill>
                  <a:srgbClr val="210bc5"/>
                </a:solidFill>
                <a:latin typeface="Garamond"/>
              </a:rPr>
              <a:t>DivideByZeroException()</a:t>
            </a:r>
            <a:r>
              <a:rPr b="1" i="1" sz="1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i="1" sz="1800" spc="-1" strike="noStrike">
                <a:solidFill>
                  <a:srgbClr val="210bc5"/>
                </a:solidFill>
                <a:latin typeface="Garamond"/>
              </a:rPr>
              <a:t>: runtime_error( "attempted to divide by zero" ) {}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sz="1800" spc="-1" strike="noStrike">
                <a:solidFill>
                  <a:srgbClr val="4b2500"/>
                </a:solidFill>
                <a:latin typeface="Garamond"/>
              </a:rPr>
              <a:t>};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en-US" sz="1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sz="1800" spc="-1" strike="noStrike">
                <a:solidFill>
                  <a:srgbClr val="4b2500"/>
                </a:solidFill>
                <a:latin typeface="Garamond"/>
              </a:rPr>
              <a:t>// end class DivideByZeroException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118440" y="196920"/>
            <a:ext cx="629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10bc5"/>
                </a:solidFill>
                <a:uFillTx/>
                <a:latin typeface="Garamond"/>
              </a:rPr>
              <a:t>Example: handling an attempt to divide by zero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- Definition of an exception class: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54680" y="2206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b2500"/>
                </a:solidFill>
                <a:latin typeface="Garamond"/>
              </a:rPr>
              <a:t>1/2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1" name="gunshot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0920" y="1268280"/>
            <a:ext cx="6626160" cy="1297080"/>
          </a:xfrm>
          <a:prstGeom prst="rect">
            <a:avLst/>
          </a:prstGeom>
          <a:solidFill>
            <a:srgbClr val="ffffe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44280"/>
            <a:ext cx="3745080" cy="360360"/>
          </a:xfrm>
          <a:prstGeom prst="rect">
            <a:avLst/>
          </a:prstGeom>
          <a:solidFill>
            <a:srgbClr val="ffffe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476280"/>
            <a:ext cx="8066160" cy="61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b2500"/>
                </a:solidFill>
                <a:latin typeface="Garamond"/>
              </a:rPr>
              <a:t>#include &lt;iostream&gt;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210bc5"/>
                </a:solidFill>
                <a:latin typeface="Garamond"/>
              </a:rPr>
              <a:t>#include "DivideByZeroException.h" // DivideByZeroException class</a:t>
            </a:r>
            <a:r>
              <a:rPr b="1" sz="12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b2500"/>
                </a:solidFill>
                <a:latin typeface="Garamond"/>
              </a:rPr>
              <a:t>using namespace std;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b2500"/>
                </a:solidFill>
                <a:latin typeface="Garamond"/>
              </a:rPr>
              <a:t>// perform division and throw DivideByZeroException object if divide-by-zero exception occurs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double quotient( int numerator, int denominator )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{   // throw DivideByZeroException if trying to divide by zero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if ( denominator == 0 )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   </a:t>
            </a: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throw DivideByZeroException(); // terminate function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return static_cast&lt; double &gt;( numerator ) / denominator;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 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} // end function 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b2500"/>
                </a:solidFill>
                <a:latin typeface="Garamond"/>
              </a:rPr>
              <a:t>int main()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b2500"/>
                </a:solidFill>
                <a:latin typeface="Garamond"/>
              </a:rPr>
              <a:t>{   int number1; // user-specified numerator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200" spc="-1" strike="noStrike">
                <a:solidFill>
                  <a:srgbClr val="4b2500"/>
                </a:solidFill>
                <a:latin typeface="Garamond"/>
              </a:rPr>
              <a:t>int number2; // user-specified denominator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200" spc="-1" strike="noStrike">
                <a:solidFill>
                  <a:srgbClr val="4b2500"/>
                </a:solidFill>
                <a:latin typeface="Garamond"/>
              </a:rPr>
              <a:t>double result; // result of division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200" spc="-1" strike="noStrike">
                <a:solidFill>
                  <a:srgbClr val="4b2500"/>
                </a:solidFill>
                <a:latin typeface="Garamond"/>
              </a:rPr>
              <a:t>cout &lt;&lt; "Enter two integers (end-of-file to end): ";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200" spc="-1" strike="noStrike">
                <a:solidFill>
                  <a:srgbClr val="4b2500"/>
                </a:solidFill>
                <a:latin typeface="Garamond"/>
              </a:rPr>
              <a:t>// enable user to enter two integers to divide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200" spc="-1" strike="noStrike">
                <a:solidFill>
                  <a:srgbClr val="4b2500"/>
                </a:solidFill>
                <a:latin typeface="Garamond"/>
              </a:rPr>
              <a:t>while ( cin &gt;&gt; number1 &gt;&gt; number2 ) 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200" spc="-1" strike="noStrike">
                <a:solidFill>
                  <a:srgbClr val="4b2500"/>
                </a:solidFill>
                <a:latin typeface="Garamond"/>
              </a:rPr>
              <a:t>{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b2500"/>
                </a:solidFill>
                <a:latin typeface="Garamond"/>
              </a:rPr>
              <a:t>   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// </a:t>
            </a:r>
            <a:r>
              <a:rPr b="1" sz="1200" spc="-1" strike="noStrike">
                <a:solidFill>
                  <a:srgbClr val="4b2500"/>
                </a:solidFill>
                <a:latin typeface="Garamond"/>
              </a:rPr>
              <a:t>try block contains code that might throw exception and code that should not execute if an exception occurs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try 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{         </a:t>
            </a: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result = quotient( number1, number2 );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         </a:t>
            </a: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cout &lt;&lt; "The quotient is: " &lt;&lt; result &lt;&lt; endl;</a:t>
            </a: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	</a:t>
            </a:r>
            <a:r>
              <a:rPr b="1" sz="1400" spc="-1" strike="noStrike">
                <a:solidFill>
                  <a:srgbClr val="ff0000"/>
                </a:solidFill>
                <a:latin typeface="Garamond"/>
              </a:rPr>
              <a:t>   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}</a:t>
            </a:r>
            <a:r>
              <a:rPr b="1" sz="1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// end try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      </a:t>
            </a: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catch ( DivideByZeroException ) 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      </a:t>
            </a: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{         cout &lt;&lt; "Exception occurred: " 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            </a:t>
            </a: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&lt;&lt; </a:t>
            </a: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D</a:t>
            </a: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ivideByZeroException.what() &lt;&lt; endl;</a:t>
            </a: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	</a:t>
            </a: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      } // end catch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b2500"/>
                </a:solidFill>
                <a:latin typeface="Garamond"/>
              </a:rPr>
              <a:t>      </a:t>
            </a:r>
            <a:r>
              <a:rPr b="1" sz="1200" spc="-1" strike="noStrike">
                <a:solidFill>
                  <a:srgbClr val="4b2500"/>
                </a:solidFill>
                <a:latin typeface="Garamond"/>
              </a:rPr>
              <a:t>cout &lt;&lt; "\nEnter two integers (end-of-file to end): ";   } // end while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200" spc="-1" strike="noStrike">
                <a:solidFill>
                  <a:srgbClr val="4b2500"/>
                </a:solidFill>
                <a:latin typeface="Garamond"/>
              </a:rPr>
              <a:t>cout &lt;&lt; endl;} // end main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00" y="7776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Demonstrating exception handling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49960" y="3650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b2500"/>
                </a:solidFill>
                <a:latin typeface="Garamond"/>
              </a:rPr>
              <a:t>2/2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1" name="gunshot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00000" y="765000"/>
            <a:ext cx="5543640" cy="2735280"/>
          </a:xfrm>
          <a:prstGeom prst="rect">
            <a:avLst/>
          </a:prstGeom>
          <a:solidFill>
            <a:srgbClr val="ffffe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260280"/>
            <a:ext cx="5256000" cy="360360"/>
          </a:xfrm>
          <a:prstGeom prst="rect">
            <a:avLst/>
          </a:prstGeom>
          <a:solidFill>
            <a:srgbClr val="ffffe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692280"/>
            <a:ext cx="6318000" cy="56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void throwException() 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{   // throw exception and catch it immediately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try 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{      cout &lt;&lt; "  Function throwException throws an exception\n";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   </a:t>
            </a: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throw exception(); // generate exception</a:t>
            </a: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	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} // end try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catch ( exception &amp; ) </a:t>
            </a: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 </a:t>
            </a: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// handle exception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{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cout &lt;&lt; "  Exception handled in function throwException"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   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&lt;&lt; "\n  Function throwException rethrows exception";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   </a:t>
            </a:r>
            <a:r>
              <a:rPr b="1" sz="1400" spc="-1" strike="noStrike">
                <a:solidFill>
                  <a:srgbClr val="210bc5"/>
                </a:solidFill>
                <a:latin typeface="Garamond"/>
              </a:rPr>
              <a:t>throw; // rethrow exception for further processing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// end catch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cout &lt;&lt; "This also should not print\n";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} // end function</a:t>
            </a:r>
            <a:r>
              <a:rPr b="1" sz="1200" spc="-1" strike="noStrike">
                <a:solidFill>
                  <a:srgbClr val="4b2500"/>
                </a:solidFill>
                <a:latin typeface="Garamond"/>
              </a:rPr>
              <a:t> throwException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int main()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{   // throw exception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try 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{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cout &lt;&lt; "\n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main invokes function throwException\n";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throwException();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cout &lt;&lt; "This should not print\n";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} // end try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catch ( exception &amp; ) // handle exception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 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{  cout &lt;&lt; "\n\nException handled in main\n";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} // end catch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cout &lt;&lt; "Program control continues after catch in main\n";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4b2500"/>
                </a:solidFill>
                <a:latin typeface="Garamond"/>
              </a:rPr>
              <a:t>} // end main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3560" y="165240"/>
            <a:ext cx="355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Re</a:t>
            </a:r>
            <a:r>
              <a:rPr b="1" lang="bg-BG" sz="2000" spc="-1" strike="noStrike">
                <a:solidFill>
                  <a:srgbClr val="ff0000"/>
                </a:solidFill>
                <a:latin typeface="Garamond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throwing an exception</a:t>
            </a: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1" name="gunsho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-370080" y="2060640"/>
            <a:ext cx="1009404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0bc5"/>
                </a:solidFill>
                <a:latin typeface="Garamond"/>
              </a:rPr>
              <a:t>Processing Unexpected  Exception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Function </a:t>
            </a: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unexpected()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calls the function registered with </a:t>
            </a: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set_unexpected()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(defined in header &lt;exception&gt;)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If no function registered – function </a:t>
            </a: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terminate()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is called by  default. terminate() calls </a:t>
            </a:r>
            <a:r>
              <a:rPr b="1" lang="en-US" sz="1400" spc="-1" strike="noStrike">
                <a:solidFill>
                  <a:srgbClr val="210bc5"/>
                </a:solidFill>
                <a:latin typeface="Garamond"/>
              </a:rPr>
              <a:t>abort()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witch terminates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the program without  calling any object’s destructors. This makes </a:t>
            </a:r>
            <a:r>
              <a:rPr b="1" i="1" lang="en-US" sz="1400" spc="-1" strike="noStrike" u="sng">
                <a:solidFill>
                  <a:srgbClr val="4b2500"/>
                </a:solidFill>
                <a:uFillTx/>
                <a:latin typeface="Garamond"/>
              </a:rPr>
              <a:t>resource to leak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4b2500"/>
                </a:solidFill>
                <a:uFillTx/>
                <a:latin typeface="Garamond"/>
              </a:rPr>
              <a:t>Function </a:t>
            </a:r>
            <a:r>
              <a:rPr b="1" i="1" lang="en-US" sz="1600" spc="-1" strike="noStrike" u="sng">
                <a:solidFill>
                  <a:srgbClr val="4b2500"/>
                </a:solidFill>
                <a:uFillTx/>
                <a:latin typeface="Garamond"/>
              </a:rPr>
              <a:t>set_terminate()</a:t>
            </a:r>
            <a:r>
              <a:rPr b="1" i="1" lang="en-US" sz="1400" spc="-1" strike="noStrike" u="sng">
                <a:solidFill>
                  <a:srgbClr val="4b2500"/>
                </a:solidFill>
                <a:uFillTx/>
                <a:latin typeface="Garamond"/>
              </a:rPr>
              <a:t> </a:t>
            </a:r>
            <a:r>
              <a:rPr b="1" lang="en-US" sz="1400" spc="-1" strike="noStrike">
                <a:solidFill>
                  <a:srgbClr val="4b2500"/>
                </a:solidFill>
                <a:latin typeface="Garamond"/>
              </a:rPr>
              <a:t>can specify another function when terminate() is called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69520" y="4322880"/>
            <a:ext cx="530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2500"/>
                </a:solidFill>
                <a:latin typeface="Garamond"/>
              </a:rPr>
              <a:t>Called when cannot find  a matching  catch for a thrown exception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851280" y="3068280"/>
            <a:ext cx="720720" cy="1297080"/>
          </a:xfrm>
          <a:prstGeom prst="line">
            <a:avLst/>
          </a:prstGeom>
          <a:ln w="93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1" name="gunshot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22:14:54Z</dcterms:created>
  <dc:creator>Desislava Petrova</dc:creator>
  <dc:description/>
  <dc:language>en-US</dc:language>
  <cp:lastModifiedBy>FKSU1315-1</cp:lastModifiedBy>
  <dcterms:modified xsi:type="dcterms:W3CDTF">2012-02-29T08:08:09Z</dcterms:modified>
  <cp:revision>55</cp:revision>
  <dc:subject/>
  <dc:title>Езикови средства за създаване на устойчив код</dc:title>
</cp:coreProperties>
</file>